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A985-0F16-49D8-986F-B26142629DC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FC3E-4474-4441-AA80-CA7708F41DF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3CA7-4628-4C67-8DBE-81EBBFCD52C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EF41-092F-4727-9ADD-8DA1BAA958E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DCF3-1985-4D1E-BE48-F37DDE88F5A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8E9E-5390-4B11-92FE-7182EE3D5D7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8BA7-B912-49D0-9425-21BF08172A4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E468-BE66-44D4-8BC9-6F70205D2F8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BB4A-E441-40D4-B14C-35BF2654E76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860D-3B8D-4E9C-8671-53903D59535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2439-952F-4D1B-9235-1D82BB9B002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1318-E16D-4BFB-9FDA-E34B95F1C4D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C69F-6D96-400E-AF12-F11027922DD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1B31-0685-4AFF-B98E-6A4D6F9CBBE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2AEA-D4CB-410E-AC53-BBD5B9AE372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EF6F-B513-43A6-8A61-2C8740E20FB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7484-89A3-4448-8B55-7FC648F5247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9258-5BEE-4978-9799-29532EF8B2A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81F7-C6FD-48A4-8981-6924F9466E9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1D5-98D3-4014-8956-F2231372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F26-C591-4CDD-8BE4-0FBA2CB8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A0C-784C-42C3-BFF7-4BF08F8A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AF5-7EA2-454F-850E-89550F6A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C89C-39ED-4D2B-AA2F-2AD049C6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9403-71AF-4B61-815F-F36EEC38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422F-50F9-4C08-A7FE-05A3811F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0484-B634-40FC-B197-EFBA72F7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B375-1500-4E62-8487-F67EAE56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0614-4263-42B4-97A4-095BE52E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0052-6B10-4ECA-BA75-7B33B8AB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C99-D17D-4113-9DA5-2049B162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ED8A-5B8F-4FC3-9399-955CA00E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E46A-1DC4-4438-AF73-EDCB1B07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DB54-306A-4109-93BA-957EFA50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D073-A1DC-4525-A990-8B942A9D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5DAC-1115-4D90-80C2-9F3421F5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E5050-63AB-4743-B7F2-B38253A9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D309-B5FE-4BE6-9386-3A4CF17D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332B-4BDA-4BD2-8433-DC0F7A30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07C6D-4179-4C78-B3FA-E5C5E923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ED446-E590-4A43-869F-EA593EBF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F1E-70FE-43C6-BDF1-66F11FF5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F4C00-BF1F-4741-828A-1368EC45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C564C-580B-423E-8C98-4E283EE5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8A0C0-A048-4CCD-8E84-7F31912C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54530-6FDF-4D5C-A97E-55E8A6BF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497D6-9BB0-44FD-BDA4-1483F178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CB8F9-C44E-440F-B8C0-76817E1D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651B-0C0A-498B-9811-39D24D2E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0B635-F37B-4835-AA20-2180FB8E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8D0BE-99A2-49A2-A55A-02C0186F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213EA-B26F-4D5F-A653-E03A933B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D36-E858-47B9-9B03-56EAF788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6E84C-F7E7-4418-9C6A-CE8F5AA1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7C6BF-26AE-474C-9AEC-1983DEC5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69730-6076-4861-8263-12EEE142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354C0-2BD0-4CCF-811A-EE736744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4B37A-CF8B-4610-B752-A0F3AADB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1ADBE-8D53-4576-823A-990094F1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BA262-85F9-4D2F-8957-69820D85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AC9E8-B243-4766-8D10-3DB7C6EF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4E90C-4EEE-44B5-AE40-25A739DB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9F33F-7F1C-4C6A-B387-55081305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F03-B7C1-4B1F-9F13-B01F3F85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9B5AF-6ECD-45B5-A94A-52F9615B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E3352-5A0C-4400-97FE-9AD78167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B53DE-1C1D-4536-AFD0-C5C5E702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A8830-EA8D-48EB-830F-F9E5ED30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20E47-AFE9-4561-BBF5-C4100B81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423C6-62FE-4F7F-B3D8-A9E5D15A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F8E2B-BA78-40AC-BB7D-6A515810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8FA69-EC08-41D6-B893-3E7528AA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712BD-ACC6-4F09-913C-11BF693A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DAAB4-EF2A-41E0-BD12-08A47997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FC2-B2A0-4D61-B9C6-AA3DB86D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B2C73-2417-4457-99F9-8389C792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6434E-223C-4975-B912-9A924A0F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D720A-A1AF-4502-8C1B-22EDDF26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687C2-0FA9-4671-A402-E08FF7E3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52490-DF46-40A3-A7AD-B8F8530A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9DE27-59A0-4827-A6B6-B84C3458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C6575-84C1-4760-9E51-F8CAADD3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CEBA3-9F00-440A-B2EE-DC99C710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FA3F6-9D3B-482F-AA76-DED56156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6486B-9EB8-43E8-AD3B-747BDC1A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4BE-5147-4904-896E-6AD70847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F96AE-0741-4C2D-8A31-76B2E445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70544-7C19-4B36-99A1-F3B33144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FFEAA-4066-42B5-BFE5-1369A9D5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9BA6A-5020-4B39-BFA0-D327105C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0D206-A236-43F9-BCF5-32209DF1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4DF05-591D-469F-8C78-48A3E011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7906A-EDAE-42BD-9404-44FCB960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9FB63-EC81-462E-9E29-EF207727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5D3A0-F9A6-4EA8-8AFA-5819AFC9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F3EA4-2717-4931-A975-385A06BB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A0C-558F-4D30-905B-01C0B0E2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95E6E-A4A7-4987-B507-4DF181A1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9C16D-A1C9-43FB-B900-239C5024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A4D70-784D-4997-B352-73CE4A59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2B940-C4CA-4C45-9552-7F167F75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A18DF-C21F-4988-AC15-9C039E34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7B2-39B0-4D28-9060-CEE2C106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030E-0A27-4211-9DAB-BFACD3CFE86E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0E52-D1F9-4B0E-96C2-57F1C07BB3D3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1FC5-717F-4397-9E06-8DADCC4C01E1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FF0B-5629-4C72-85F7-C428FD5E4B3C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420C-770E-42CC-BBFF-6C709933B52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53A7-CAAC-4C18-82BD-29976487755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085B-38D0-423E-B647-32CBAE4B985E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96720" y="1401840"/>
            <a:ext cx="8070840" cy="1347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e193"/>
                </a:solidFill>
                <a:latin typeface="Corbel"/>
              </a:rPr>
              <a:t>¿Qué es un buen softwar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7" descr=""/>
          <p:cNvPicPr/>
          <p:nvPr/>
        </p:nvPicPr>
        <p:blipFill>
          <a:blip r:embed="rId1"/>
          <a:stretch/>
        </p:blipFill>
        <p:spPr>
          <a:xfrm>
            <a:off x="6072120" y="1500120"/>
            <a:ext cx="3000600" cy="2089080"/>
          </a:xfrm>
          <a:prstGeom prst="rect">
            <a:avLst/>
          </a:prstGeom>
          <a:ln w="0">
            <a:noFill/>
          </a:ln>
        </p:spPr>
      </p:pic>
      <p:sp>
        <p:nvSpPr>
          <p:cNvPr id="35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ECBD-A918-4060-A30F-5924259404C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42920" y="1752480"/>
            <a:ext cx="6143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portable si puede ejecutarse en distintos ambientes (hardware, sistemas operativo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Rectangle 6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14240" y="307152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Una forma de lograr portabilidad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 suponer la mínima configur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to penaliza los sistemas que podrían ejecutar mejor haciendo uso del ambiente disponi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Otra opción es determinar sobre la marcha las disponibilidades del ambi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BFDA-09B8-4B0D-A017-A185B78CCE8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746280" y="1716120"/>
            <a:ext cx="56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istema es interoperable si puede coexistir y cooperar con otros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1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85800" y="311940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s componentes reutilizables son (deben ser) inherentemente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 estandarización de las interfaces promueve la interoperabilida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os sistemas abiertos son casos típicos de sistemas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500880" y="142920"/>
            <a:ext cx="25113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5318-FA82-4390-A18B-A11579A8850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65040" y="1792440"/>
            <a:ext cx="54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La productividad es la eficiencia del proceso de desarrollo del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Rectangle 9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275256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productividad de un equipo de desarrollo es generalmente menor que la suma de las productividades individu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xisten métricas para medir la productividad (LOC, puntos de función, etc.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automatización y el soporte de software de desarrollo aumen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7" descr=""/>
          <p:cNvPicPr/>
          <p:nvPr/>
        </p:nvPicPr>
        <p:blipFill>
          <a:blip r:embed="rId2"/>
          <a:stretch/>
        </p:blipFill>
        <p:spPr>
          <a:xfrm>
            <a:off x="6572160" y="214200"/>
            <a:ext cx="2428920" cy="22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"/>
          <p:cNvPicPr/>
          <p:nvPr/>
        </p:nvPicPr>
        <p:blipFill>
          <a:blip r:embed="rId1"/>
          <a:stretch/>
        </p:blipFill>
        <p:spPr>
          <a:xfrm>
            <a:off x="6215040" y="1550880"/>
            <a:ext cx="3071880" cy="2163960"/>
          </a:xfrm>
          <a:prstGeom prst="rect">
            <a:avLst/>
          </a:prstGeom>
          <a:ln w="0">
            <a:noFill/>
          </a:ln>
        </p:spPr>
      </p:pic>
      <p:sp>
        <p:nvSpPr>
          <p:cNvPr id="37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E659-5B93-4E5E-9A13-5DBE9EC0EBB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857160" y="164304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proceso de desarrollo debe obtener su producto en el tiemp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Rectangle 7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714240" y="257184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el producto a tiempo da, en general,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una mejor oportunidad comercial, y a veces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hace que el producto sea útil o in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un producto a tiempo sin confiabilidad o eficiencia tampoco es 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Requier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stimación del trabaj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hitos verificab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9" descr=""/>
          <p:cNvPicPr/>
          <p:nvPr/>
        </p:nvPicPr>
        <p:blipFill>
          <a:blip r:embed="rId1"/>
          <a:srcRect l="66169" t="0" r="0" b="13461"/>
          <a:stretch/>
        </p:blipFill>
        <p:spPr>
          <a:xfrm>
            <a:off x="6757920" y="928800"/>
            <a:ext cx="2314800" cy="1928880"/>
          </a:xfrm>
          <a:prstGeom prst="rect">
            <a:avLst/>
          </a:prstGeom>
          <a:ln w="0">
            <a:noFill/>
          </a:ln>
        </p:spPr>
      </p:pic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DF85-DEB8-4F3A-9CCA-5F58595AACB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42920" y="1643040"/>
            <a:ext cx="78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Un proceso de desarrollo de software es visible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si todos sus pasos están claramente documentados, 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y se puede saber su estado de avance en cada 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mo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Rectangle 1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714240" y="307188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iseño, testing, codificación e integración pueden suceder simultáneamente, pero deben coordinar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visibilidad ayuda a evaluar el impacto de las decision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ambién es esencial cuando existe rotación en el person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93B6-1940-4E56-9ACB-964C0AFB47D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380880" y="1752480"/>
            <a:ext cx="640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0b5cc"/>
                </a:solidFill>
                <a:latin typeface="Arial"/>
              </a:rPr>
              <a:t>Medida de la relación entre las partes de una </a:t>
            </a:r>
            <a:br>
              <a:rPr sz="2400"/>
            </a:br>
            <a:r>
              <a:rPr b="0" lang="es-UY" sz="2400" spc="-1" strike="noStrike">
                <a:solidFill>
                  <a:srgbClr val="60b5cc"/>
                </a:solidFill>
                <a:latin typeface="Arial"/>
              </a:rPr>
              <a:t>com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incident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 relacionad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Lógica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funciones simila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empo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jecución simultáne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Procedu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secuencia de contro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unica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arten el inpu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ecuenci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output de uno es input del otr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Fun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partes son necesarias para la fun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Objeto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acciones actúan sobre los mismos datos del objet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2"/>
          <a:stretch/>
        </p:blipFill>
        <p:spPr>
          <a:xfrm>
            <a:off x="6715080" y="285840"/>
            <a:ext cx="212400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6E27-3C64-45CF-BD82-0C844B5FB4F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3200040"/>
            <a:ext cx="7918560" cy="2871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muy 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arten variables o información de contro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des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interfaces definidas con listas de parámetr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1424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Corbel"/>
              </a:rPr>
              <a:t>Medida de la interdependencia de distintas component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36" descr=""/>
          <p:cNvPicPr/>
          <p:nvPr/>
        </p:nvPicPr>
        <p:blipFill>
          <a:blip r:embed="rId2"/>
          <a:stretch/>
        </p:blipFill>
        <p:spPr>
          <a:xfrm>
            <a:off x="6215040" y="663480"/>
            <a:ext cx="2714760" cy="17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5F67-180A-4D9F-A90B-6A474545C0E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Arial"/>
              </a:rPr>
              <a:t>Un sistema es comprensible si es fácil comprender cómo funci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Rectangle 2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28760" y="264276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aracterísticas que afectan la comprensibilidad del sistema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22" descr=""/>
          <p:cNvPicPr/>
          <p:nvPr/>
        </p:nvPicPr>
        <p:blipFill>
          <a:blip r:embed="rId2"/>
          <a:stretch/>
        </p:blipFill>
        <p:spPr>
          <a:xfrm>
            <a:off x="6215040" y="285840"/>
            <a:ext cx="2760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6773760" y="71280"/>
            <a:ext cx="2298960" cy="2000520"/>
          </a:xfrm>
          <a:prstGeom prst="rect">
            <a:avLst/>
          </a:prstGeom>
          <a:ln w="0">
            <a:noFill/>
          </a:ln>
        </p:spPr>
      </p:pic>
      <p:sp>
        <p:nvSpPr>
          <p:cNvPr id="399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4C57-F902-4AF7-806A-678AC477B78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3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Arial"/>
              </a:rPr>
              <a:t>Un sistema es mantenible si es fácil modific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6715080" y="1571760"/>
            <a:ext cx="2428920" cy="19047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285840" y="3314520"/>
            <a:ext cx="8472240" cy="311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Una estrategia habitual es definir identificación de usuarios para acceder al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Otra estrategia más sofisticada es la definición de perfi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En sistemas abiertos: inundar servidor con solicitudes le impide brindar otros servici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4 Marcador de contenido"/>
          <p:cNvSpPr/>
          <p:nvPr/>
        </p:nvSpPr>
        <p:spPr>
          <a:xfrm>
            <a:off x="214200" y="1774800"/>
            <a:ext cx="65008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Arial"/>
              </a:rPr>
              <a:t>Un software es seguro si es capaz de resistir usos maliciosos sin restar funcionalidad a los usos regu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D10B-BF6E-4971-812E-46FEC8BA18E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0713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rrec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nfi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obus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ficient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mig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erific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eus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ort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Interoper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2"/>
          <a:stretch/>
        </p:blipFill>
        <p:spPr>
          <a:xfrm>
            <a:off x="6213600" y="1500120"/>
            <a:ext cx="2930400" cy="30718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5740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roductiv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 Tiemp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i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hes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Desacoplad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mpren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Manten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egur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scal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6215040" y="1500120"/>
            <a:ext cx="2857680" cy="2041560"/>
          </a:xfrm>
          <a:prstGeom prst="rect">
            <a:avLst/>
          </a:prstGeom>
          <a:ln w="0">
            <a:noFill/>
          </a:ln>
        </p:spPr>
      </p:pic>
      <p:pic>
        <p:nvPicPr>
          <p:cNvPr id="409" name="1 Título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32148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Un sistema puede crecer con respecto al número de usuarios, cantidad de datos manejado o alguna otra dimensió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Durante el análisis y el diseño del sistema se piensa las dimensiones de crecimiento y se realizan pruebas de esfuerz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2 Marcador de contenido"/>
          <p:cNvSpPr/>
          <p:nvPr/>
        </p:nvSpPr>
        <p:spPr>
          <a:xfrm>
            <a:off x="457200" y="1774800"/>
            <a:ext cx="6186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Arial"/>
              </a:rPr>
              <a:t>Un sistema es escalable si puede crecer sin degradarse significat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F240-AD0F-415D-91AC-AAA608C90A7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571320" y="2819520"/>
            <a:ext cx="8032680" cy="3657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definición supon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xistencia de un especificación de 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posibilidad de determinar sin 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ambigüedad la correspondencia entre la especificación y el diseñ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orrectitud del software puede comprobarse probándolo o mediante análisi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533520" y="1828800"/>
            <a:ext cx="568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correcto si se comporta de acuerdo con su espec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"/>
          <p:cNvPicPr/>
          <p:nvPr/>
        </p:nvPicPr>
        <p:blipFill>
          <a:blip r:embed="rId2"/>
          <a:stretch/>
        </p:blipFill>
        <p:spPr>
          <a:xfrm>
            <a:off x="6072120" y="1571760"/>
            <a:ext cx="30718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2F4E-A920-48A1-A7C9-23728B3DF25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685800" y="1752480"/>
            <a:ext cx="5958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software es confiable si se comporta de acuerdo con lo esperado por el usu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1969560" y="6308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Rectangle 1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85480" y="2804760"/>
            <a:ext cx="8715240" cy="3071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A diferencia de la corrección, la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confiabilidad es algo relativ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l mercado puede admitir algunos errores en el software siempre que en general se comporte en forma esper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No sólo no damos garantías de corrección del software, sino que varios productos incluyen un “disclaimer”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11" descr=""/>
          <p:cNvPicPr/>
          <p:nvPr/>
        </p:nvPicPr>
        <p:blipFill>
          <a:blip r:embed="rId3"/>
          <a:stretch/>
        </p:blipFill>
        <p:spPr>
          <a:xfrm>
            <a:off x="6858000" y="150012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F36A-88B5-4353-942D-ABA304A0A4F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85840" y="1752480"/>
            <a:ext cx="63579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56760" y="2857320"/>
            <a:ext cx="8358120" cy="3524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atos de entrada incorrectos o fallas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e hardwa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antidad de código que se dedica a hacer el software robusto depende de la experiencia de los usuarios o lo crítico de su mis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Si algo se especifica como requisito, cumplirlo es cuestión de corrección; si no está en los requisitos es cuestión de robustez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2"/>
          <a:stretch/>
        </p:blipFill>
        <p:spPr>
          <a:xfrm>
            <a:off x="6595920" y="71280"/>
            <a:ext cx="2476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DD06-538B-4E83-A6EF-2C3B4F36F94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14200" y="175248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istema de software es eficiente si usa sus recursos en forma econó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50560" y="2792160"/>
            <a:ext cx="4027320" cy="399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57440" y="2743200"/>
            <a:ext cx="4786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8" descr=""/>
          <p:cNvPicPr/>
          <p:nvPr/>
        </p:nvPicPr>
        <p:blipFill>
          <a:blip r:embed="rId2"/>
          <a:stretch/>
        </p:blipFill>
        <p:spPr>
          <a:xfrm>
            <a:off x="6143760" y="142920"/>
            <a:ext cx="2857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7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257184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interfaz con el usuario es parte esencial del 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ser amig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A578-6809-444D-99FF-D5575884DA6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amigable si sus usuarios lo encuentran fácil de uti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6786720" y="1500120"/>
            <a:ext cx="2280960" cy="22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FE0B-3FA2-4245-B52E-9EAFEA50BA2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714240" y="1752480"/>
            <a:ext cx="5572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software es verificable si sus propiedades pueden ser comprob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440" y="316548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316548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2"/>
          <a:stretch/>
        </p:blipFill>
        <p:spPr>
          <a:xfrm>
            <a:off x="6402240" y="1571760"/>
            <a:ext cx="25750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8" descr=""/>
          <p:cNvPicPr/>
          <p:nvPr/>
        </p:nvPicPr>
        <p:blipFill>
          <a:blip r:embed="rId1"/>
          <a:srcRect l="0" t="3595" r="0" b="6400"/>
          <a:stretch/>
        </p:blipFill>
        <p:spPr>
          <a:xfrm>
            <a:off x="7108920" y="1557360"/>
            <a:ext cx="2000160" cy="1800360"/>
          </a:xfrm>
          <a:prstGeom prst="rect">
            <a:avLst/>
          </a:prstGeom>
          <a:ln w="0">
            <a:noFill/>
          </a:ln>
        </p:spPr>
      </p:pic>
      <p:sp>
        <p:nvSpPr>
          <p:cNvPr id="35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8225-2980-44CF-B9BF-E8F8FDC221D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642960" y="1571760"/>
            <a:ext cx="70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reusable si una vez construido se puede usar con pocos o ningún cambio como parte de otra apl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Rectangle 7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50560" y="271440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s bibliotecas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ervicios web son un caso actu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48320" y="2792160"/>
            <a:ext cx="4316400" cy="3779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l reuso es una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cualidad difícil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1-10-13T13:18:03Z</dcterms:modified>
  <cp:revision>602</cp:revision>
  <dc:subject/>
  <dc:title>CC31B – Desarrollo de Software de Aplicación</dc:title>
</cp:coreProperties>
</file>