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4723920" y="456840"/>
            <a:ext cx="175284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45E0-E602-4CEB-9881-CCACEC515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D198-C578-42DF-8532-E1C1EBE47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03B-347D-44A8-A83C-FB86A3E52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6D91-F762-4ADB-87E5-174B0C700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D394-68EC-49CC-89EB-EFC9EFFF2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96FD-54A5-4AEE-AC8B-7E7878D3C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770-EA1A-4304-A2B0-2BD44395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385-1898-4B03-B774-A2979BC8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A34-0C18-43EE-A9B0-07D7E0C4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168-BE87-4EAA-BD23-6DE756E8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586-6BE9-407A-BF2C-C50CF00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10D-481E-43BE-BE62-14A9EBFD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FF0-82E3-4D9E-83AA-A08C7279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457-4928-4B2D-A386-9B192CBF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984-BD14-4147-BF21-4A30857B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5CD-46E9-44F6-9CC9-106B6047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304-1FF6-44DD-A6E7-43E42D7C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68B-CF5E-4D62-B4EC-B8E1E614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D326-74BD-4A27-A8B9-A8343A8D09A5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5B21-936C-4AC3-A36E-D98FA97F1FF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rategias para desarrollar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CC-U. de Ch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601-1 Lideraz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f. Verónica Virgili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Gandh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¿cómo Gandhi</a:t>
            </a:r>
            <a:br>
              <a:rPr sz="2000"/>
            </a:b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construye sentido comparti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Qué te llevas de hoy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2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quello que puedes ha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eñas que puedes hac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audacia tiene genio, poder y mag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 a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áctica 1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fue la experi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fue lo más difícil/fác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aprendiste de tu grupo? ¿Y de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te evalú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arás diferente la próxima vez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individ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grupos para compartir experi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entación de cada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é hacen la Gestión y el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 la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 y presupuesta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r y dotar de 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ar la gestión y resolver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94920"/>
            <a:ext cx="433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l Lideraz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jar una ori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r visiones y estrateg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irven a clientes, accionistas y emple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unicando un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endo creíble (por historia,  cohere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 autonom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r e inspi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tisfacer necesidades de logro, pertenencia, reconocimiento, autoestima, autogestión, valores en a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: El puñ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7 de noviembre  del año 20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be, describe tu vida actual, en tiempo pres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r en dupl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Cuenta tu visión de futuro, hazla atractiva para tu compañ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regunta a tu compañero lo que te parezca necesario para comprender su visión/proy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visión, una historia de tu futuro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a visión de futur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ura la aten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057400"/>
            <a:ext cx="4686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fo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atra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ergi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íderes son los individuos más orientados a resultados del mundo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los resultados atraen la atención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mbién captura la atenció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447920"/>
            <a:ext cx="65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ner atención, interesarse por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oce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resar/conectar con las propias emo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eptar lo mal hecho, lo medio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17:53Z</dcterms:created>
  <dc:creator>VERONICA VIRGILIO</dc:creator>
  <dc:description/>
  <dc:language>en-US</dc:language>
  <cp:lastModifiedBy>mmm mmm</cp:lastModifiedBy>
  <cp:lastPrinted>2011-11-07T14:34:41Z</cp:lastPrinted>
  <dcterms:modified xsi:type="dcterms:W3CDTF">2011-11-08T03:12:01Z</dcterms:modified>
  <cp:revision>105</cp:revision>
  <dc:subject/>
  <dc:title>No Slide Title</dc:title>
</cp:coreProperties>
</file>