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AA64-DC72-4143-9ABB-BD0CB472C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0AA1-09E4-4FC3-AB52-4A437B9B0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66AD-F7EA-4ACE-A867-147EB4200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0024-EE9B-46C5-8779-BD8D9758C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0BC7-2742-4098-8575-5F06FF1EA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764B-C3E6-4783-83C7-D8566DE07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2742-4C5F-462F-81FE-813FAC6DF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C220-714D-407F-A6F2-E0040D98A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0AAE-F115-495C-B301-BC8F9CC75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452F-7441-4B05-9217-8693516F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0B98-9422-435E-96E6-1F8FDB96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8975-D2D3-4282-BCD7-25366AB6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9E4A6-2129-4DB8-8C2C-A1264A44054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I1102 Introducción a la Ingenier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bastián Barrios 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24000" y="1539720"/>
          <a:ext cx="8569080" cy="311328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NALIZ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ienes sean sorprendidos infringiendo estas normas, o realizando actividades que atenten contra la seguridad y/o el normal desarrollo del trabajo del grupo, serán multados, cada vez con un descuento en 5 décimas en su nota individual, y su grupo con una décima en la nota del proyecto correspondiente.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Diseñar Para … (DPx)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(ver 7.4 libr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755640" y="126828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Considerar la mayor cantidad de aspectos posib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900000" y="2349360"/>
            <a:ext cx="30243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Funcion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nsamb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Constru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Mante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l bien comú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3995640" y="2360520"/>
            <a:ext cx="396108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Ser seg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Ser económ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Ser amigable con el medio amb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¿Qué hace un Ingenier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0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3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4535280" cy="2873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4" descr=""/>
          <p:cNvPicPr/>
          <p:nvPr/>
        </p:nvPicPr>
        <p:blipFill>
          <a:blip r:embed="rId2"/>
          <a:stretch/>
        </p:blipFill>
        <p:spPr>
          <a:xfrm>
            <a:off x="5724360" y="4797360"/>
            <a:ext cx="291636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¿Qué tiene que ser capaz de hacer un Ingenier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324000" y="1960560"/>
            <a:ext cx="302400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onceb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iseñ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mplemen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per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0"/>
          <p:cNvSpPr/>
          <p:nvPr/>
        </p:nvSpPr>
        <p:spPr>
          <a:xfrm>
            <a:off x="3276720" y="2492280"/>
            <a:ext cx="142920" cy="1368360"/>
          </a:xfrm>
          <a:custGeom>
            <a:avLst/>
            <a:gdLst>
              <a:gd name="textAreaLeft" fmla="*/ 0 w 142920"/>
              <a:gd name="textAreaRight" fmla="*/ 51480 w 14292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3495600" y="2909880"/>
            <a:ext cx="219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Proyecto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(Estructur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5796000" y="2492280"/>
            <a:ext cx="217440" cy="2087640"/>
          </a:xfrm>
          <a:custGeom>
            <a:avLst/>
            <a:gdLst>
              <a:gd name="textAreaLeft" fmla="*/ 0 w 217440"/>
              <a:gd name="textAreaRight" fmla="*/ 78480 w 21744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6014880" y="3284640"/>
            <a:ext cx="199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Proyecto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(Brazo H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1403280" y="465300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Diseñ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para constru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5"/>
          <p:cNvSpPr/>
          <p:nvPr/>
        </p:nvSpPr>
        <p:spPr>
          <a:xfrm flipV="1">
            <a:off x="2987640" y="3933360"/>
            <a:ext cx="1297080" cy="1079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4716360" y="544500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Diseñ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para ope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7"/>
          <p:cNvSpPr/>
          <p:nvPr/>
        </p:nvSpPr>
        <p:spPr>
          <a:xfrm flipV="1">
            <a:off x="6443640" y="4292640"/>
            <a:ext cx="360360" cy="1440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Conflictos Ét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250920" y="981000"/>
            <a:ext cx="3024000" cy="37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onceb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iseñ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mplemen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per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3527280" y="1341360"/>
            <a:ext cx="250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¿Para qué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3528000" y="2262240"/>
            <a:ext cx="20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¿Cóm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3530160" y="2987640"/>
            <a:ext cx="445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¿Con qué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¿En qué condicion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5"/>
          <p:cNvSpPr/>
          <p:nvPr/>
        </p:nvSpPr>
        <p:spPr>
          <a:xfrm>
            <a:off x="3529080" y="4149720"/>
            <a:ext cx="232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¿Cuán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Introducción a la Ingeniería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31"/>
          <p:cNvSpPr/>
          <p:nvPr/>
        </p:nvSpPr>
        <p:spPr>
          <a:xfrm>
            <a:off x="688320" y="1773360"/>
            <a:ext cx="6456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Proyecto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DIO en un Proceso 11 semana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Diseño cíclico (proceso iterativ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Introducción a la Ingeniería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100440" y="1268280"/>
            <a:ext cx="205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Evalu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313920" y="2133720"/>
            <a:ext cx="694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20% Nota de clases (Asistencia, Tare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428040" y="2781360"/>
            <a:ext cx="40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80% Nota de Proyec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1432080" y="3989520"/>
            <a:ext cx="723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Ingeniería - Constr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Operación - Presen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1047960" y="5157720"/>
            <a:ext cx="300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Co-evalu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900000" y="1773360"/>
          <a:ext cx="7417080" cy="3597120"/>
        </p:xfrm>
        <a:graphic>
          <a:graphicData uri="http://schemas.openxmlformats.org/drawingml/2006/table">
            <a:tbl>
              <a:tblPr/>
              <a:tblGrid>
                <a:gridCol w="74170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GENER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87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asistencia a taller, a las presentaciones y a </a:t>
                      </a:r>
                      <a:r>
                        <a:rPr b="0" lang="es-MX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algunas cátedras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es </a:t>
                      </a: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ligatoria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y se reprobará el curso con más de 2 inasistencias no justificadas ante la escuel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 cátedra se realizarán  periódicamente actividades evaluadas, con notas cualitativas o cuantitativa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95280" y="1052640"/>
          <a:ext cx="8424720" cy="4740120"/>
        </p:xfrm>
        <a:graphic>
          <a:graphicData uri="http://schemas.openxmlformats.org/drawingml/2006/table">
            <a:tbl>
              <a:tblPr/>
              <a:tblGrid>
                <a:gridCol w="8424720"/>
              </a:tblGrid>
              <a:tr h="474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DE TRABAJO EN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65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tualidad: La duración del taller es de 2 horas, se pasará lista y los atrasos deben ser justificados, 2 atrasos se consideraran como una inasistencia. Retirarse antes del fin del taller sin autorización puede significar  una inasistencia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guir indicaciones de Profesor y ayudantes, ante cualquier duda preguntar antes de realizar una activ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bajar en forma de segura, sin generar condiciones de riesgo, respetando las normas específicas dadas. Utilizar elementos de protección personal (EPP): lentes de seguridad, guantes y otros según las herramientas a utiliza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539640" y="333360"/>
          <a:ext cx="8569440" cy="5703840"/>
        </p:xfrm>
        <a:graphic>
          <a:graphicData uri="http://schemas.openxmlformats.org/drawingml/2006/table">
            <a:tbl>
              <a:tblPr/>
              <a:tblGrid>
                <a:gridCol w="8569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DE TRABAJO EN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4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ilizar herramientas correctamente, para la función que fueron diseñadas y con la finalidad para la que fueron entregadas (trabajo en los proyecto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bajar en forma responsable. Aprovechar el tiempo en el trabajo grupal en el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prohíbe estrictamente realizar actividades ajenas al trabajo en el proyecto, en el horario de tall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letar análisis de riesgo: Analista debe entregar un análisis de riesgo antes de cada sesión, realizado y firmado por todos los integrantes del gru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do lo que se construya debe ser guardado en el casillero asignad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 SBJ</cp:lastModifiedBy>
  <dcterms:modified xsi:type="dcterms:W3CDTF">2011-10-14T18:07:21Z</dcterms:modified>
  <cp:revision>33</cp:revision>
  <dc:subject/>
  <dc:title>EL63A-Taller de Proyecto en Control II</dc:title>
</cp:coreProperties>
</file>