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0750-F60E-469F-AB9C-E4200F694A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782-6250-4DC8-97E3-02DB24D42B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DA2E-160E-4917-88D4-BE239BE19F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B848-5870-43F6-987E-625C9F5DC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1E79-2064-4A70-BC78-DF02EAE53D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F81A-ABF8-4EB0-92D2-B10719CBD9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6665-F464-4E73-BE8F-79D59C779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9C85-A4F8-4CA2-9BA1-93AE6F1874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9B61-FD44-46FB-B773-A7E1629AC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083C-D69D-4D65-A403-B5A4D1F2D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1560" y="69516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25D-11D3-4FDA-BF9C-1D5FA0CB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6B48-46DA-4E72-94C0-85F74CB1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A16-C81F-4A15-9CA6-E2E7D61B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4D87-C323-41F1-8F9F-C9798B86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E848-8E3A-4BDF-92B6-4CC108AD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6092-51AF-49FA-AD81-0130AB8A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AE37-5F9D-4285-B74B-1FD8CF93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4AE5-F4D2-493D-9D70-1E741B15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997-77AE-4C79-8C21-83E65CE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481-FADF-4102-A2BB-E0B9DA41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6823-E03A-4C74-9DF7-D98B48A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ECA9-E995-4D1E-AAF2-CC1CCA41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0864-4EFC-4857-A44B-2893E3FC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B9629-2497-489F-B5FF-4E77724D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C312-58CF-4C28-81D3-25F1F345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8E83-0E91-4524-A76F-BB4C1A59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BEDD-5219-46A5-B84B-E794EEA2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A6D7-DD3C-4A7C-A1EE-F95EB422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406-7C1F-450B-AF16-96171181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AF49-E5B5-4326-957E-57D557F4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84A-8A2E-49A7-9E9D-8033A426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24D-4DD4-4F88-A433-8F9F69CE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110-9C18-4716-B80C-48DD0426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D35D-7733-42F2-95A7-15B8633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FAF-73C2-4DB8-A7D8-9DE260F38F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D18C-E244-412A-AA10-FC709162D4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2 Imagen" descr="49ba5bbc849bcb2ec739fbc7192e_740.jpg"/>
          <p:cNvPicPr/>
          <p:nvPr/>
        </p:nvPicPr>
        <p:blipFill>
          <a:blip r:embed="rId1"/>
          <a:stretch/>
        </p:blipFill>
        <p:spPr>
          <a:xfrm>
            <a:off x="1952640" y="1285920"/>
            <a:ext cx="704844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sar EPP Adecuados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y correct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3 Imagen" descr="sb1038-doblecasco1269375024.jpg"/>
          <p:cNvPicPr/>
          <p:nvPr/>
        </p:nvPicPr>
        <p:blipFill>
          <a:blip r:embed="rId1"/>
          <a:stretch/>
        </p:blipFill>
        <p:spPr>
          <a:xfrm>
            <a:off x="3000240" y="1643040"/>
            <a:ext cx="5715000" cy="46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obrecargar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4 Imagen" descr="1768e5e0b034ad21ee28201df4d6_740.jpg"/>
          <p:cNvPicPr/>
          <p:nvPr/>
        </p:nvPicPr>
        <p:blipFill>
          <a:blip r:embed="rId1"/>
          <a:stretch/>
        </p:blipFill>
        <p:spPr>
          <a:xfrm>
            <a:off x="2548080" y="1866960"/>
            <a:ext cx="5452920" cy="42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etar las Norm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2 Imagen" descr="sb1105-reglas1277242786.jpg"/>
          <p:cNvPicPr/>
          <p:nvPr/>
        </p:nvPicPr>
        <p:blipFill>
          <a:blip r:embed="rId1"/>
          <a:stretch/>
        </p:blipFill>
        <p:spPr>
          <a:xfrm>
            <a:off x="3714840" y="1285920"/>
            <a:ext cx="428616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2 Imagen" descr="29885dfebc91774bce0ace225ab6_740.jpg"/>
          <p:cNvPicPr/>
          <p:nvPr/>
        </p:nvPicPr>
        <p:blipFill>
          <a:blip r:embed="rId1"/>
          <a:stretch/>
        </p:blipFill>
        <p:spPr>
          <a:xfrm>
            <a:off x="1609560" y="1519200"/>
            <a:ext cx="6677280" cy="43052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 ser imprud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pasaría si no hubier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¡¡Es necesaria la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 Elipse"/>
          <p:cNvSpPr/>
          <p:nvPr/>
        </p:nvSpPr>
        <p:spPr>
          <a:xfrm>
            <a:off x="285840" y="4214880"/>
            <a:ext cx="435744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GLA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Elipse"/>
          <p:cNvSpPr/>
          <p:nvPr/>
        </p:nvSpPr>
        <p:spPr>
          <a:xfrm>
            <a:off x="5286240" y="3143160"/>
            <a:ext cx="385776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5 Elipse"/>
          <p:cNvSpPr/>
          <p:nvPr/>
        </p:nvSpPr>
        <p:spPr>
          <a:xfrm>
            <a:off x="1428840" y="1714680"/>
            <a:ext cx="3857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MPLI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Y  COMPROM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7 Flecha curvada hacia la derecha"/>
          <p:cNvSpPr/>
          <p:nvPr/>
        </p:nvSpPr>
        <p:spPr>
          <a:xfrm rot="1021800">
            <a:off x="499680" y="2857680"/>
            <a:ext cx="500040" cy="128556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560"/>
              <a:gd name="textAreaBottom" fmla="*/ 94860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8 Flecha curvada hacia la derecha"/>
          <p:cNvSpPr/>
          <p:nvPr/>
        </p:nvSpPr>
        <p:spPr>
          <a:xfrm rot="15033600">
            <a:off x="5367960" y="473580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9 Flecha curvada hacia la derecha"/>
          <p:cNvSpPr/>
          <p:nvPr/>
        </p:nvSpPr>
        <p:spPr>
          <a:xfrm rot="7415400">
            <a:off x="5853600" y="1778760"/>
            <a:ext cx="500040" cy="1285920"/>
          </a:xfrm>
          <a:custGeom>
            <a:avLst/>
            <a:gdLst>
              <a:gd name="textAreaLeft" fmla="*/ 66960 w 500040"/>
              <a:gd name="textAreaRight" fmla="*/ 433080 w 500040"/>
              <a:gd name="textAreaTop" fmla="*/ 274320 h 1285920"/>
              <a:gd name="textAreaBottom" fmla="*/ 94896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25" stAng="-5400000" swAng="-5400000"/>
                <a:lnTo>
                  <a:pt x="0" y="11325"/>
                </a:lnTo>
                <a:arcTo wR="21600" hR="9225" stAng="10800000" swAng="-3530663"/>
                <a:lnTo>
                  <a:pt x="16200" y="21307"/>
                </a:lnTo>
                <a:lnTo>
                  <a:pt x="21600" y="19500"/>
                </a:lnTo>
                <a:lnTo>
                  <a:pt x="16200" y="17107"/>
                </a:lnTo>
                <a:lnTo>
                  <a:pt x="16200" y="18157"/>
                </a:lnTo>
                <a:arcTo wR="21600" hR="9225" stAng="7269337" swAng="3362591"/>
                <a:lnTo>
                  <a:pt x="140" y="10275"/>
                </a:lnTo>
                <a:arcTo wR="21600" hR="9225" stAng="-10631928" swAng="5231928"/>
                <a:close/>
              </a:path>
              <a:path fill="darkenLess" w="21600" h="21600">
                <a:moveTo>
                  <a:pt x="21600" y="0"/>
                </a:moveTo>
                <a:arcTo wR="21600" hR="9225" stAng="-5400000" swAng="-5400000"/>
                <a:lnTo>
                  <a:pt x="0" y="9225"/>
                </a:lnTo>
                <a:arcTo wR="21600" hR="9225" stAng="10800000" swAng="-168072"/>
                <a:lnTo>
                  <a:pt x="140" y="10275"/>
                </a:lnTo>
                <a:arcTo wR="21600" hR="9225" stAng="-10631928" swAng="523192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guridad Industrial Trasciende del ámbito de la Ind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500040" y="2928960"/>
            <a:ext cx="822960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e trata de SUSTENTAB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1040" y="1714320"/>
            <a:ext cx="840132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- Somos trabajadores expuestos a accidentes y enfermedades lab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y respetar normativa, procedimientos, derechos y debe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acticar Auto-cuida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y promover cultura preven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caso de accidentes utilizar mecanismos de  cob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Rol de los ingenieros en la Seguridad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71040" y="1500120"/>
            <a:ext cx="84013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- Somos profesionales con responsabilidades particu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nificar Trabajos (Quién, cómo, cuá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finir procedimientos, dimensionar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señar productos, equip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yor responsabilidad en empresa o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lar por el bienestar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fesionales con responsabilidad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6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Ingeniería y Seguridad Indust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1643040"/>
            <a:ext cx="75009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Y si no hubiera Seguridad Industr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Rol de los ingenieros en la Seguridad Indus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Incluye la seguridad Industri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060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cidentes Lab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Por qué preveni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costos: materiales, retraso en proyectos, Imagen corporativa, alzas en pólizas, dema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umentar Beneficios/ut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enestar de las perso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16430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¿Qué es una Profesió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Responsabilidad Profesio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6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actitud pasiva o rea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inimizar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optar actitud y procedimientos proa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r alerta, evaluar constantemente riesgos y controlarlos, informarse, preparar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algunas Industrias: no solo reporte de accidentes también de 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ultura de la Prev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857240"/>
            <a:ext cx="84009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dimientos deben ser: Formales, Conocidos y efic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la “burocratizació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itar imprudencia, actuar sin pre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3 Imagen" descr="~Oh_dear~7.jpg"/>
          <p:cNvPicPr/>
          <p:nvPr/>
        </p:nvPicPr>
        <p:blipFill>
          <a:blip r:embed="rId1"/>
          <a:stretch/>
        </p:blipFill>
        <p:spPr>
          <a:xfrm>
            <a:off x="1714680" y="164304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antener el 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 SBJ</cp:lastModifiedBy>
  <dcterms:modified xsi:type="dcterms:W3CDTF">2011-10-17T12:09:20Z</dcterms:modified>
  <cp:revision>35</cp:revision>
  <dc:subject/>
  <dc:title>EL63A-Taller de Proyecto en Control II</dc:title>
</cp:coreProperties>
</file>