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wmf" ContentType="image/x-wmf"/>
  <Override PartName="/ppt/media/image11.jpeg" ContentType="image/jpeg"/>
  <Override PartName="/ppt/media/image10.jpeg" ContentType="image/jpeg"/>
  <Override PartName="/ppt/media/image8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0AEF0-47FF-479D-867B-D8F4EAEC809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73977-B883-4BF6-AA28-4B8A2BD8848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3 Marcador de número de diapositiva"/>
          <p:cNvSpPr/>
          <p:nvPr/>
        </p:nvSpPr>
        <p:spPr>
          <a:xfrm>
            <a:off x="38847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b">
            <a:no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fld id="{0956B899-FE77-4EA3-BA93-9C462540FDAD}" type="slidenum">
              <a:rPr b="0" lang="es-CL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4 Marcador de fecha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no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Arial"/>
              </a:rPr>
              <a:t>13/05/20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5 Marcador de pie de página"/>
          <p:cNvSpPr/>
          <p:nvPr/>
        </p:nvSpPr>
        <p:spPr>
          <a:xfrm>
            <a:off x="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b">
            <a:no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Arial"/>
              </a:rPr>
              <a:t>EI1101 Introducción a la Ingeniería 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6 Marcador de encabezado"/>
          <p:cNvSpPr/>
          <p:nvPr/>
        </p:nvSpPr>
        <p:spPr>
          <a:xfrm>
            <a:off x="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no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Arial"/>
              </a:rPr>
              <a:t>Semestre 2009-1 clase 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506FD-7F98-4D8A-A11A-D1D87AADEF1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DAB5E-B699-4633-97D8-87679A5C354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9538A-288B-44AF-9E46-46993B4DAC4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9E369-0D32-46EF-9FEF-3DD6DDCC044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1C4BE-915C-4AE7-B6B6-6538464D584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2ECF2-1E44-4AF7-BE86-8575A1AE18B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09092-116C-40EC-B8BA-748EC10DC5F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61C15-1EAB-4881-8B06-CC32C676FF6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3BC9E-74B4-4D2D-AFE9-613F5ACF039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DBAF-AD65-469E-84E0-7CA9FFC10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1374-1D8B-4E11-A255-36456DDAF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1CD41E-4C4B-4AC9-9DF2-662CB8143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90B28A-285D-40E8-B4F5-3B94D0106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7E3C30-5717-4B22-B97A-4A7A79649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CEBB1D-4238-4C19-AA61-80B05401E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E49132-7225-4A1D-8058-8610003EA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A02352-4F79-48C4-B1A0-DE566CBE6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728CE7-A7A2-4BA8-B501-0E43A76EB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BF1C5B-2802-4908-BE78-F94CBE14B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524732-CF87-48C5-8CD1-2CF52A9E2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3A06EB-264E-4B37-B434-92C3D3442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04C8-3190-4324-8C95-D830A2453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D9B224-01F6-4D25-B051-8DB46C398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026CE3-263D-4B4A-9BF8-203AFA3A9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B651D1-53BC-4F36-814C-0F2CABB61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42D670-7500-45CD-B281-107879ADA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1AD6DD-3DD0-457E-AF7B-234D09586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D879AD-FBEB-4C28-8010-CB0376425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6239EA-94FF-4D3B-851F-A0A6143B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4B503F-35A0-4C1B-B579-764BB9CA1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D36A0D-D311-4701-8555-BA854856B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19F250-6AD8-4110-8351-8CEFA4E18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EB9D-DC4B-4006-B038-19DFC1DB5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9161DB-519D-45ED-A1FF-EBF29C6A2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642D57-74BB-40AF-A88C-40CAC0843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8C9617-CC35-4555-8FD1-E5010B55C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A8442B-67E9-4487-9BEC-368208BF8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0DA6EA-12E7-425D-86CA-C6D2D354E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6CFA4E-2C8E-4A85-AFDF-778AF40B8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64C2E1-0898-4A4C-89F7-10D0769BB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5E3C00-F309-4FD4-A92A-FD338D9C6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336E26-FDB0-4637-B3D0-AFEB3311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89754E-B23D-472A-8108-7A8B5995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8995D-B968-41D7-91EA-868B5F7BF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ABA717-042D-4239-82C8-6B5B3199E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4CF18A-5DDD-46A1-8552-9F7A06A0E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4C0137-4CEC-4DB4-A839-90AAE8651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6E732E-CFAB-4E49-A754-4ABE9655D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3D9F79-56A5-4C15-ACC0-9B1425768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B1E9B0-4B55-4B10-BE4D-3FECDA53E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050879-3E61-479D-B303-58523B450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6444A2-27CD-4A45-B800-FCB035033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485E6B-C5BB-453A-BF70-91069759E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433801-0EE5-44D7-A6E8-091992EE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2E5A8-5E8A-4FA0-9FB1-1D8F3C4EF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C2D0FA-5EB7-4194-B718-578709838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D8D674-97DF-4A42-B93E-84FC794A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FC8B19-2678-4DF6-B146-7CAA71967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E3EDDB-7189-4651-A404-B4F213D92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B9694F-0549-4FB8-8ACF-1B26D9673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9C51E7-2FB1-4F8E-9C2C-10509BCA7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7D1EC8-ECE8-4B0B-AC14-57E05A8BE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1CCB5F-F2E8-4E32-AB6B-8A46A1BFF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762DFF-0931-44FB-A7A5-AD257E9C8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7485A1-6A05-4F99-BBF2-A7220FAD5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60EEA-BF4C-4280-9866-FBBCD56EF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C2DE5A-E693-4E91-A36D-545B0DDA1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870FA9-256C-44D4-9440-153997B5F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699DA4-0CF2-4CFB-B5E4-D48D14486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91C787-DDF5-417C-93D0-9DC73529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F7E86C-8397-48E7-8C90-2244E5569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16E686-A062-4D35-BBBA-D7924A213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A36D72-42D0-419A-BEB5-A48DE82BA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9B5E5-DC75-4E41-8262-06788E4CA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35BA5-E553-4054-88B1-A3E3339C0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D7E5D-E9CA-4256-964D-5D71C01FD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DF8D0-6C5B-488A-A3CE-064E0696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A668-5B0D-4104-82F1-8686C0E10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81171-ACFC-4E52-9D05-9F686EA71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4089D-A99E-45DC-A995-B98CEDB6D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A39F6-11F6-4B42-AD11-CA0C1EC28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37C92-1009-44D1-856E-53B6B9D2B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FD2DC-DD77-4265-B31D-4C4A7CAAA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E0C56-E632-4347-828C-D487ACBB3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DB5B6-9900-47C7-8B50-AFF4E1DD1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72214-0556-4F0A-9C45-66AA46873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4CDA5-3712-4674-95DE-9200B5F9F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F538A-2B21-4EA1-BF9C-DFDC3B236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EB8A-8EB9-4988-9D6E-CBD222266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1A0C2-3449-4534-A754-BA5363A83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2ADEE-2BE5-42BF-9146-39B901D5F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817EF-E5E8-4EB3-B684-C1FC23088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BD767-C7AB-425B-A68A-B3CCC88B0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D7024-BF57-444C-9D3D-1457082FB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AEF99-F902-45D3-B490-F084D40CA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AEE59-7340-482D-BFAE-338CCBACF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B3CDA-89B1-49D2-9D6E-2E5DBF66B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4B3BD-8B4A-4FC9-B9F8-803DBD50F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E25F6-9607-430F-95DB-AD27DB1D8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DE40-7E62-4218-BD8E-327E3E675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59AB5-E41A-46B8-8DCE-CD699209E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A4AFC-8226-456A-9618-F0A52B7D1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FB7C4-FDF2-4725-BCDE-CB9EA9405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088D2-2DC0-4215-8E0D-D905F80D6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B2356-94CE-4A08-9270-C0FEB767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234F3-605E-48A6-846B-A216C133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A41B4-639A-4D3D-B8DC-C08FAC34F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F3819-21CF-4CFD-9D09-2AEC707C3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357DA-B1B9-45D0-972E-A64FEE13F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55AB1-5CA6-43EA-87EF-95C7C82B7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0E10-6CAB-4DB0-B677-E9F65503F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C7E75-CA26-441F-AA98-BCD0F2C3C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062A90-A421-41AA-82DD-9448A72A8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181A59-9A9B-4C10-A599-6D2A89A18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94365-A507-42D5-8547-E9B4D42BE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DD93A6-7465-44C0-93BC-A68DE7A17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EF37D-E76B-420D-BF66-5163B4CEF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3C98A9-9FEF-4AE0-A434-59B0C36AB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934CC-59ED-4E65-9B2B-98F838BE2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FF8E13-3267-479C-A62E-1C7EBB017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EAF698-9D6A-41F6-B6E9-4E25326B0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B0E2-5BB3-495F-8340-02E2753F0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D7A56A-99EB-4F92-BAFB-7B4DC6D28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F8F82D-738F-42F3-9754-6C7387A75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FEACB1-2862-4813-83E9-745AE5F4C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AF41D9-940E-4D9C-80EB-88AB0D391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7A6503-31B5-47F7-BE06-976BF85C1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7337C7-F24C-4BE5-8C76-502504B8E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78FA0B-75FF-41AC-B152-F66DCEDE6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6A3AD2-51CD-4EC7-9B5C-9BF86877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1AF672-3CCF-42D4-A283-CA018C3F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60373F-6B57-4AFA-B619-D5CB53A5B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82F7-4B24-4C8F-BBA9-FF083A5B3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99767-E555-45CD-8328-2764DBA96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12807B-03BE-4E1C-A85F-B9690497F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D2860-FD48-448D-84C9-2E971F69B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520F9B-F0C1-4E4E-A7EB-F55CB72C1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879E82-A813-4ED7-A89B-E7110691B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434BAE-17CF-41B0-883C-DC9C57406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122FCD-C45E-4327-A881-CCB22FD99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E91A6F-AFD6-4A21-A1E5-BF14850EB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653391-A701-4E4E-863B-D2DBC2998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C66A8F-36E4-4068-A3C1-FB4DFDFAD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80A5-CBBD-474F-84BD-8ED7F697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AAB362-E7CE-4CBF-9800-5CA207A19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D46102-FE52-409B-9694-3FC62CFED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B946E1-E1E9-4965-ACFB-DC09E1005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29F60B-1C34-44C8-AB8C-BD65C99AD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46E3D9-A25D-4756-BD51-A7D6282ED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59057A-95CD-47D1-994C-004B395AB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A0DEF4-EF2F-4C99-A003-73E3758EF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031930-F3E6-44F4-A4F7-D7D7C84E0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9AC4E6-C789-49D0-B4A4-EE695977D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98BD92-8757-4CF7-9F58-2BB326EAF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DB8B-A818-4A0C-A0C8-A460BF64A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B59E97-C12F-4BE3-888C-4DAE8B170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D0E076-0531-4CE1-BEC0-81CB1FF0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24AFB8-CAD7-4E68-BBF2-A5BFD476A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326CC1-128C-41D4-96E7-045A11898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CCD547-28B5-42CE-A8F0-365ACAB5F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DD26E8-2E59-4B69-B09F-BC2622367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6809F3-6E11-4464-A1BC-4AD22445B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06FAAD-B67F-4B7B-A054-6C0633D1B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C7607E-6AF6-4E3F-B279-99F981669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5DCB29-10E4-417D-A255-6F42A985F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64CA2-82D0-4A89-847B-D57ADBD645B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1C186-7132-49B4-BBC7-38E9800C4CC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70B62-2737-4003-9830-545394C5004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D494A-4E53-4019-ABC2-51C8A589A90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79CC8-1D3D-4C91-95FD-CC1C37D3E5B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BF6E5-238C-4BF4-B43E-1BD5812DC99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B2A31-F742-469B-906D-37A04411981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E40FB-540B-4FB8-BB30-E4E5F4A9DEB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1115C-52F1-4BD9-973D-FE19AD5F6FD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C201E-D25D-4C97-B547-75AA227780D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92844-ED6A-4302-B717-014F2639EED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94BC2-B67A-4FC8-9F68-8186ACB62E1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F1FF1-2BFD-4B55-BB2F-E862854A4F8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EI1102 Introducción a la Ingeniería II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4"/>
          <p:cNvSpPr/>
          <p:nvPr/>
        </p:nvSpPr>
        <p:spPr>
          <a:xfrm>
            <a:off x="4284720" y="5300640"/>
            <a:ext cx="45687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bastian Barrios 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Presentación de Informació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42876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Usar escalas adecuadas (logarítmica, semi-logarítmica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ás ejemplos ver capítulo 9 lib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3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cala Semi-l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2" descr=""/>
          <p:cNvPicPr/>
          <p:nvPr/>
        </p:nvPicPr>
        <p:blipFill>
          <a:blip r:embed="rId1"/>
          <a:stretch/>
        </p:blipFill>
        <p:spPr>
          <a:xfrm>
            <a:off x="214200" y="1857240"/>
            <a:ext cx="2225880" cy="3500640"/>
          </a:xfrm>
          <a:prstGeom prst="rect">
            <a:avLst/>
          </a:prstGeom>
          <a:ln w="0">
            <a:noFill/>
          </a:ln>
        </p:spPr>
      </p:pic>
      <p:sp>
        <p:nvSpPr>
          <p:cNvPr id="576" name="4 CuadroTexto"/>
          <p:cNvSpPr/>
          <p:nvPr/>
        </p:nvSpPr>
        <p:spPr>
          <a:xfrm>
            <a:off x="433800" y="14288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at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5 CuadroTexto"/>
          <p:cNvSpPr/>
          <p:nvPr/>
        </p:nvSpPr>
        <p:spPr>
          <a:xfrm>
            <a:off x="3018240" y="1428840"/>
            <a:ext cx="28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raficando (ejes lineale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3" descr=""/>
          <p:cNvPicPr/>
          <p:nvPr/>
        </p:nvPicPr>
        <p:blipFill>
          <a:blip r:embed="rId2"/>
          <a:stretch/>
        </p:blipFill>
        <p:spPr>
          <a:xfrm>
            <a:off x="2857680" y="1785960"/>
            <a:ext cx="5795640" cy="4071960"/>
          </a:xfrm>
          <a:prstGeom prst="rect">
            <a:avLst/>
          </a:prstGeom>
          <a:ln w="0">
            <a:noFill/>
          </a:ln>
        </p:spPr>
      </p:pic>
      <p:sp>
        <p:nvSpPr>
          <p:cNvPr id="579" name="7 CuadroTexto"/>
          <p:cNvSpPr/>
          <p:nvPr/>
        </p:nvSpPr>
        <p:spPr>
          <a:xfrm>
            <a:off x="3956400" y="6000840"/>
            <a:ext cx="457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eciera que hay datos “anómalos” al f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cala Semi-l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2" descr=""/>
          <p:cNvPicPr/>
          <p:nvPr/>
        </p:nvPicPr>
        <p:blipFill>
          <a:blip r:embed="rId1"/>
          <a:stretch/>
        </p:blipFill>
        <p:spPr>
          <a:xfrm>
            <a:off x="214200" y="1857240"/>
            <a:ext cx="2225880" cy="3500640"/>
          </a:xfrm>
          <a:prstGeom prst="rect">
            <a:avLst/>
          </a:prstGeom>
          <a:ln w="0">
            <a:noFill/>
          </a:ln>
        </p:spPr>
      </p:pic>
      <p:sp>
        <p:nvSpPr>
          <p:cNvPr id="582" name="4 CuadroTexto"/>
          <p:cNvSpPr/>
          <p:nvPr/>
        </p:nvSpPr>
        <p:spPr>
          <a:xfrm>
            <a:off x="433800" y="14288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at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5 CuadroTexto"/>
          <p:cNvSpPr/>
          <p:nvPr/>
        </p:nvSpPr>
        <p:spPr>
          <a:xfrm>
            <a:off x="3027240" y="1428840"/>
            <a:ext cx="49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acamos algunos datos y graficamos otra vez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7 CuadroTexto"/>
          <p:cNvSpPr/>
          <p:nvPr/>
        </p:nvSpPr>
        <p:spPr>
          <a:xfrm>
            <a:off x="3938400" y="6000840"/>
            <a:ext cx="162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ece” re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Picture 2" descr=""/>
          <p:cNvPicPr/>
          <p:nvPr/>
        </p:nvPicPr>
        <p:blipFill>
          <a:blip r:embed="rId2"/>
          <a:stretch/>
        </p:blipFill>
        <p:spPr>
          <a:xfrm>
            <a:off x="2571840" y="1785960"/>
            <a:ext cx="5929200" cy="4165560"/>
          </a:xfrm>
          <a:prstGeom prst="rect">
            <a:avLst/>
          </a:prstGeom>
          <a:ln w="0">
            <a:noFill/>
          </a:ln>
        </p:spPr>
      </p:pic>
      <p:sp>
        <p:nvSpPr>
          <p:cNvPr id="586" name="9 Rectángulo redondeado"/>
          <p:cNvSpPr/>
          <p:nvPr/>
        </p:nvSpPr>
        <p:spPr>
          <a:xfrm>
            <a:off x="428760" y="1785960"/>
            <a:ext cx="2143080" cy="2571840"/>
          </a:xfrm>
          <a:custGeom>
            <a:avLst/>
            <a:gdLst>
              <a:gd name="textAreaLeft" fmla="*/ 141480 w 2143080"/>
              <a:gd name="textAreaRight" fmla="*/ 2001600 w 2143080"/>
              <a:gd name="textAreaTop" fmla="*/ 141480 h 2571840"/>
              <a:gd name="textAreaBottom" fmla="*/ 2430360 h 2571840"/>
            </a:gdLst>
            <a:ahLst/>
            <a:rect l="textAreaLeft" t="textAreaTop" r="textAreaRight" b="textAreaBottom"/>
            <a:pathLst>
              <a:path w="21600" h="25921">
                <a:moveTo>
                  <a:pt x="4880" y="0"/>
                </a:moveTo>
                <a:arcTo wR="4880" hR="4880" stAng="16200000" swAng="-5400000"/>
                <a:lnTo>
                  <a:pt x="0" y="21041"/>
                </a:lnTo>
                <a:arcTo wR="4880" hR="4880" stAng="10800000" swAng="-5400000"/>
                <a:lnTo>
                  <a:pt x="16720" y="25921"/>
                </a:lnTo>
                <a:arcTo wR="4880" hR="4880" stAng="5400000" swAng="-5400000"/>
                <a:lnTo>
                  <a:pt x="21600" y="4880"/>
                </a:lnTo>
                <a:arcTo wR="4880" hR="4880" stAng="0" swAng="-5400000"/>
                <a:close/>
              </a:path>
            </a:pathLst>
          </a:custGeom>
          <a:noFill/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cala Semi-l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cture 2" descr=""/>
          <p:cNvPicPr/>
          <p:nvPr/>
        </p:nvPicPr>
        <p:blipFill>
          <a:blip r:embed="rId1"/>
          <a:stretch/>
        </p:blipFill>
        <p:spPr>
          <a:xfrm>
            <a:off x="214200" y="1857240"/>
            <a:ext cx="2225880" cy="3500640"/>
          </a:xfrm>
          <a:prstGeom prst="rect">
            <a:avLst/>
          </a:prstGeom>
          <a:ln w="0">
            <a:noFill/>
          </a:ln>
        </p:spPr>
      </p:pic>
      <p:sp>
        <p:nvSpPr>
          <p:cNvPr id="589" name="4 CuadroTexto"/>
          <p:cNvSpPr/>
          <p:nvPr/>
        </p:nvSpPr>
        <p:spPr>
          <a:xfrm>
            <a:off x="433800" y="14288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at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5 CuadroTexto"/>
          <p:cNvSpPr/>
          <p:nvPr/>
        </p:nvSpPr>
        <p:spPr>
          <a:xfrm>
            <a:off x="3020760" y="142884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gregamos curva de tend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7 CuadroTexto"/>
          <p:cNvSpPr/>
          <p:nvPr/>
        </p:nvSpPr>
        <p:spPr>
          <a:xfrm>
            <a:off x="3950280" y="6000840"/>
            <a:ext cx="336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asta” tiene buena corre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2" descr=""/>
          <p:cNvPicPr/>
          <p:nvPr/>
        </p:nvPicPr>
        <p:blipFill>
          <a:blip r:embed="rId2"/>
          <a:stretch/>
        </p:blipFill>
        <p:spPr>
          <a:xfrm>
            <a:off x="2579760" y="1768320"/>
            <a:ext cx="5921280" cy="416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cala Semi-l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2" descr=""/>
          <p:cNvPicPr/>
          <p:nvPr/>
        </p:nvPicPr>
        <p:blipFill>
          <a:blip r:embed="rId1"/>
          <a:stretch/>
        </p:blipFill>
        <p:spPr>
          <a:xfrm>
            <a:off x="214200" y="1857240"/>
            <a:ext cx="2225880" cy="3500640"/>
          </a:xfrm>
          <a:prstGeom prst="rect">
            <a:avLst/>
          </a:prstGeom>
          <a:ln w="0">
            <a:noFill/>
          </a:ln>
        </p:spPr>
      </p:pic>
      <p:sp>
        <p:nvSpPr>
          <p:cNvPr id="595" name="4 CuadroTexto"/>
          <p:cNvSpPr/>
          <p:nvPr/>
        </p:nvSpPr>
        <p:spPr>
          <a:xfrm>
            <a:off x="433800" y="14288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at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5 CuadroTexto"/>
          <p:cNvSpPr/>
          <p:nvPr/>
        </p:nvSpPr>
        <p:spPr>
          <a:xfrm>
            <a:off x="3098160" y="1428840"/>
            <a:ext cx="586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ero si graficamos en escala semi-logarítmica (en eje 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7 CuadroTexto"/>
          <p:cNvSpPr/>
          <p:nvPr/>
        </p:nvSpPr>
        <p:spPr>
          <a:xfrm>
            <a:off x="3937680" y="600084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ece re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2" descr=""/>
          <p:cNvPicPr/>
          <p:nvPr/>
        </p:nvPicPr>
        <p:blipFill>
          <a:blip r:embed="rId2"/>
          <a:stretch/>
        </p:blipFill>
        <p:spPr>
          <a:xfrm>
            <a:off x="2754360" y="1857240"/>
            <a:ext cx="5960880" cy="417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cala Semi-l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Picture 2" descr=""/>
          <p:cNvPicPr/>
          <p:nvPr/>
        </p:nvPicPr>
        <p:blipFill>
          <a:blip r:embed="rId1"/>
          <a:stretch/>
        </p:blipFill>
        <p:spPr>
          <a:xfrm>
            <a:off x="214200" y="1857240"/>
            <a:ext cx="2225880" cy="3500640"/>
          </a:xfrm>
          <a:prstGeom prst="rect">
            <a:avLst/>
          </a:prstGeom>
          <a:ln w="0">
            <a:noFill/>
          </a:ln>
        </p:spPr>
      </p:pic>
      <p:sp>
        <p:nvSpPr>
          <p:cNvPr id="601" name="4 CuadroTexto"/>
          <p:cNvSpPr/>
          <p:nvPr/>
        </p:nvSpPr>
        <p:spPr>
          <a:xfrm>
            <a:off x="433800" y="14288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at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5 CuadroTexto"/>
          <p:cNvSpPr/>
          <p:nvPr/>
        </p:nvSpPr>
        <p:spPr>
          <a:xfrm>
            <a:off x="3036240" y="1428840"/>
            <a:ext cx="581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gregando línea de tendencia exponencial, obtenem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ecuación con la que se originaron los dat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Picture 2" descr=""/>
          <p:cNvPicPr/>
          <p:nvPr/>
        </p:nvPicPr>
        <p:blipFill>
          <a:blip r:embed="rId2"/>
          <a:stretch/>
        </p:blipFill>
        <p:spPr>
          <a:xfrm>
            <a:off x="3071880" y="2071800"/>
            <a:ext cx="5000400" cy="3512880"/>
          </a:xfrm>
          <a:prstGeom prst="rect">
            <a:avLst/>
          </a:prstGeom>
          <a:ln w="0">
            <a:noFill/>
          </a:ln>
        </p:spPr>
      </p:pic>
      <p:sp>
        <p:nvSpPr>
          <p:cNvPr id="604" name="8 CuadroTexto"/>
          <p:cNvSpPr/>
          <p:nvPr/>
        </p:nvSpPr>
        <p:spPr>
          <a:xfrm>
            <a:off x="1785960" y="5643720"/>
            <a:ext cx="71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unciona en general para datos con la forma y=a·b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9 CuadroTexto"/>
          <p:cNvSpPr/>
          <p:nvPr/>
        </p:nvSpPr>
        <p:spPr>
          <a:xfrm>
            <a:off x="1857240" y="6211800"/>
            <a:ext cx="714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escala log-log es aplicar esto a ambos ejes y funciona con datos de la forma y=a·x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cala log-l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9 CuadroTexto"/>
          <p:cNvSpPr/>
          <p:nvPr/>
        </p:nvSpPr>
        <p:spPr>
          <a:xfrm>
            <a:off x="857160" y="1643040"/>
            <a:ext cx="7143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escala log-log es análogo a lo anterior pero aplicando escala logarítmica a ambos ejes y funciona con datos de la forma y=a·x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Picture 3" descr=""/>
          <p:cNvPicPr/>
          <p:nvPr/>
        </p:nvPicPr>
        <p:blipFill>
          <a:blip r:embed="rId1"/>
          <a:stretch/>
        </p:blipFill>
        <p:spPr>
          <a:xfrm>
            <a:off x="2714760" y="2500200"/>
            <a:ext cx="5682960" cy="400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Presentación de Información</a:t>
            </a:r>
            <a:br>
              <a:rPr sz="4000"/>
            </a:b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(Cap. 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457200" y="2385720"/>
            <a:ext cx="8229600" cy="26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rte muy importante en un proyecto→ no descuid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vertir” tiempo en comunicar correctam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3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Representación Gráfica</a:t>
            </a:r>
            <a:br>
              <a:rPr sz="4000"/>
            </a:b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Objetivos (</a:t>
            </a:r>
            <a:r>
              <a:rPr b="1" i="1" lang="es-ES" sz="2800" spc="-1" strike="noStrike">
                <a:solidFill>
                  <a:srgbClr val="000000"/>
                </a:solidFill>
                <a:latin typeface="Times New Roman"/>
              </a:rPr>
              <a:t>Tufte, 1983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esentar la inform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acer al lector pensar en sustancia más que en metodología o en diseño gráf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 distorsionar  el mensaje de la inform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timular al ojo para que compare distintas partes de la inform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3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Representación Gráfica</a:t>
            </a:r>
            <a:br>
              <a:rPr sz="4000"/>
            </a:b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Objetivos (</a:t>
            </a:r>
            <a:r>
              <a:rPr b="1" i="1" lang="es-ES" sz="2800" spc="-1" strike="noStrike">
                <a:solidFill>
                  <a:srgbClr val="000000"/>
                </a:solidFill>
                <a:latin typeface="Times New Roman"/>
              </a:rPr>
              <a:t>Tufte, 1983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velar niveles de información, desde una mirada general a una fi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ener un propósito claro (por ejemplo descripción, comparación, exploració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tegrarlo con otras descripciones de inform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3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Distribuciones de D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echones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2" descr=""/>
          <p:cNvPicPr/>
          <p:nvPr/>
        </p:nvPicPr>
        <p:blipFill>
          <a:blip r:embed="rId1"/>
          <a:stretch/>
        </p:blipFill>
        <p:spPr>
          <a:xfrm>
            <a:off x="1857240" y="2428920"/>
            <a:ext cx="6499440" cy="390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Picture 1" descr=""/>
          <p:cNvPicPr/>
          <p:nvPr/>
        </p:nvPicPr>
        <p:blipFill>
          <a:blip r:embed="rId1"/>
          <a:stretch/>
        </p:blipFill>
        <p:spPr>
          <a:xfrm>
            <a:off x="357120" y="1500120"/>
            <a:ext cx="8537760" cy="4143600"/>
          </a:xfrm>
          <a:prstGeom prst="rect">
            <a:avLst/>
          </a:prstGeom>
          <a:ln w="0">
            <a:noFill/>
          </a:ln>
        </p:spPr>
      </p:pic>
      <p:sp>
        <p:nvSpPr>
          <p:cNvPr id="556" name="1 Título"/>
          <p:cNvSpPr/>
          <p:nvPr/>
        </p:nvSpPr>
        <p:spPr>
          <a:xfrm>
            <a:off x="428760" y="142920"/>
            <a:ext cx="8501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Distribuciones  Comparadas de Da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643040" y="5572080"/>
            <a:ext cx="714384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2060"/>
                </a:solidFill>
                <a:latin typeface="Arial"/>
              </a:rPr>
              <a:t>Comparación distribución en la educación media y en Ingeniería de la U. de C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mparación de Valores para Distintas Categorí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3" descr=""/>
          <p:cNvPicPr/>
          <p:nvPr/>
        </p:nvPicPr>
        <p:blipFill>
          <a:blip r:embed="rId1"/>
          <a:stretch/>
        </p:blipFill>
        <p:spPr>
          <a:xfrm>
            <a:off x="0" y="2786040"/>
            <a:ext cx="4519440" cy="2714760"/>
          </a:xfrm>
          <a:prstGeom prst="rect">
            <a:avLst/>
          </a:prstGeom>
          <a:ln w="0">
            <a:noFill/>
          </a:ln>
        </p:spPr>
      </p:pic>
      <p:sp>
        <p:nvSpPr>
          <p:cNvPr id="560" name="6 CuadroTexto"/>
          <p:cNvSpPr/>
          <p:nvPr/>
        </p:nvSpPr>
        <p:spPr>
          <a:xfrm>
            <a:off x="5940360" y="2000160"/>
            <a:ext cx="188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jo con escala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4" descr=""/>
          <p:cNvPicPr/>
          <p:nvPr/>
        </p:nvPicPr>
        <p:blipFill>
          <a:blip r:embed="rId2"/>
          <a:stretch/>
        </p:blipFill>
        <p:spPr>
          <a:xfrm>
            <a:off x="4549680" y="2786040"/>
            <a:ext cx="4594320" cy="275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Picture 5" descr=""/>
          <p:cNvPicPr/>
          <p:nvPr/>
        </p:nvPicPr>
        <p:blipFill>
          <a:blip r:embed="rId1"/>
          <a:stretch/>
        </p:blipFill>
        <p:spPr>
          <a:xfrm>
            <a:off x="2714760" y="1785960"/>
            <a:ext cx="6373800" cy="383688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eries de Tiempo (Tendencia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3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2270160" cy="4078080"/>
          </a:xfrm>
          <a:prstGeom prst="rect">
            <a:avLst/>
          </a:prstGeom>
          <a:ln w="0">
            <a:noFill/>
          </a:ln>
        </p:spPr>
      </p:pic>
      <p:sp>
        <p:nvSpPr>
          <p:cNvPr id="565" name="8 CuadroTexto"/>
          <p:cNvSpPr/>
          <p:nvPr/>
        </p:nvSpPr>
        <p:spPr>
          <a:xfrm>
            <a:off x="3435120" y="570240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TRO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9 Flecha doblada hacia arriba"/>
          <p:cNvSpPr/>
          <p:nvPr/>
        </p:nvSpPr>
        <p:spPr>
          <a:xfrm>
            <a:off x="4857840" y="3071880"/>
            <a:ext cx="428400" cy="2857320"/>
          </a:xfrm>
          <a:custGeom>
            <a:avLst/>
            <a:gdLst>
              <a:gd name="textAreaLeft" fmla="*/ 0 w 428400"/>
              <a:gd name="textAreaRight" fmla="*/ 349560 w 428400"/>
              <a:gd name="textAreaTop" fmla="*/ 2801160 h 2857320"/>
              <a:gd name="textAreaBottom" fmla="*/ 2857680 h 2857320"/>
            </a:gdLst>
            <a:ahLst/>
            <a:rect l="textAreaLeft" t="textAreaTop" r="textAreaRight" b="textAreaBottom"/>
            <a:pathLst>
              <a:path w="428625" h="2857500">
                <a:moveTo>
                  <a:pt x="0" y="2801144"/>
                </a:moveTo>
                <a:lnTo>
                  <a:pt x="293291" y="2801144"/>
                </a:lnTo>
                <a:lnTo>
                  <a:pt x="293291" y="183357"/>
                </a:lnTo>
                <a:lnTo>
                  <a:pt x="214313" y="183357"/>
                </a:lnTo>
                <a:lnTo>
                  <a:pt x="321469" y="0"/>
                </a:lnTo>
                <a:lnTo>
                  <a:pt x="428625" y="183357"/>
                </a:lnTo>
                <a:lnTo>
                  <a:pt x="349647" y="183357"/>
                </a:lnTo>
                <a:lnTo>
                  <a:pt x="349647" y="2857500"/>
                </a:lnTo>
                <a:lnTo>
                  <a:pt x="0" y="28575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10 CuadroTexto"/>
          <p:cNvSpPr/>
          <p:nvPr/>
        </p:nvSpPr>
        <p:spPr>
          <a:xfrm>
            <a:off x="5292360" y="620244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TRO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11 Flecha doblada hacia arriba"/>
          <p:cNvSpPr/>
          <p:nvPr/>
        </p:nvSpPr>
        <p:spPr>
          <a:xfrm>
            <a:off x="6715080" y="3571920"/>
            <a:ext cx="428760" cy="2857320"/>
          </a:xfrm>
          <a:custGeom>
            <a:avLst/>
            <a:gdLst>
              <a:gd name="textAreaLeft" fmla="*/ 0 w 428760"/>
              <a:gd name="textAreaRight" fmla="*/ 349920 w 428760"/>
              <a:gd name="textAreaTop" fmla="*/ 2801160 h 2857320"/>
              <a:gd name="textAreaBottom" fmla="*/ 2857680 h 2857320"/>
            </a:gdLst>
            <a:ahLst/>
            <a:rect l="textAreaLeft" t="textAreaTop" r="textAreaRight" b="textAreaBottom"/>
            <a:pathLst>
              <a:path w="428625" h="2857500">
                <a:moveTo>
                  <a:pt x="0" y="2801144"/>
                </a:moveTo>
                <a:lnTo>
                  <a:pt x="293291" y="2801144"/>
                </a:lnTo>
                <a:lnTo>
                  <a:pt x="293291" y="183357"/>
                </a:lnTo>
                <a:lnTo>
                  <a:pt x="214313" y="183357"/>
                </a:lnTo>
                <a:lnTo>
                  <a:pt x="321469" y="0"/>
                </a:lnTo>
                <a:lnTo>
                  <a:pt x="428625" y="183357"/>
                </a:lnTo>
                <a:lnTo>
                  <a:pt x="349647" y="183357"/>
                </a:lnTo>
                <a:lnTo>
                  <a:pt x="349647" y="2857500"/>
                </a:lnTo>
                <a:lnTo>
                  <a:pt x="0" y="28575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mparar Datos Experimentales y Teór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2" descr=""/>
          <p:cNvPicPr/>
          <p:nvPr/>
        </p:nvPicPr>
        <p:blipFill>
          <a:blip r:embed="rId1"/>
          <a:stretch/>
        </p:blipFill>
        <p:spPr>
          <a:xfrm>
            <a:off x="1785960" y="1928880"/>
            <a:ext cx="6608880" cy="4643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6T17:05:07Z</dcterms:created>
  <dc:creator>Uchile</dc:creator>
  <dc:description/>
  <dc:language>en-US</dc:language>
  <cp:lastModifiedBy> SBJ</cp:lastModifiedBy>
  <dcterms:modified xsi:type="dcterms:W3CDTF">2011-11-14T12:06:49Z</dcterms:modified>
  <cp:revision>29</cp:revision>
  <dc:subject/>
  <dc:title>Diapositiva 1</dc:title>
</cp:coreProperties>
</file>