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9AF-675E-4334-B97A-02AAD32B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FF7-AF0E-49A7-8DC1-8F961F6F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1ED-E205-47A8-A88D-D404CECC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408-019C-4E7B-8980-C0797F96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ADF0-8D22-4DB1-B4A0-B19B045C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C0BE-E602-498A-992E-C927E381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65F2-1AE2-4EA1-8976-9882E647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EF70-8017-4E02-874B-74610DFD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1B1-103E-4B44-9441-F942AE34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DCF4-31A3-4838-B5C2-D37B4864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8DE4-EC47-49D7-929E-0BC21D3C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03C-4132-479B-81F2-BE6AA159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660A-2E11-47D0-AAF9-3B8167CD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C01B-4233-457D-A579-F59422C8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5472-4D7D-4B4F-BE85-563C41BE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3E06-6063-47A2-A550-56742580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5693-D9DB-48CB-8C4C-BE4E847F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FA8-46B0-4A1A-B50D-5CC34231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171-CDBE-4353-BA14-BB8D8236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D76-DB7C-40FC-9F08-18F6194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BD2-63D5-4807-A593-9B5E582B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F16-A8C7-4E5F-AC09-CAF2EC5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CA2-C1A3-4C39-89BD-89D27131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E17-8491-49A8-823D-0AB20C34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4CAD-4423-43B3-88CA-FC9450626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2AD9-2CC5-4237-A3AB-8D0816FA8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360" y="2349360"/>
            <a:ext cx="6548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ermeabilidad en Macizos Rocos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4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teoría se puede extrapolar a un sistema de fracturas paralelas con frecuencia de fractura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tur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 que el coeficiente de permeabilidad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87280" y="2133720"/>
                <a:ext cx="1008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6720" y="1916280"/>
                <a:ext cx="107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940120" cy="268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56000" y="4797360"/>
                <a:ext cx="1584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561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92360" y="1568520"/>
                <a:ext cx="172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042920" y="2852640"/>
            <a:ext cx="75614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ótese que la permeabilidad depende linealmente de la frecuencia de fracturas (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, y es alt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sible a la abertura de las fracturas (e), en un factor cúb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implica que un set de fracturas muy abiertas, aún de baja frecuencia, puede controlar casi totalmente la permeabilidad del macizo rocos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ser muy sensible a la abertura, esto además implica que la permeabilidad es sensible al estado de esfuerzos in situ, ya que con esfuerzos altos las fracturas tienden a cerrar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850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s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042920" y="3141720"/>
                <a:ext cx="2190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489240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la discontinuidad es rugosa, entonces la abertura que permite el flujo será menor a la abertura “mecánica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176720" cy="3112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837320" y="467352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 abertura “efectiv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92040" y="342900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abertura mecán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define la “abertura hidráulica” o “efectiva”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o (Bandis et al., 1985; Barton 200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nde e y e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en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rugosidad importante, la permeabilidad se determina entonces p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050920" y="2852640"/>
                <a:ext cx="1438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C</m:t>
                            </m:r>
                          </m:e>
                          <m:sup>
                            <m:r>
                              <m:t xml:space="preserve">2,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505320" cy="151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800520" y="5140440"/>
                <a:ext cx="18302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ellen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presencia de relleno puede disminuir en gran medida la permeabilidad de un macizo rocoso. Para un sistema de fracturas rellenas, la permeabilidad se puede estimar como (Hoek &amp; Bray, 1981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987640" y="3357720"/>
                <a:ext cx="21607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900000" y="4437000"/>
            <a:ext cx="7775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f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coeficiente de permeabilidad del relleno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e la matriz rocosa (permeabilidad primaria), el que en las ecuaciones anteriores se había ignorado por ser muy menor respecto al de las fractur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endo las ecuaciones anteriores, una fórmula para estimar K en un macizo rocoso con tres sistemas de fracturas ortogonales y de igual frecuencia y abertura está dada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059280" y="3429000"/>
                <a:ext cx="24858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μb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4437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peso específico del agua y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coeficiente de viscosidad dinámica del agua (0,01005 g s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20º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caso general (sin isotropía), la permeabilidad se debe tratar como un tensor, cuyas componentes varían de acuerdo a las propiedades antes vistas y según un sistema de coorden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resolver el tensor, la herramienta utilizada es el uso de modelos numéricos, como elementos fini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30240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 términos escalares, la permeabilidad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se define com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eficiente de permeabilidad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o conductividad hidráulica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, se define co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nde         q: descarga específ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viscosidad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: peso específico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gradiente de pre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permeabilidad es independiente del fluido y tiene unidades de L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conductividad hidráulica depende del fluido y tiene dimensiones de velocidad (L/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627280" y="1916280"/>
                <a:ext cx="1224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72280" y="306864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89480" y="3068640"/>
                <a:ext cx="11538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309680" y="4579920"/>
                <a:ext cx="309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ey de Dar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flujos laminares, la ley de Darcy liga el flujo de agua (caudal) con el gradiente hidráu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16000" y="321300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84328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10200" y="3430440"/>
                <a:ext cx="1439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314720" y="4529160"/>
            <a:ext cx="40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: caudal (L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/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: Area transversal al flu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: gradiente hidráulico =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/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en Ro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912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Primari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 la matriz roco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Secunda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l macizo roc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69480" y="4292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riz Rocosa + Discontinuidades = Macizo Roc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79480" y="4797000"/>
            <a:ext cx="2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9600" y="5373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pri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460920" y="4726080"/>
            <a:ext cx="215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58680" y="537372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secund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mayoría de las aplicaciones ingenieriles, la permeabilidad secundaria es la más relevante. En algunos casos, como geología e ingeniería del petróleo, es de interés la permeabilidad prim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032360" cy="2838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2120" y="3068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permeabilidad primaria o secundari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Prim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805040" y="1905120"/>
            <a:ext cx="5533920" cy="3913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421240" y="589752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nzález de Vallejo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Secund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 fuertemente influenciada por el fracturamiento y las características del macizo rocoso, en espe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ntidad (frecuencia) y orientación de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abertura y rugosidad de las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tado de esfuerz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general, a mayor profundidad, mayores son los esfuerzos normales a las fracturas, estas son más cerradas, y la permeabilidad secundaria es menor y más similar a la prim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ngos de coeficientes de permeabilid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038840" cy="4014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991240" y="58770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sherwood, 1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70000" y="59691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ek &amp; Bray, 19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780080" y="2208240"/>
            <a:ext cx="38923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Discontinuida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odelo más simple es el de agua que fluye entre dos placas pulidas parale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e caso, la Ley de Darcy se puede expresar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diferencia de carga entre dos secciones (inicial y final)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llamada “conductancia”, definida 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195640" y="3068640"/>
                <a:ext cx="1224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5280" y="4724280"/>
                <a:ext cx="1295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066560" y="4673520"/>
            <a:ext cx="47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aceleración de grav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: abertura entre las dos pla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viscosidad cinemática (en agua ~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: Largo de las placas en dirección del flu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7:28:05Z</dcterms:created>
  <dc:creator>Sergio Sepúlveda</dc:creator>
  <dc:description/>
  <dc:language>en-US</dc:language>
  <cp:lastModifiedBy>Sergio Sepúlveda</cp:lastModifiedBy>
  <dcterms:modified xsi:type="dcterms:W3CDTF">2010-08-30T15:18:43Z</dcterms:modified>
  <cp:revision>6</cp:revision>
  <dc:subject/>
  <dc:title>Permeabilidad en Macizos Rocosos</dc:title>
</cp:coreProperties>
</file>