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A0A80-D968-4696-B4FF-3B433EEE1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FB761-68AE-4FD0-A7CF-D20FB3846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039D5-CBBB-4934-BBB2-82BC21B79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CF4CB-240E-45B5-A068-2315D16FB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65796-8F23-42B0-83B6-E235E5D7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4BF49-2052-4577-A232-3F73306E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DB6B6-2639-453B-9E59-897B0A9E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AB1BB-DF9A-4648-8E0C-156C321E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9B52E-2787-43BF-A8F8-3D32D9CC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A1978-6093-41ED-9573-94B5E945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FF8DE-0476-4F71-AC83-ADBF35BA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F1F4B-0084-484E-9BF7-6050D5F2A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CD7D5-E6B5-4DCE-82DD-4106BE1C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AD421-407F-4DA0-A446-5A605C4D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25CD7-10DA-44E5-8FA6-AF09F539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64CC5-1C22-4A9A-86B7-19639BA6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B1470-513C-4A8D-B6A3-EC492335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DC64A-2A8F-44C5-B5AF-B2533AE55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54440-470E-41DA-872F-FD20725D7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9BEF1-8E48-4CAB-B01D-CD69BB76C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F2025-B8E6-4AFE-8E70-54C6AF10C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9E8C1-8E12-4162-8BD8-876217194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48793-C14B-4E3A-B217-1F37AF704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FE62-1C2E-415A-A8FF-C2C2E9709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2696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3203-3835-431F-B839-F4CEE9B3B20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3C46-24CD-4F03-BE6D-E0D3AC6BC233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4290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: La Función de Op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blecer políticas administrativas y desarrollar recursos necesarios para satisfacer requerimientos consistentes con meta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r metas, recursos necesarios y políticas básicas para el éxi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para asegurar la obtención y uso  eficiente de recursos para cumplir obje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ción agregada (anual), decisiones de producción, personal, inventario, marketing, finanza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08CE7-BDAE-46F7-BBB4-15437069EF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adas a tareas específicas, a lo que se hace día a d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677E-CCFB-4636-ABB5-9D1624FF49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53D73-9D91-4EF2-9D6E-F4339E307B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conceptos de largo, mediano y corto plazo son relativos al período que toma cada ciclo del negocio. La magnitud de éstos cambia según la indust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Electrónica de Consu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de Retail (Supermercad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factor “Incertidumbre” está presente en toda decisión y puede llegar a ser muy importante. Además varía según el nivel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0015F-CB0D-463B-9C65-5904239E05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tipo de electrodomésticos fabricaremos y comercializaremo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ubicaremos nuestros restaurant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roducir en los próximos 12 mese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ersonal contrataremos para la temporada de ventas alta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a materia prima importada necesitamos para el próximo perío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70C7C-12E8-45E4-A0B9-366A3935EB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l es el número de camiones necesarios para transportar fruta en la siguiente tempora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trabajos a maquinaria en fábricas (¿Qué hacer, y en qué máquinas, las próximas 2 horas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didos de repuestos y materias pri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vehículos (¿Qué camiones despachamos durante la próxima hora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producción de leche y queso en una planta (¿Cuánto producir hoy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0C376-F034-41BA-9D75-1E972F478E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regación y desagregación de información y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71600" y="3047760"/>
            <a:ext cx="7229160" cy="2925720"/>
            <a:chOff x="1371600" y="3047760"/>
            <a:chExt cx="7229160" cy="2925720"/>
          </a:xfrm>
        </p:grpSpPr>
        <p:grpSp>
          <p:nvGrpSpPr>
            <p:cNvPr id="143" name=""/>
            <p:cNvGrpSpPr/>
            <p:nvPr/>
          </p:nvGrpSpPr>
          <p:grpSpPr>
            <a:xfrm>
              <a:off x="1846080" y="3047760"/>
              <a:ext cx="6308640" cy="2925720"/>
              <a:chOff x="1846080" y="3047760"/>
              <a:chExt cx="6308640" cy="292572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4131720" y="3048120"/>
                <a:ext cx="1554120" cy="2651040"/>
                <a:chOff x="4131720" y="3048120"/>
                <a:chExt cx="1554120" cy="26510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131720" y="304812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ESTRATEG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131720" y="405360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TACT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131720" y="505944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OPERATIV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497120" y="36874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4497120" y="469332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320080" y="368784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320080" y="46936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2302920" y="323064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Larg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302920" y="405360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Median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02920" y="524232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ort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76012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276012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30876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0876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60520" y="3048120"/>
                <a:ext cx="182844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Objetiv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liente - Produc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143400" y="4053600"/>
                <a:ext cx="155412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Uso Eficiente de Recurs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69080" y="5059440"/>
                <a:ext cx="2102760" cy="9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Acciones sobre recursos, productos y ag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641736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641736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4032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24032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1846080" y="3047760"/>
                <a:ext cx="0" cy="274284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154720" y="3048120"/>
                <a:ext cx="0" cy="26514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rot="16200000">
              <a:off x="655920" y="4259520"/>
              <a:ext cx="179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INFORMA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18000">
              <a:off x="7787160" y="4188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DEC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DFDFA-F2F1-4F83-B3E6-9814653BFD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 de la relación entre los distintos niveles: Fábrica de Zapa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Estratég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rcado a acce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ción anu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se hace mañana.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necesario que exista consistencia entre las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ED777-1F29-429A-ACD5-DD33ACAB4C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Industria de Electrodomésticos (Manufactur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mercados queremos “atacar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tener ideas de lo que el mercado necesita y su potencial deman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 implementar la forma de fabricar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dir si se necesitarán nuevas instalaciones, de qué características y en qué lug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E202A-87D0-47DA-AD1D-0D95ED9D2C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producción, hacer planes sobre requerimientos para los próximos doce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mana a semana programar todos los procesos para cumplir con los pla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 a día “apagar los incendios” que se produzc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cer llegar los pedidos a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los requerimientos de servicios en garantía y de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4778-D054-4420-8295-2571400474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Qué es la Gestión de Opera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o de los conceptos, métodos y herramientas necesarias para enfrentar y resolver los problemas relacionados a la producción de BIENE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encuentra al centro de toda organización produc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empresa tiene algo que vender o proveer (satisfacer una  necesidad) y esto debe ser produ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27042-257A-4598-9BBC-F9F08B973B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Industria Comida Rápida         (Servici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el mercado que se quiere atac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tipo de comidas ofrecer y cuál será el “tamaño” d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los distintos menú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 cómo se preparará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as instalaciones: cuántos restaurantes tendremos y dón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C5180-76F5-4EB7-BCC2-555B65AF50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os equipos y tecnología que necesitare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funcionamiento, hacer planes sobre los requerimientos para los próximos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a día, coordinar todo, controlarlo todo y cumplir con la atención adecuada a nuestr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tener abastecidos a los diversos locales desde nuestras bodegas centr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reclamos y sugerenc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5F230-31AA-4A2E-94AE-91EC05B8B2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ay que tener en cuenta que existen decisiones que son comunes para manufacturas y servic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ar mercados y su tamaño: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productos y 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instalaciones, equipos, tecnología y financia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r” para los próximos meses o perí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olver los problemas de “logística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3065-8AED-4292-B21C-DD48163353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r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r la calidad de los producto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adecuadamente  a los clientes, en la venta y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350CC-6000-4DF6-A7B3-7ED175154C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Gestión de Operaciones abarca todos los temas anteriores, aunque algunos parezcan de otros ámbi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visión moderna se orienta a analizar y administrar las operaciones en forma integral y global a nivel de toda la empresa (y en algunos casos a nivel de toda la cadena de agregación de valo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7977-CAF4-4C1F-A6BA-E5AC2C2956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visión moderna va entonces mucho más allá de la tradicional “producción manufacturera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ólo teniendo en cuenta lo anterior se puede lograr la EXCEL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6491E-5F29-4953-BC4D-970161103E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 Definición del Problema (¿Qué tipo de decisión es?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 Gener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 Evalu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 Selec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 Imple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C9C07-475B-4A51-BAAB-0B3D005C6A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riterios de elección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a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nfia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Trade-off o intercambi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Múltiples objetivos (institucionales vs personales)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Riesg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BNA, crecimiento, prestigio, porcentaje de mercado, etc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CC8ED-0B06-4B16-9F69-F528F0B03F1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rtir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$100.0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ernativa 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ernativa B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8% con probabilidad 0.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0% con probabilidad 0.5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2% con probabilidad 0.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maximizar el retorno esperado, elegir B (10,2%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quiere minimizar el riesgo, elegir 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6056-E5A6-4EEE-8BE0-3BF3572B914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o estaría dispuesto a pagar por información adicional (IPC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ólo vale si se nos dice 8%, me cambio de B a A con una ganancia de $2.000 con probabilidad 0.2, es decir con un valor de $400 (2.000*0.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nformación sólo vale en la medida que mejore las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A5CA0-F383-4389-8438-F9D09EC5300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52000" y="2819520"/>
            <a:ext cx="4596480" cy="2189520"/>
            <a:chOff x="1152000" y="2819520"/>
            <a:chExt cx="4596480" cy="2189520"/>
          </a:xfrm>
        </p:grpSpPr>
        <p:sp>
          <p:nvSpPr>
            <p:cNvPr id="104" name=""/>
            <p:cNvSpPr/>
            <p:nvPr/>
          </p:nvSpPr>
          <p:spPr>
            <a:xfrm>
              <a:off x="1152000" y="2819520"/>
              <a:ext cx="153108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INSUM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no de O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91120" y="2819520"/>
              <a:ext cx="155736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RODUCT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3505320"/>
              <a:ext cx="1371600" cy="76176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629400" y="3962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SERVICI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rr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1676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BIE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elul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ue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Zap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r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1523880"/>
            <a:ext cx="2209680" cy="4800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C7DA0-9D4B-4998-BC44-98F56109E5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ción artesanal de comienzos de sig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ción en línea (Ford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ndariz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siv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ser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fic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o flex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digma hasta 197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63606-D019-4008-A761-44D5BFC346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volución Japones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 que no aporta valor agregado es desperdic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iezas falla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exibilidad: ajuste rápido a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so bicicletas en Jap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so Aserrad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: cumplir con las expectativas de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an Manufacturing, Total Quality y Just in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02F08-3761-4FD4-ADDF-D79A79FC75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en la 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lexibilidad en la respues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muchos casos uso de Sistemas Computacionales y 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3432B-43C9-4DF7-9932-A8FE6F8C83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os Paradigmas de Ho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 Total y Mejoramiento Continu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 Ajustada (Lean Produ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ust in Time (JI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ingenier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 integral de la cadena de agregación de valor (Suma Positiv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o integrado para la calidad y la manufactura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, CAM, CAE, CI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apoyo a la toma de decisiones (MRP, ERP, et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624E6-3E34-40D5-A850-370E26A55D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v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leva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servicios son cada vez un componente más importante de la econom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odo negocio tiene componentes de SERVICIO  y componentes MANUFACTURERAS (pocas excepcion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CONTINUO DE LAS OPERA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05120" y="5029200"/>
            <a:ext cx="6618600" cy="1069200"/>
            <a:chOff x="1905120" y="5029200"/>
            <a:chExt cx="6618600" cy="1069200"/>
          </a:xfrm>
        </p:grpSpPr>
        <p:sp>
          <p:nvSpPr>
            <p:cNvPr id="121" name=""/>
            <p:cNvSpPr/>
            <p:nvPr/>
          </p:nvSpPr>
          <p:spPr>
            <a:xfrm>
              <a:off x="1905120" y="502920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Manufactura P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75800" y="5029200"/>
              <a:ext cx="23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Servicios Pu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21240" y="5638680"/>
              <a:ext cx="30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Operaciones Mix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7400" y="5562720"/>
              <a:ext cx="6324120" cy="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5AF26-4163-48D5-906A-DBDAE6C1DF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v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cliente es parte integral del proceso de negocios (Una radio se puede fabricar sin el cliente, en cambio un corte de pelo no se puede realizar sin és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servicios son intangi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se pueden almacen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cupan una dimensión temporal: Se producen en el mismo momento en que se entregan al cl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elen ser más intensivos en mano de o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932FD-1A32-4925-BCDC-C6E7FA2AD0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dii</cp:lastModifiedBy>
  <cp:lastPrinted>2001-04-12T20:51:56Z</cp:lastPrinted>
  <dcterms:modified xsi:type="dcterms:W3CDTF">2004-03-08T15:30:05Z</dcterms:modified>
  <cp:revision>155</cp:revision>
  <dc:subject/>
  <dc:title>Comercio Electrónico</dc:title>
</cp:coreProperties>
</file>