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17178-F742-4306-AC20-F9C0121D0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F0F16-4360-480B-897F-5C5699A44ED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DB230-D9D9-4BBB-8EB0-03E3274611A9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48CD9A-7D6F-44C9-8EA0-2EEC4DD5DCF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384AB-E987-4B03-8A42-3FD509A1DF2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FB3BB-7BA1-441B-BDBB-2DE7D0760E6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1A029-20F1-473C-B1AB-A51188E6E46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B84EAE-18BD-4A21-A0E2-C0A6B16D4D8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21D0B-9D8F-41C1-A525-A2B6FE955D8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85852-693A-4E31-8677-B70F7293830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B7D79-9D0A-4D8A-ACD8-76C9D252E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412D4-F00D-40D1-9CD9-A70A3CAD1AE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B22B-4C96-4AB1-962D-67A9F6EC8DF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2E8E3-2047-4802-95B9-E44B6BECEC3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E20C1-FA16-4D4C-A04F-2D0131476FE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B60B-8D0E-496B-B93D-ED70F673B3F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5509-F90F-4CF4-84ED-FBD834D45D5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367C-EF8C-4DEE-9588-DF5E99540BD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34787-0A69-445F-94A4-21183CC22CF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0696-8986-46F6-A96E-6EBA089DF5B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655C-B5F3-4E30-8FDA-1EFA6F9F4F3C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C5D3D-E2F2-4751-A71B-C56A8FCB3B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9CDF-A198-42F3-A9E7-5FC9EEDADD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D86B-7B33-4A69-AC7F-A41CA7E3DD4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A92A-1332-4256-97FA-E47241D3A97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90F95-D877-4A7B-8FCD-466CC6DB4A4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4C29C-16BD-4D70-8F20-AFB87560D71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E06A4-64D0-4543-9848-D29DACCDC2A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19BAF-4AAD-4515-BDD9-AAC6617253F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95B28-754E-4D9B-9C74-1CC89427941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F73FE-8745-430F-95F2-D56CA1A4A88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BDFDE-E591-4B84-AECA-6D34A7661CC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B032C-F20F-43E1-BFA0-FC42B6F51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86A4F-1E6A-4C31-BAB3-E1E829B4999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FE8DF-C114-4B76-A8C3-23E20530DE3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AE380-0493-4427-AAC4-F8018E76119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0B9-587F-42EE-B20D-6317B77C559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9EB7-CD5D-4990-ADCD-4698243830A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EF02-3A24-4D0D-BB6D-4FCECEA1433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C5F-CEC8-4BBF-BC2A-668B832C266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244-0E84-456C-B879-29C1781EFA4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E4A3-CFD5-40E6-89BF-EE67307AEED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1349-67DC-4951-BCC3-0183963B8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0FD3-AFE1-44B2-804F-B5D0EED8BC0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B406-09FA-404F-97EA-797E4E2E788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8206-2455-4249-ABC8-1A80B1BF996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57A7-71C2-4C37-BDFA-635AB3108BF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9923-CFCA-4F00-84D1-017235439AC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736200" y="177840"/>
            <a:ext cx="76834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736200" y="4039200"/>
            <a:ext cx="768348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520" y="194292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620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3520" y="4039200"/>
            <a:ext cx="374940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3432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32080" y="194292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73620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3432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32080" y="4039200"/>
            <a:ext cx="2473920" cy="1914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03320" y="3683160"/>
            <a:ext cx="7416720" cy="185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3320" y="5524560"/>
            <a:ext cx="7416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0"/>
          </a:bodyPr>
          <a:p>
            <a:pPr marL="102600" indent="-10260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222840" indent="-8568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342720" indent="-6840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479880" indent="-684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617040" indent="-6840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617040" indent="-6840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617040" indent="-6840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3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marL="388440" indent="-388440">
              <a:spcBef>
                <a:spcPts val="22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742680" indent="-3884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1143000" indent="-3888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542960" indent="-3888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942920" indent="-3884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942920" indent="-3884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942920" indent="-3884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sldNum" idx="4"/>
          </p:nvPr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5FA2-4DB1-42AE-ADF0-4651149334D9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3320" y="2514240"/>
            <a:ext cx="7416720" cy="1854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34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74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14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4a7594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4a7594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4a7594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54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body"/>
          </p:nvPr>
        </p:nvSpPr>
        <p:spPr>
          <a:xfrm>
            <a:off x="1002960" y="5702400"/>
            <a:ext cx="7620120" cy="52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d5d4d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 marL="88920" indent="-34200">
              <a:buClr>
                <a:srgbClr val="d5d4d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 marL="137160" indent="-27360">
              <a:buClr>
                <a:srgbClr val="d5d4d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 marL="191880" indent="-27360">
              <a:buClr>
                <a:srgbClr val="d5d4d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 marL="246600" indent="-27360">
              <a:buClr>
                <a:srgbClr val="d5d4d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95" name="Line 3"/>
          <p:cNvSpPr/>
          <p:nvPr/>
        </p:nvSpPr>
        <p:spPr>
          <a:xfrm>
            <a:off x="195120" y="627372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96" name="Line 4"/>
          <p:cNvSpPr/>
          <p:nvPr/>
        </p:nvSpPr>
        <p:spPr>
          <a:xfrm>
            <a:off x="3695760" y="6261120"/>
            <a:ext cx="0" cy="41904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97" name="Line 5"/>
          <p:cNvSpPr/>
          <p:nvPr/>
        </p:nvSpPr>
        <p:spPr>
          <a:xfrm>
            <a:off x="195120" y="505476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1002960" y="4990680"/>
            <a:ext cx="7620120" cy="72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body"/>
          </p:nvPr>
        </p:nvSpPr>
        <p:spPr>
          <a:xfrm>
            <a:off x="1002960" y="5702400"/>
            <a:ext cx="7620120" cy="520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d5d4d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Click to edit the outline text format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1" marL="88920" indent="-34200">
              <a:buClr>
                <a:srgbClr val="d5d4d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econd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2" marL="137160" indent="-27360">
              <a:buClr>
                <a:srgbClr val="d5d4d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Third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3" marL="191880" indent="-27360">
              <a:buClr>
                <a:srgbClr val="d5d4d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Four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4" marL="246600" indent="-27360">
              <a:buClr>
                <a:srgbClr val="d5d4d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Fif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ix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5d4d6"/>
                </a:solidFill>
                <a:latin typeface="Helvetica Neue Bold Condensed"/>
              </a:rPr>
              <a:t>Seventh Outline Level</a:t>
            </a:r>
            <a:endParaRPr b="0" lang="en-US" sz="3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636" name="Rectangle 2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37" name="Line 3"/>
          <p:cNvSpPr/>
          <p:nvPr/>
        </p:nvSpPr>
        <p:spPr>
          <a:xfrm>
            <a:off x="195120" y="627372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38" name="Line 4"/>
          <p:cNvSpPr/>
          <p:nvPr/>
        </p:nvSpPr>
        <p:spPr>
          <a:xfrm>
            <a:off x="3695760" y="6261120"/>
            <a:ext cx="0" cy="41904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39" name="Line 5"/>
          <p:cNvSpPr/>
          <p:nvPr/>
        </p:nvSpPr>
        <p:spPr>
          <a:xfrm>
            <a:off x="195120" y="505476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title"/>
          </p:nvPr>
        </p:nvSpPr>
        <p:spPr>
          <a:xfrm>
            <a:off x="1002960" y="4990680"/>
            <a:ext cx="7620120" cy="723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78" name="Line 2"/>
          <p:cNvSpPr/>
          <p:nvPr/>
        </p:nvSpPr>
        <p:spPr>
          <a:xfrm>
            <a:off x="195120" y="5880240"/>
            <a:ext cx="8759880" cy="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body"/>
          </p:nvPr>
        </p:nvSpPr>
        <p:spPr>
          <a:xfrm>
            <a:off x="254160" y="6337440"/>
            <a:ext cx="7619760" cy="304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2000"/>
          </a:bodyPr>
          <a:p>
            <a:pPr marL="41040" indent="-4104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88920" indent="-3420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137160" indent="-27360"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91880" indent="-27360"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246600" indent="-27360"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246600" indent="-27360"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title"/>
          </p:nvPr>
        </p:nvSpPr>
        <p:spPr>
          <a:xfrm>
            <a:off x="254160" y="5879880"/>
            <a:ext cx="7619760" cy="469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28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388440" indent="-388440">
              <a:spcBef>
                <a:spcPts val="22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742680" indent="-3884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1143000" indent="-3888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542960" indent="-3888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942920" indent="-3884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942920" indent="-3884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942920" indent="-3884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1"/>
          </p:nvPr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1671-0FEC-49CC-B9CE-08987CD71459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36200" y="1942920"/>
            <a:ext cx="37465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236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6188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95256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28592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61892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6200" y="1422000"/>
            <a:ext cx="3746520" cy="2019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5d4d6"/>
                </a:solidFill>
                <a:latin typeface="Helvetica Neue Bold Condensed"/>
              </a:rPr>
              <a:t>Click to edit the title text format</a:t>
            </a:r>
            <a:endParaRPr b="0" lang="en-US" sz="54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36200" y="3429000"/>
            <a:ext cx="3746520" cy="2006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marL="226080" indent="-22608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Click to edit the outline text format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1" marL="490320" indent="-18864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con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2" marL="754200" indent="-15084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Third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3" marL="1055880" indent="-15084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our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4" marL="1357560" indent="-150840">
              <a:lnSpc>
                <a:spcPct val="110000"/>
              </a:lnSpc>
              <a:buClr>
                <a:srgbClr val="5483a6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Fif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5" marL="1357560" indent="-150840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ix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  <a:p>
            <a:pPr lvl="6" marL="1357560" indent="-150840">
              <a:lnSpc>
                <a:spcPct val="110000"/>
              </a:lnSpc>
              <a:buClr>
                <a:srgbClr val="4a7594"/>
              </a:buClr>
              <a:buFont typeface="Helvetica Neue Bold Condense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83a6"/>
                </a:solidFill>
                <a:latin typeface="Helvetica Neue Bold Condensed"/>
              </a:rPr>
              <a:t>Seventh Outline Level</a:t>
            </a:r>
            <a:endParaRPr b="0" lang="en-US" sz="24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660560" y="1942920"/>
            <a:ext cx="37465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236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6188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95256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28592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61892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36200" y="1041480"/>
            <a:ext cx="7683480" cy="478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392760" indent="-392760">
              <a:spcBef>
                <a:spcPts val="33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750960" indent="-392760">
              <a:spcBef>
                <a:spcPts val="33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1155600" indent="-393120">
              <a:spcBef>
                <a:spcPts val="33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560240" indent="-393120">
              <a:spcBef>
                <a:spcPts val="33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964520" indent="-392760">
              <a:spcBef>
                <a:spcPts val="33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964520" indent="-392760">
              <a:spcBef>
                <a:spcPts val="3399"/>
              </a:spcBef>
              <a:buClr>
                <a:srgbClr val="4a7594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964520" indent="-392760">
              <a:spcBef>
                <a:spcPts val="3399"/>
              </a:spcBef>
              <a:buClr>
                <a:srgbClr val="4a7594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ldNum" idx="2"/>
          </p:nvPr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72A6-5C27-4CB3-869F-012985349B1D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Num" idx="3"/>
          </p:nvPr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721B-C4C1-4EB9-AC86-CCDA55E106A2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36200" y="1942920"/>
            <a:ext cx="374652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3236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lick to edit the outline text format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61884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con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2" marL="95256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Third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3" marL="1285920" indent="-32400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our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4" marL="1618920" indent="-323640">
              <a:spcBef>
                <a:spcPts val="2299"/>
              </a:spcBef>
              <a:buClr>
                <a:srgbClr val="646461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Fif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5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x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6" marL="1618920" indent="-323640">
              <a:spcBef>
                <a:spcPts val="2299"/>
              </a:spcBef>
              <a:buClr>
                <a:srgbClr val="4a7594"/>
              </a:buClr>
              <a:buSzPct val="77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eventh Outline Level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36200" y="2577600"/>
            <a:ext cx="7683480" cy="1714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35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lick to edit the title text format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98680" y="3568320"/>
            <a:ext cx="7416720" cy="100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5d4d6"/>
                </a:solidFill>
                <a:latin typeface="Helvetica Neue Bold Condensed"/>
              </a:rPr>
              <a:t>Rediseño de Procesos</a:t>
            </a:r>
            <a:endParaRPr b="0" lang="en-US" sz="5200" spc="-1" strike="noStrike">
              <a:solidFill>
                <a:srgbClr val="d5d4d6"/>
              </a:solidFill>
              <a:latin typeface="Helvetica Neue Bold Condense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689120" y="5257800"/>
            <a:ext cx="4216320" cy="123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83a6"/>
                </a:solidFill>
                <a:latin typeface="Helvetica Neue Bold Condensed"/>
              </a:rPr>
              <a:t>Sistemas de Información Administrativos</a:t>
            </a:r>
            <a:endParaRPr b="0" lang="en-US" sz="18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Departamento de Ingeniería Industrial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483a6"/>
                </a:solidFill>
                <a:latin typeface="Helvetica Neue Bold Condensed"/>
              </a:rPr>
              <a:t>Universidad de Chile</a:t>
            </a:r>
            <a:endParaRPr b="0" lang="en-US" sz="1600" spc="-1" strike="noStrike">
              <a:solidFill>
                <a:srgbClr val="5483a6"/>
              </a:solidFill>
              <a:latin typeface="Helvetica Neue Bold Condensed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83a6"/>
                </a:solidFill>
                <a:latin typeface="Helvetica Neue Bold Condensed"/>
              </a:rPr>
              <a:t>Derechos Reservados (c)</a:t>
            </a:r>
            <a:endParaRPr b="0" lang="en-US" sz="1200" spc="-1" strike="noStrike">
              <a:solidFill>
                <a:srgbClr val="5483a6"/>
              </a:solidFill>
              <a:latin typeface="Helvetica Neue Bold Condense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34BA-83B1-4631-B967-24371D93BD86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Nivel operativo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9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I que hacen al seguimiento de las actividades y las transacciones elementales de la organización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¿Que cantidad del producto SKU 12-45-89 hay en la bodega 6?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¿Que ocurrió con el pago de...?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0ED8-F1DC-4F7E-9E9A-B794CD199A56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2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3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4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Nivel de manejo de información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5105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46461"/>
                </a:solidFill>
                <a:latin typeface="Helvetica Neue"/>
              </a:rPr>
              <a:t>SI en los que se apoyan a los trabajadores con el conocimiento y de la información de la institución.</a:t>
            </a:r>
            <a:endParaRPr b="0" lang="en-US" sz="34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¿Que tal si agregamos el producto.....?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46461"/>
                </a:solidFill>
                <a:latin typeface="Helvetica Neue"/>
              </a:rPr>
              <a:t>¿Que tal si modificamos la presentación del producto....?</a:t>
            </a:r>
            <a:endParaRPr b="0" lang="en-US" sz="30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C9FD-618E-4E60-8FDE-EE6310BF5E39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09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0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437760" y="1663560"/>
            <a:ext cx="8255160" cy="4572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7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 en los que se apoya el seguimiento, control, toma de decisiones y actividades de la organización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Todo marcha bien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Cómo estamos con respecto al mes-bimestre-semestre-año... Anterior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Qué pasa si...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Cuál seria el impacto sobre el Dpto. de producción si se duplican las ventas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Es necesario crear una nueva area de...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Nivel de gestión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61B9-9B55-4F03-81E8-9BCE10ADDD93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4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5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6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7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I que apoya a las actividades de plantación a largo plazo de los niveles de dirección de la institución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Cuáles serian los niveles de empleo en 5 años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Cuáles serán las tendencias de costo en un plazo de 5 años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876240" indent="-431640">
              <a:spcBef>
                <a:spcPts val="22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¿Qué producto estaremos fabricando en 5 años?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Nivel estratégico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DD6C-EF25-485D-92D0-679296D4390D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01240" y="76320"/>
            <a:ext cx="8877240" cy="19303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4a7594"/>
                </a:solidFill>
                <a:latin typeface="Helvetica Neue Light"/>
              </a:rPr>
              <a:t>Funciones Básicas de Administración en la Organización</a:t>
            </a:r>
            <a:endParaRPr b="0" lang="en-US" sz="46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120" y="2273040"/>
            <a:ext cx="8077320" cy="335268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/>
          </a:bodyPr>
          <a:p>
            <a:pPr marL="384120" indent="-34272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Planificación: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es el establecimiento de objetivos funcionales y subfuncionales de la organización, con su correspondiente seguimiento, y determinación de cursos de acción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lvl="1" marL="784080" indent="-28548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Niveles de Planificación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  <a:p>
            <a:pPr lvl="1" marL="784080" indent="-28548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</a:rPr>
              <a:t>Iteración de Procesos de Planificación </a:t>
            </a:r>
            <a:endParaRPr b="0" lang="en-US" sz="20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FB38-E85A-4383-83E3-DEF74D8F246D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66800" y="205920"/>
            <a:ext cx="781056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Funciones Básicas II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30040" y="3733560"/>
            <a:ext cx="8661600" cy="26161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/>
          </a:bodyPr>
          <a:p>
            <a:pPr marL="384120" indent="-34272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Estructura: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esquema formal de relaciones entre las componentes de una organización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4120" indent="-342720">
              <a:spcBef>
                <a:spcPts val="2299"/>
              </a:spcBef>
              <a:buClr>
                <a:srgbClr val="646461"/>
              </a:buClr>
              <a:buSzPct val="170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                 </a:t>
            </a:r>
            <a:r>
              <a:rPr b="0" lang="en-US" sz="1700" spc="-1" strike="noStrike">
                <a:solidFill>
                  <a:srgbClr val="646461"/>
                </a:solidFill>
                <a:latin typeface="Helvetica Neue"/>
              </a:rPr>
              <a:t>Descomposición Funcional o de Proceso de la Organización</a:t>
            </a:r>
            <a:endParaRPr b="0" lang="en-US" sz="17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31" name="Oval 6"/>
          <p:cNvSpPr/>
          <p:nvPr/>
        </p:nvSpPr>
        <p:spPr>
          <a:xfrm>
            <a:off x="4299120" y="12319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2" name="Oval 7"/>
          <p:cNvSpPr/>
          <p:nvPr/>
        </p:nvSpPr>
        <p:spPr>
          <a:xfrm>
            <a:off x="2470320" y="2146320"/>
            <a:ext cx="368280" cy="291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3" name="Oval 8"/>
          <p:cNvSpPr/>
          <p:nvPr/>
        </p:nvSpPr>
        <p:spPr>
          <a:xfrm>
            <a:off x="4222800" y="2146320"/>
            <a:ext cx="444600" cy="291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4" name="Oval 9"/>
          <p:cNvSpPr/>
          <p:nvPr/>
        </p:nvSpPr>
        <p:spPr>
          <a:xfrm>
            <a:off x="5823000" y="2146320"/>
            <a:ext cx="444600" cy="291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5" name="Oval 10"/>
          <p:cNvSpPr/>
          <p:nvPr/>
        </p:nvSpPr>
        <p:spPr>
          <a:xfrm>
            <a:off x="1555920" y="30607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6" name="Oval 11"/>
          <p:cNvSpPr/>
          <p:nvPr/>
        </p:nvSpPr>
        <p:spPr>
          <a:xfrm>
            <a:off x="3003480" y="30607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7" name="Oval 12"/>
          <p:cNvSpPr/>
          <p:nvPr/>
        </p:nvSpPr>
        <p:spPr>
          <a:xfrm>
            <a:off x="5289480" y="30607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8" name="Oval 13"/>
          <p:cNvSpPr/>
          <p:nvPr/>
        </p:nvSpPr>
        <p:spPr>
          <a:xfrm>
            <a:off x="6280200" y="3060720"/>
            <a:ext cx="368280" cy="368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39" name="Line 14"/>
          <p:cNvSpPr/>
          <p:nvPr/>
        </p:nvSpPr>
        <p:spPr>
          <a:xfrm flipH="1">
            <a:off x="2768400" y="1530360"/>
            <a:ext cx="152388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0" name="Line 15"/>
          <p:cNvSpPr/>
          <p:nvPr/>
        </p:nvSpPr>
        <p:spPr>
          <a:xfrm>
            <a:off x="4673520" y="1530360"/>
            <a:ext cx="12193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1" name="Line 16"/>
          <p:cNvSpPr/>
          <p:nvPr/>
        </p:nvSpPr>
        <p:spPr>
          <a:xfrm flipH="1">
            <a:off x="1854360" y="2444760"/>
            <a:ext cx="76176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2" name="Line 17"/>
          <p:cNvSpPr/>
          <p:nvPr/>
        </p:nvSpPr>
        <p:spPr>
          <a:xfrm>
            <a:off x="2616120" y="2444760"/>
            <a:ext cx="53352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3" name="Line 18"/>
          <p:cNvSpPr/>
          <p:nvPr/>
        </p:nvSpPr>
        <p:spPr>
          <a:xfrm>
            <a:off x="4444920" y="1606680"/>
            <a:ext cx="180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4" name="Line 19"/>
          <p:cNvSpPr/>
          <p:nvPr/>
        </p:nvSpPr>
        <p:spPr>
          <a:xfrm flipH="1">
            <a:off x="5587920" y="2444760"/>
            <a:ext cx="45720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5" name="Line 20"/>
          <p:cNvSpPr/>
          <p:nvPr/>
        </p:nvSpPr>
        <p:spPr>
          <a:xfrm>
            <a:off x="6045120" y="2444760"/>
            <a:ext cx="38124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6" name="Rectangle 21"/>
          <p:cNvSpPr/>
          <p:nvPr/>
        </p:nvSpPr>
        <p:spPr>
          <a:xfrm>
            <a:off x="6874920" y="1336680"/>
            <a:ext cx="152820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t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Sistem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Subsistem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Subsistema 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Elemental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EE1F-3BEB-43AE-9E4F-148A1E1F132C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49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50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851" name="Picture 4" descr=""/>
          <p:cNvPicPr/>
          <p:nvPr/>
        </p:nvPicPr>
        <p:blipFill>
          <a:blip r:embed="rId1"/>
          <a:stretch/>
        </p:blipFill>
        <p:spPr>
          <a:xfrm>
            <a:off x="1332000" y="1622520"/>
            <a:ext cx="7173720" cy="4441680"/>
          </a:xfrm>
          <a:prstGeom prst="rect">
            <a:avLst/>
          </a:prstGeom>
          <a:ln w="0">
            <a:noFill/>
          </a:ln>
        </p:spPr>
      </p:pic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82520" y="231480"/>
            <a:ext cx="781056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Estructura Funcional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8864-3724-4486-ACB9-49DDDD17B3A5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54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55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857" name="Picture 4" descr=""/>
          <p:cNvPicPr/>
          <p:nvPr/>
        </p:nvPicPr>
        <p:blipFill>
          <a:blip r:embed="rId1"/>
          <a:stretch/>
        </p:blipFill>
        <p:spPr>
          <a:xfrm>
            <a:off x="1403280" y="1763640"/>
            <a:ext cx="6883560" cy="435312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58480" y="168120"/>
            <a:ext cx="8623080" cy="154944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Estructura de Proceso de Negocio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9C63-E2C7-4DC6-898D-A14E8C77D2F0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12360" y="365040"/>
            <a:ext cx="7583400" cy="14083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Funciones Básicas III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96800" y="1544760"/>
            <a:ext cx="838224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/>
          </a:bodyPr>
          <a:p>
            <a:pPr marL="384120" indent="-342720">
              <a:lnSpc>
                <a:spcPct val="90000"/>
              </a:lnSpc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46461"/>
                </a:solidFill>
                <a:latin typeface="Helvetica Neue"/>
              </a:rPr>
              <a:t>Control: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 es la observación y medición dinámica del desempeño de las diferentes actividades de la organización, con su correspondiente definición de acciones correctivas</a:t>
            </a:r>
            <a:r>
              <a:rPr b="0" lang="en-US" sz="2600" spc="-1" strike="noStrike">
                <a:solidFill>
                  <a:srgbClr val="336699"/>
                </a:solidFill>
                <a:latin typeface="Helvetica Neue"/>
              </a:rPr>
              <a:t>  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865" name="Rectangle 6"/>
          <p:cNvSpPr/>
          <p:nvPr/>
        </p:nvSpPr>
        <p:spPr>
          <a:xfrm>
            <a:off x="6653160" y="3505320"/>
            <a:ext cx="1663920" cy="1638360"/>
          </a:xfrm>
          <a:prstGeom prst="rect">
            <a:avLst/>
          </a:prstGeom>
          <a:solidFill>
            <a:srgbClr val="2e6ffd"/>
          </a:solidFill>
          <a:ln w="38160">
            <a:solidFill>
              <a:srgbClr val="000000">
                <a:alpha val="0"/>
              </a:srgbClr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LIDA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Informació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Energí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Recurso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ateriale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3284640" y="4057560"/>
            <a:ext cx="2438280" cy="444600"/>
          </a:xfrm>
          <a:prstGeom prst="rect">
            <a:avLst/>
          </a:prstGeom>
          <a:solidFill>
            <a:srgbClr val="fe4940"/>
          </a:solidFill>
          <a:ln w="38160">
            <a:solidFill>
              <a:srgbClr val="cc0000"/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ROCESAMENTO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7" name="Rectangle 8"/>
          <p:cNvSpPr/>
          <p:nvPr/>
        </p:nvSpPr>
        <p:spPr>
          <a:xfrm>
            <a:off x="3222720" y="5983200"/>
            <a:ext cx="27302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RETROALIMENTACION</a:t>
            </a: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8" name="Line 9"/>
          <p:cNvSpPr/>
          <p:nvPr/>
        </p:nvSpPr>
        <p:spPr>
          <a:xfrm>
            <a:off x="5946840" y="4264200"/>
            <a:ext cx="708120" cy="14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69" name="Line 10"/>
          <p:cNvSpPr/>
          <p:nvPr/>
        </p:nvSpPr>
        <p:spPr>
          <a:xfrm>
            <a:off x="2155680" y="4322880"/>
            <a:ext cx="974880" cy="93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0" name="Rectangle 11"/>
          <p:cNvSpPr/>
          <p:nvPr/>
        </p:nvSpPr>
        <p:spPr>
          <a:xfrm>
            <a:off x="493560" y="3443400"/>
            <a:ext cx="1663920" cy="1638360"/>
          </a:xfrm>
          <a:prstGeom prst="rect">
            <a:avLst/>
          </a:prstGeom>
          <a:solidFill>
            <a:srgbClr val="2e6ffd"/>
          </a:solidFill>
          <a:ln w="38160">
            <a:solidFill>
              <a:srgbClr val="000000">
                <a:alpha val="0"/>
              </a:srgbClr>
            </a:solidFill>
            <a:miter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41400" tIns="0" bIns="0" anchor="t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D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Informació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Energí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Recurso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ateriale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871" name="Group 12"/>
          <p:cNvGrpSpPr/>
          <p:nvPr/>
        </p:nvGrpSpPr>
        <p:grpSpPr>
          <a:xfrm>
            <a:off x="1057320" y="5227560"/>
            <a:ext cx="6517800" cy="755640"/>
            <a:chOff x="1057320" y="5227560"/>
            <a:chExt cx="6517800" cy="755640"/>
          </a:xfrm>
        </p:grpSpPr>
        <p:sp>
          <p:nvSpPr>
            <p:cNvPr id="872" name="AutoShape 13"/>
            <p:cNvSpPr/>
            <p:nvPr/>
          </p:nvSpPr>
          <p:spPr>
            <a:xfrm>
              <a:off x="1057320" y="5227560"/>
              <a:ext cx="423720" cy="75564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5400" y="5400"/>
                  </a:lnTo>
                  <a:lnTo>
                    <a:pt x="5400" y="21600"/>
                  </a:lnTo>
                  <a:lnTo>
                    <a:pt x="16200" y="21600"/>
                  </a:lnTo>
                  <a:lnTo>
                    <a:pt x="16200" y="5400"/>
                  </a:lnTo>
                  <a:lnTo>
                    <a:pt x="21600" y="5400"/>
                  </a:lnTo>
                  <a:lnTo>
                    <a:pt x="10800" y="0"/>
                  </a:lnTo>
                  <a:lnTo>
                    <a:pt x="0" y="5400"/>
                  </a:lnTo>
                  <a:close/>
                  <a:moveTo>
                    <a:pt x="0" y="5400"/>
                  </a:moveTo>
                </a:path>
              </a:pathLst>
            </a:custGeom>
            <a:solidFill>
              <a:srgbClr val="ff9900"/>
            </a:solidFill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873" name="Rectangle 14"/>
            <p:cNvSpPr/>
            <p:nvPr/>
          </p:nvSpPr>
          <p:spPr>
            <a:xfrm>
              <a:off x="1198440" y="5776920"/>
              <a:ext cx="6307200" cy="20628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874" name="Rectangle 15"/>
            <p:cNvSpPr/>
            <p:nvPr/>
          </p:nvSpPr>
          <p:spPr>
            <a:xfrm flipH="1" rot="5400000">
              <a:off x="7158600" y="5567040"/>
              <a:ext cx="619200" cy="21276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0DF0-AA09-47E3-B505-4199511C61F0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82160" y="231480"/>
            <a:ext cx="8433000" cy="152388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Estructura de Control de Gestión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880" name="AutoShape 5"/>
          <p:cNvSpPr/>
          <p:nvPr/>
        </p:nvSpPr>
        <p:spPr>
          <a:xfrm>
            <a:off x="2627280" y="2017800"/>
            <a:ext cx="4889520" cy="32925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21600" h="21600">
                <a:moveTo>
                  <a:pt x="10796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10796" y="0"/>
                </a:lnTo>
                <a:close/>
                <a:moveTo>
                  <a:pt x="10796" y="0"/>
                </a:move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881" name="Group 6"/>
          <p:cNvGrpSpPr/>
          <p:nvPr/>
        </p:nvGrpSpPr>
        <p:grpSpPr>
          <a:xfrm>
            <a:off x="2668680" y="5796000"/>
            <a:ext cx="4873680" cy="695160"/>
            <a:chOff x="2668680" y="5796000"/>
            <a:chExt cx="4873680" cy="695160"/>
          </a:xfrm>
        </p:grpSpPr>
        <p:sp>
          <p:nvSpPr>
            <p:cNvPr id="882" name="Rectangle 7"/>
            <p:cNvSpPr/>
            <p:nvPr/>
          </p:nvSpPr>
          <p:spPr>
            <a:xfrm>
              <a:off x="2668680" y="5796000"/>
              <a:ext cx="4873680" cy="695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883" name="Rectangle 8"/>
            <p:cNvSpPr/>
            <p:nvPr/>
          </p:nvSpPr>
          <p:spPr>
            <a:xfrm>
              <a:off x="4184280" y="5869080"/>
              <a:ext cx="184068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1400" tIns="0" bIns="0" anchor="ctr">
              <a:spAutoFit/>
            </a:bodyPr>
            <a:p>
              <a:pPr marL="41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PRODUCCION</a:t>
              </a:r>
              <a:endParaRPr b="0" lang="en-US" sz="20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RECURSOS)</a:t>
              </a:r>
              <a:endParaRPr b="0" lang="en-US" sz="16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884" name="Rectangle 9"/>
          <p:cNvSpPr/>
          <p:nvPr/>
        </p:nvSpPr>
        <p:spPr>
          <a:xfrm>
            <a:off x="3876840" y="2867040"/>
            <a:ext cx="24382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ONTROL ESTRATEGICO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5" name="Rectangle 10"/>
          <p:cNvSpPr/>
          <p:nvPr/>
        </p:nvSpPr>
        <p:spPr>
          <a:xfrm>
            <a:off x="3581280" y="3624120"/>
            <a:ext cx="30481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ontrol tactico, administrativo</a:t>
            </a: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O DE GESTION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6" name="Rectangle 11"/>
          <p:cNvSpPr/>
          <p:nvPr/>
        </p:nvSpPr>
        <p:spPr>
          <a:xfrm>
            <a:off x="3583080" y="4511520"/>
            <a:ext cx="2971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Control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OPERACIONAL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7" name="Line 12"/>
          <p:cNvSpPr/>
          <p:nvPr/>
        </p:nvSpPr>
        <p:spPr>
          <a:xfrm>
            <a:off x="1192320" y="2119320"/>
            <a:ext cx="14040" cy="1135080"/>
          </a:xfrm>
          <a:prstGeom prst="line">
            <a:avLst/>
          </a:prstGeom>
          <a:ln w="255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8" name="Rectangle 13"/>
          <p:cNvSpPr/>
          <p:nvPr/>
        </p:nvSpPr>
        <p:spPr>
          <a:xfrm>
            <a:off x="216000" y="3355920"/>
            <a:ext cx="2209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594"/>
                </a:solidFill>
                <a:latin typeface="Times New Roman"/>
                <a:ea typeface="Times New Roman"/>
              </a:rPr>
              <a:t>ADMINISTRACION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89" name="Line 14"/>
          <p:cNvSpPr/>
          <p:nvPr/>
        </p:nvSpPr>
        <p:spPr>
          <a:xfrm>
            <a:off x="1181160" y="3801960"/>
            <a:ext cx="1440" cy="141444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0" name="Rectangle 15"/>
          <p:cNvSpPr/>
          <p:nvPr/>
        </p:nvSpPr>
        <p:spPr>
          <a:xfrm>
            <a:off x="355680" y="5680080"/>
            <a:ext cx="1917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594"/>
                </a:solidFill>
                <a:latin typeface="Times New Roman"/>
                <a:ea typeface="Times New Roman"/>
              </a:rPr>
              <a:t>OPERACIONE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1" name="Rectangle 16"/>
          <p:cNvSpPr/>
          <p:nvPr/>
        </p:nvSpPr>
        <p:spPr>
          <a:xfrm>
            <a:off x="7647120" y="5831640"/>
            <a:ext cx="1269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ctr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PRODUCTOS: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BIEN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SERVICI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2" name="Rectangle 17"/>
          <p:cNvSpPr/>
          <p:nvPr/>
        </p:nvSpPr>
        <p:spPr>
          <a:xfrm>
            <a:off x="1635120" y="6043320"/>
            <a:ext cx="91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ctr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INSUM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3" name="AutoShape 18"/>
          <p:cNvSpPr/>
          <p:nvPr/>
        </p:nvSpPr>
        <p:spPr>
          <a:xfrm>
            <a:off x="3228840" y="5381640"/>
            <a:ext cx="360360" cy="369720"/>
          </a:xfrm>
          <a:custGeom>
            <a:avLst/>
            <a:gdLst>
              <a:gd name="textAreaLeft" fmla="*/ 0 w 360360"/>
              <a:gd name="textAreaRight" fmla="*/ 360720 w 3603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5400" y="54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5400"/>
                </a:lnTo>
                <a:lnTo>
                  <a:pt x="21600" y="5400"/>
                </a:lnTo>
                <a:lnTo>
                  <a:pt x="10800" y="0"/>
                </a:lnTo>
                <a:lnTo>
                  <a:pt x="0" y="5400"/>
                </a:lnTo>
                <a:close/>
                <a:moveTo>
                  <a:pt x="0" y="5400"/>
                </a:move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4" name="AutoShape 19"/>
          <p:cNvSpPr/>
          <p:nvPr/>
        </p:nvSpPr>
        <p:spPr>
          <a:xfrm>
            <a:off x="6443640" y="5381640"/>
            <a:ext cx="360360" cy="369720"/>
          </a:xfrm>
          <a:custGeom>
            <a:avLst/>
            <a:gdLst>
              <a:gd name="textAreaLeft" fmla="*/ 0 w 360360"/>
              <a:gd name="textAreaRight" fmla="*/ 360720 w 3603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lnTo>
                  <a:pt x="5400" y="16200"/>
                </a:lnTo>
                <a:lnTo>
                  <a:pt x="5400" y="0"/>
                </a:lnTo>
                <a:lnTo>
                  <a:pt x="16200" y="0"/>
                </a:lnTo>
                <a:lnTo>
                  <a:pt x="16200" y="16200"/>
                </a:lnTo>
                <a:lnTo>
                  <a:pt x="21600" y="16200"/>
                </a:lnTo>
                <a:lnTo>
                  <a:pt x="10800" y="21600"/>
                </a:lnTo>
                <a:lnTo>
                  <a:pt x="0" y="16200"/>
                </a:lnTo>
                <a:close/>
                <a:moveTo>
                  <a:pt x="0" y="16200"/>
                </a:move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5" name="Line 20"/>
          <p:cNvSpPr/>
          <p:nvPr/>
        </p:nvSpPr>
        <p:spPr>
          <a:xfrm>
            <a:off x="3246480" y="4503600"/>
            <a:ext cx="3681360" cy="648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6" name="Line 21"/>
          <p:cNvSpPr/>
          <p:nvPr/>
        </p:nvSpPr>
        <p:spPr>
          <a:xfrm>
            <a:off x="3971880" y="3505320"/>
            <a:ext cx="2205000" cy="936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75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5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75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75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D3CF-FB1E-4ACC-8098-8E0A12081D8A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1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9640" y="150480"/>
            <a:ext cx="7850160" cy="16225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La Organización como Sistema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723960" y="1790640"/>
            <a:ext cx="7683480" cy="43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431640" indent="-431640">
              <a:lnSpc>
                <a:spcPct val="100000"/>
              </a:lnSpc>
              <a:spcBef>
                <a:spcPts val="1100"/>
              </a:spcBef>
              <a:buSzPct val="1592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Organización: tipo especial de sistema que presenta actividad o comportamientoElementos de la Organización: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componente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estructur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informació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comunicació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decisiones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lvl="1" marL="876240" indent="-431640">
              <a:lnSpc>
                <a:spcPct val="100000"/>
              </a:lnSpc>
              <a:spcBef>
                <a:spcPts val="11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1"/>
                </a:solidFill>
                <a:latin typeface="Helvetica Neue"/>
                <a:ea typeface="Helvetica Neue"/>
              </a:rPr>
              <a:t>control y retroalimentación dinámica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526E-C981-4C1F-83E1-1E0D7EB2B58F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899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87080" y="301320"/>
            <a:ext cx="7404120" cy="92700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Funciones Básicas IV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25280"/>
            <a:ext cx="8229600" cy="402588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 fontScale="98000"/>
          </a:bodyPr>
          <a:p>
            <a:pPr marL="376200" indent="-33552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46461"/>
                </a:solidFill>
                <a:latin typeface="Helvetica Neue"/>
              </a:rPr>
              <a:t>Toma de Decisiones: 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es el establecimiento de los procesos que permitirán la elección entre los diferentes cursos de acción alternativos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lvl="1" marL="768240" indent="-27972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3 aspectos: la decisión, el proceso de toma de decisiones (reglas, datos, etc.) y el tomador de decisiones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68240" indent="-27972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Decisiones programables y no programables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68240" indent="-27972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Asociada a la decisión existe un grupo de información que comunica el resultado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>
    <p:fade thruBlk="true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D67C-5463-4DB7-A7B5-DF830B5C5774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4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5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6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266400" y="279360"/>
            <a:ext cx="7683480" cy="1054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Tipos de decisiones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0760" y="1773000"/>
            <a:ext cx="7708680" cy="4305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Decisiones Estructuradas o Programables: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Son aquellas que pueden ser tomadas de acuerdo a una regla (si se cumple un conjunto de condiciones se ejecuta un conjunto de acciones).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Decisiones No Estructuradas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Son aquellas que no es posible tomar de acuerdo a una regla ya que hay factores subjetivos o riesgo asociado al cumplimiento de las condiciones.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A190-F246-47B3-83ED-4165AADEBB34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Decisiones por Nivel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212400" y="1201320"/>
            <a:ext cx="4241880" cy="5473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Estratégico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Tipo: No estructuradas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Horizonte: Largo Plazo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Control de Gestión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Tipo: Semi Estructuradas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Horizonte: Mediano Plazo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1"/>
                </a:solidFill>
                <a:latin typeface="Helvetica Neue"/>
              </a:rPr>
              <a:t>Operacional</a:t>
            </a:r>
            <a:endParaRPr b="0" lang="en-US" sz="22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Tipo: Estructuradas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  <a:p>
            <a:pPr lvl="1" marL="782640" indent="-285840">
              <a:lnSpc>
                <a:spcPct val="100000"/>
              </a:lnSpc>
              <a:spcBef>
                <a:spcPts val="22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1"/>
                </a:solidFill>
                <a:latin typeface="Verdana"/>
                <a:ea typeface="ＭＳ Ｐゴシック"/>
              </a:rPr>
              <a:t>Horizonte: Corto Plazo</a:t>
            </a:r>
            <a:endParaRPr b="0" lang="en-US" sz="1800" spc="-1" strike="noStrike">
              <a:solidFill>
                <a:srgbClr val="646461"/>
              </a:solidFill>
              <a:latin typeface="Helvetica Neue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4416480" y="2014560"/>
            <a:ext cx="457200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2680" indent="-343080">
              <a:lnSpc>
                <a:spcPct val="100000"/>
              </a:lnSpc>
              <a:spcBef>
                <a:spcPts val="53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erdana"/>
              </a:rPr>
              <a:t>ESTRATÉGICO</a:t>
            </a: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RIGEN: PRINCIPALMENTE EXTERNA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OLUMEN: SELECTIVA Y AGREGADA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53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erdana"/>
              </a:rPr>
              <a:t>CONTROL DE GESTIÓN</a:t>
            </a: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RIGEN: INTERNO Y EXTERN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OLUMEN: SEMI AGREGAD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53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Verdana"/>
              </a:rPr>
              <a:t>OPERACIONAL</a:t>
            </a: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ORIGEN: INTERNO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382680" indent="-343080">
              <a:lnSpc>
                <a:spcPct val="100000"/>
              </a:lnSpc>
              <a:spcBef>
                <a:spcPts val="437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Verdana"/>
              </a:rPr>
              <a:t>VOLUMEN: MASIVA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5D88-5520-4605-8B16-BE58CDA416F8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7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8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19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173160"/>
            <a:ext cx="7631280" cy="174312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Funciones Básicas V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69800" y="1941480"/>
            <a:ext cx="8204400" cy="389880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rmAutofit/>
          </a:bodyPr>
          <a:p>
            <a:pPr marL="384120" indent="-34272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Comunicación: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es la identificación y establecimiento de los flujos de información que son necesarios para que las diferentes funciones y componentes de la organización aseguren que se logre la programación adecuada para alcanzar sus respectivos objetivos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8998-9BA3-40BD-9833-8DD144A33061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4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5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pic>
        <p:nvPicPr>
          <p:cNvPr id="926" name="Picture 4" descr=""/>
          <p:cNvPicPr/>
          <p:nvPr/>
        </p:nvPicPr>
        <p:blipFill>
          <a:blip r:embed="rId1"/>
          <a:stretch/>
        </p:blipFill>
        <p:spPr>
          <a:xfrm>
            <a:off x="925560" y="1900080"/>
            <a:ext cx="7318440" cy="4832640"/>
          </a:xfrm>
          <a:prstGeom prst="rect">
            <a:avLst/>
          </a:prstGeom>
          <a:ln w="0">
            <a:noFill/>
          </a:ln>
        </p:spPr>
      </p:pic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703440" y="236160"/>
            <a:ext cx="773424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41400" tIns="50760" bIns="50760" anchor="ctr">
            <a:noAutofit/>
          </a:bodyPr>
          <a:p>
            <a:pPr marL="414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Medios de Comunicación Formales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15BD-2CB0-4AD4-9DDE-FBC1CD89ECF8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29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0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El rol de los SI en la empresa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736200" y="1942920"/>
            <a:ext cx="7683480" cy="4012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94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Lo que una empresa desea hacer dentro de 5 años, depende a menudo de lo que los sistemas sean capaces de hacer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94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Existe una interdependencia creciente en la estrategia de negocios y los SI (alineamiento)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9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Complejidad creciente de los SI y la visión de los proyectos de sistemas y sus aplicaciones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CC2B-9487-4D13-B415-F98E4DCC1DB2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5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6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8" name="Line 4"/>
          <p:cNvSpPr/>
          <p:nvPr/>
        </p:nvSpPr>
        <p:spPr>
          <a:xfrm flipV="1">
            <a:off x="1843200" y="1870200"/>
            <a:ext cx="5689440" cy="417672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Enfoque moderno de SIA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40" name="Rectangle 6"/>
          <p:cNvSpPr/>
          <p:nvPr/>
        </p:nvSpPr>
        <p:spPr>
          <a:xfrm>
            <a:off x="1843200" y="1870200"/>
            <a:ext cx="5689440" cy="4176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941" name="Group 7"/>
          <p:cNvGrpSpPr/>
          <p:nvPr/>
        </p:nvGrpSpPr>
        <p:grpSpPr>
          <a:xfrm>
            <a:off x="3643200" y="3022560"/>
            <a:ext cx="2305080" cy="1944720"/>
            <a:chOff x="3643200" y="3022560"/>
            <a:chExt cx="2305080" cy="1944720"/>
          </a:xfrm>
        </p:grpSpPr>
        <p:sp>
          <p:nvSpPr>
            <p:cNvPr id="942" name="Oval 8"/>
            <p:cNvSpPr/>
            <p:nvPr/>
          </p:nvSpPr>
          <p:spPr>
            <a:xfrm>
              <a:off x="3643200" y="3022560"/>
              <a:ext cx="2305080" cy="1944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943" name="Rectangle 9"/>
            <p:cNvSpPr/>
            <p:nvPr/>
          </p:nvSpPr>
          <p:spPr>
            <a:xfrm>
              <a:off x="4259880" y="3818520"/>
              <a:ext cx="10695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8160" rIns="78120" tIns="38160" bIns="38160" anchor="ctr">
              <a:spAutoFit/>
            </a:bodyPr>
            <a:p>
              <a:pPr marL="1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a7594"/>
                  </a:solidFill>
                  <a:latin typeface="Verdana"/>
                  <a:ea typeface="Verdana"/>
                </a:rPr>
                <a:t>SIA - MIS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944" name="Rectangle 10"/>
          <p:cNvSpPr/>
          <p:nvPr/>
        </p:nvSpPr>
        <p:spPr>
          <a:xfrm>
            <a:off x="1913040" y="4168080"/>
            <a:ext cx="1742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IENCIAS DE L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ADMINISTRACIÓN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5" name="Rectangle 11"/>
          <p:cNvSpPr/>
          <p:nvPr/>
        </p:nvSpPr>
        <p:spPr>
          <a:xfrm>
            <a:off x="2404080" y="2347200"/>
            <a:ext cx="1492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IENCIA DE L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OMPUTACIÓN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6" name="Rectangle 12"/>
          <p:cNvSpPr/>
          <p:nvPr/>
        </p:nvSpPr>
        <p:spPr>
          <a:xfrm>
            <a:off x="4518000" y="1941480"/>
            <a:ext cx="195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INVESTIGACIÓN Y GESTIÓN DE OPERACIONE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7" name="Rectangle 13"/>
          <p:cNvSpPr/>
          <p:nvPr/>
        </p:nvSpPr>
        <p:spPr>
          <a:xfrm>
            <a:off x="540000" y="1886760"/>
            <a:ext cx="1061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ENFOQUE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TÉCNICO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8" name="Rectangle 14"/>
          <p:cNvSpPr/>
          <p:nvPr/>
        </p:nvSpPr>
        <p:spPr>
          <a:xfrm>
            <a:off x="6058800" y="3319920"/>
            <a:ext cx="1236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SOCIOLOGÍ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49" name="Rectangle 15"/>
          <p:cNvSpPr/>
          <p:nvPr/>
        </p:nvSpPr>
        <p:spPr>
          <a:xfrm>
            <a:off x="5418720" y="5126760"/>
            <a:ext cx="895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IENCI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POLÍTIC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0" name="Rectangle 16"/>
          <p:cNvSpPr/>
          <p:nvPr/>
        </p:nvSpPr>
        <p:spPr>
          <a:xfrm>
            <a:off x="2949480" y="5488200"/>
            <a:ext cx="1200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PSICOLOGÍA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1" name="Rectangle 17"/>
          <p:cNvSpPr/>
          <p:nvPr/>
        </p:nvSpPr>
        <p:spPr>
          <a:xfrm>
            <a:off x="6491160" y="6048360"/>
            <a:ext cx="2222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ENFOQUES DEL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7594"/>
                </a:solidFill>
                <a:latin typeface="Verdana"/>
                <a:ea typeface="Verdana"/>
              </a:rPr>
              <a:t>COMPORTAMIENTO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AB3C-E9DE-48A2-BDC1-AD8EDB29D8E9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3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4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5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omentarios Finales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506520" y="2192400"/>
            <a:ext cx="8115120" cy="3504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374760" indent="-3358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La organización es un caso especial de sistemas, que posee una estructura y comportamiento especial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74760" indent="-3358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xisten diferentes funciones básicas que caracterizan el comportamiento de una organización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74760" indent="-3358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Las oportunidades de rediseño surgen de un buen entendimiento del modelo de una organización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BD49-6B50-4B81-A6B3-B06FF3D30DEA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59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60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61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Competencias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64840" y="2093760"/>
            <a:ext cx="8001000" cy="369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431640" indent="-431640">
              <a:spcBef>
                <a:spcPts val="2299"/>
              </a:spcBef>
              <a:buSzPct val="1747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ntender lo que es un sistema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7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Distinguir SI, SIA, SCG y SPD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73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Conocer las funciones básicas de administración en la organización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431640" indent="-431640">
              <a:spcBef>
                <a:spcPts val="2299"/>
              </a:spcBef>
              <a:buSzPct val="1747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Distinguir los distintos tipos de decisiones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8FE7-3E6B-4A3C-9223-DC73254E88AB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Sistemas existentes en la Organización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grpSp>
        <p:nvGrpSpPr>
          <p:cNvPr id="730" name="Group 5"/>
          <p:cNvGrpSpPr/>
          <p:nvPr/>
        </p:nvGrpSpPr>
        <p:grpSpPr>
          <a:xfrm>
            <a:off x="838080" y="2565360"/>
            <a:ext cx="7467480" cy="3797280"/>
            <a:chOff x="838080" y="2565360"/>
            <a:chExt cx="7467480" cy="3797280"/>
          </a:xfrm>
        </p:grpSpPr>
        <p:sp>
          <p:nvSpPr>
            <p:cNvPr id="731" name="AutoShape 6"/>
            <p:cNvSpPr/>
            <p:nvPr/>
          </p:nvSpPr>
          <p:spPr>
            <a:xfrm>
              <a:off x="838080" y="2565360"/>
              <a:ext cx="7467480" cy="3797280"/>
            </a:xfrm>
            <a:prstGeom prst="roundRect">
              <a:avLst>
                <a:gd name="adj" fmla="val 5014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77643" dir="2389226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2" name="Rectangle 7"/>
            <p:cNvSpPr/>
            <p:nvPr/>
          </p:nvSpPr>
          <p:spPr>
            <a:xfrm>
              <a:off x="2266560" y="2702160"/>
              <a:ext cx="4617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Helvetica Neue Bold Condensed"/>
                  <a:ea typeface="Helvetica Neue Bold Condensed"/>
                </a:rPr>
                <a:t>SISTEMA DE ADMINISTRACIÓN (SA)</a:t>
              </a: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grpSp>
        <p:nvGrpSpPr>
          <p:cNvPr id="733" name="Group 8"/>
          <p:cNvGrpSpPr/>
          <p:nvPr/>
        </p:nvGrpSpPr>
        <p:grpSpPr>
          <a:xfrm>
            <a:off x="880920" y="3276720"/>
            <a:ext cx="4110840" cy="2895480"/>
            <a:chOff x="880920" y="3276720"/>
            <a:chExt cx="4110840" cy="2895480"/>
          </a:xfrm>
        </p:grpSpPr>
        <p:sp>
          <p:nvSpPr>
            <p:cNvPr id="734" name="AutoShape 9"/>
            <p:cNvSpPr/>
            <p:nvPr/>
          </p:nvSpPr>
          <p:spPr>
            <a:xfrm>
              <a:off x="1104840" y="3276720"/>
              <a:ext cx="3657600" cy="2895480"/>
            </a:xfrm>
            <a:prstGeom prst="roundRect">
              <a:avLst>
                <a:gd name="adj" fmla="val 6579"/>
              </a:avLst>
            </a:prstGeom>
            <a:solidFill>
              <a:srgbClr val="ffdbcd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5" name="Rectangle 10"/>
            <p:cNvSpPr/>
            <p:nvPr/>
          </p:nvSpPr>
          <p:spPr>
            <a:xfrm>
              <a:off x="880920" y="3413520"/>
              <a:ext cx="4110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9b2c01"/>
                  </a:solidFill>
                  <a:latin typeface="Helvetica Neue Bold Condensed"/>
                  <a:ea typeface="Helvetica Neue Bold Condensed"/>
                </a:rPr>
                <a:t>SISTEMA DE INFORMACION (SI)</a:t>
              </a: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grpSp>
        <p:nvGrpSpPr>
          <p:cNvPr id="736" name="Group 11"/>
          <p:cNvGrpSpPr/>
          <p:nvPr/>
        </p:nvGrpSpPr>
        <p:grpSpPr>
          <a:xfrm>
            <a:off x="1327320" y="4038480"/>
            <a:ext cx="3530520" cy="2006640"/>
            <a:chOff x="1327320" y="4038480"/>
            <a:chExt cx="3530520" cy="2006640"/>
          </a:xfrm>
        </p:grpSpPr>
        <p:sp>
          <p:nvSpPr>
            <p:cNvPr id="737" name="AutoShape 12"/>
            <p:cNvSpPr/>
            <p:nvPr/>
          </p:nvSpPr>
          <p:spPr>
            <a:xfrm>
              <a:off x="1535400" y="4038480"/>
              <a:ext cx="3124080" cy="2006640"/>
            </a:xfrm>
            <a:prstGeom prst="roundRect">
              <a:avLst>
                <a:gd name="adj" fmla="val 9491"/>
              </a:avLst>
            </a:prstGeom>
            <a:solidFill>
              <a:srgbClr val="d9eaca"/>
            </a:solidFill>
            <a:ln w="25560">
              <a:solidFill>
                <a:srgbClr val="3f691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38" name="Rectangle 13"/>
            <p:cNvSpPr/>
            <p:nvPr/>
          </p:nvSpPr>
          <p:spPr>
            <a:xfrm>
              <a:off x="1327320" y="4133880"/>
              <a:ext cx="35305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f691e"/>
                  </a:solidFill>
                  <a:latin typeface="Helvetica Neue Bold Condensed"/>
                  <a:ea typeface="Helvetica Neue Bold Condensed"/>
                </a:rPr>
                <a:t>SISTEMA DE INFORMACION ADMINISTRATIVO (SIA)</a:t>
              </a:r>
              <a:endParaRPr b="0" lang="en-US" sz="18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739" name="AutoShape 14"/>
          <p:cNvSpPr/>
          <p:nvPr/>
        </p:nvSpPr>
        <p:spPr>
          <a:xfrm>
            <a:off x="2603520" y="4927680"/>
            <a:ext cx="1905120" cy="990360"/>
          </a:xfrm>
          <a:prstGeom prst="roundRect">
            <a:avLst>
              <a:gd name="adj" fmla="val 19227"/>
            </a:avLst>
          </a:prstGeom>
          <a:solidFill>
            <a:srgbClr val="c0edfe"/>
          </a:solidFill>
          <a:ln w="25560">
            <a:solidFill>
              <a:srgbClr val="2e6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d2067"/>
                </a:solidFill>
                <a:latin typeface="Helvetica Neue"/>
                <a:ea typeface="Helvetica Neue"/>
              </a:rPr>
              <a:t>SISTEMA DE PROCESAMIENTO DE DATOS (SPD)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0" name="AutoShape 15"/>
          <p:cNvSpPr/>
          <p:nvPr/>
        </p:nvSpPr>
        <p:spPr>
          <a:xfrm>
            <a:off x="5626080" y="3289320"/>
            <a:ext cx="2158920" cy="2870280"/>
          </a:xfrm>
          <a:custGeom>
            <a:avLst/>
            <a:gdLst>
              <a:gd name="textAreaLeft" fmla="*/ 55440 w 2158920"/>
              <a:gd name="textAreaRight" fmla="*/ 2103480 w 2158920"/>
              <a:gd name="textAreaTop" fmla="*/ 55440 h 2870280"/>
              <a:gd name="textAreaBottom" fmla="*/ 2814840 h 2870280"/>
            </a:gdLst>
            <a:ahLst/>
            <a:rect l="textAreaLeft" t="textAreaTop" r="textAreaRight" b="textAreaBottom"/>
            <a:pathLst>
              <a:path w="21600" h="28716">
                <a:moveTo>
                  <a:pt x="1905" y="0"/>
                </a:moveTo>
                <a:arcTo wR="1905" hR="1905" stAng="16200000" swAng="-5400000"/>
                <a:lnTo>
                  <a:pt x="0" y="26811"/>
                </a:lnTo>
                <a:arcTo wR="1905" hR="1905" stAng="10800000" swAng="-5400000"/>
                <a:lnTo>
                  <a:pt x="19695" y="28716"/>
                </a:lnTo>
                <a:arcTo wR="1905" hR="1905" stAng="5400000" swAng="-5400000"/>
                <a:lnTo>
                  <a:pt x="21600" y="1905"/>
                </a:lnTo>
                <a:arcTo wR="1905" hR="1905" stAng="0" swAng="-5400000"/>
                <a:close/>
              </a:path>
            </a:pathLst>
          </a:custGeom>
          <a:solidFill>
            <a:srgbClr val="2e6ffd"/>
          </a:solid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ISTEMA DE CONTROL DE GESTION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CD29-35F0-4057-8968-73B2B87F4C7B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2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160" y="177840"/>
            <a:ext cx="9067680" cy="1270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Sistemas de Administración (SA)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60360" y="1405080"/>
            <a:ext cx="8415360" cy="5084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Es un conjunto interrelacionado de </a:t>
            </a:r>
            <a:r>
              <a:rPr b="1" lang="en-US" sz="2600" spc="-1" strike="noStrike">
                <a:solidFill>
                  <a:srgbClr val="646461"/>
                </a:solidFill>
                <a:latin typeface="Helvetica Neue"/>
              </a:rPr>
              <a:t>métodos, procedimientos, decisiones, etc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., mediante los que la organización </a:t>
            </a:r>
            <a:r>
              <a:rPr b="1" lang="en-US" sz="2600" spc="-1" strike="noStrike">
                <a:solidFill>
                  <a:srgbClr val="646461"/>
                </a:solidFill>
                <a:latin typeface="Helvetica Neue"/>
              </a:rPr>
              <a:t>planifica, ejecuta y controla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 las actividades por las cuales alcanza sus metas y objetivos.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Sus objetivos se confunden con los objetivos de la organización (negocio).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Medioambiente corresponde a otros SA</a:t>
            </a:r>
            <a:r>
              <a:rPr b="0" lang="ja-JP" sz="2600" spc="-1" strike="noStrike">
                <a:solidFill>
                  <a:srgbClr val="646461"/>
                </a:solidFill>
                <a:latin typeface="Helvetica Neue"/>
              </a:rPr>
              <a:t>’</a:t>
            </a:r>
            <a:r>
              <a:rPr b="0" lang="en-US" sz="2600" spc="-1" strike="noStrike">
                <a:solidFill>
                  <a:srgbClr val="646461"/>
                </a:solidFill>
                <a:latin typeface="Helvetica Neue"/>
              </a:rPr>
              <a:t>s dentro y fuera de la organización</a:t>
            </a:r>
            <a:endParaRPr b="0" lang="en-US" sz="26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7148-69C8-4530-AAB0-3C25AB60E8B6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8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Sistema de Información (SI)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10760" y="2136600"/>
            <a:ext cx="8356680" cy="3632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 un sistema que maneja toda la información de apoyo a un SA (formal e informal, estructurada y no estructurada)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l objetivo es apoyar con información al SA relevante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Medioambiente es el SA correspondiente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17B4-6334-4063-9FB3-7E4CF52B8E98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4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5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6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48840" y="317520"/>
            <a:ext cx="8425080" cy="1450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Sistema de Info. Adminstrativo (SIA)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8534160" cy="3467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 un sistema que maneja la información </a:t>
            </a:r>
            <a:r>
              <a:rPr b="1" lang="en-US" sz="2400" spc="-1" strike="noStrike">
                <a:solidFill>
                  <a:srgbClr val="646461"/>
                </a:solidFill>
                <a:latin typeface="Verdana"/>
                <a:ea typeface="Verdana"/>
              </a:rPr>
              <a:t>formal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de apoyo a un SA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l objetivo es la </a:t>
            </a: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identificación, manipulación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(recolección, almacenamiento, actualización, recuperación, etc.) y difusión de la información de apoyo al SA relevante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Medioambiente es el SA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E75E-E40B-47F8-A180-E9ECF98CD514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0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1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2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29840" y="329760"/>
            <a:ext cx="8280360" cy="1413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Sistema de Procesamiento de Datos (SPD)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30120" y="2377800"/>
            <a:ext cx="8483760" cy="3136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 un sistema </a:t>
            </a:r>
            <a:r>
              <a:rPr b="1" lang="en-US" sz="2400" spc="-1" strike="noStrike">
                <a:solidFill>
                  <a:srgbClr val="646461"/>
                </a:solidFill>
                <a:latin typeface="Verdana"/>
                <a:ea typeface="Verdana"/>
              </a:rPr>
              <a:t>mecanizado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que maneja parte de la información </a:t>
            </a:r>
            <a:r>
              <a:rPr b="1" lang="en-US" sz="2400" spc="-1" strike="noStrike">
                <a:solidFill>
                  <a:srgbClr val="646461"/>
                </a:solidFill>
                <a:latin typeface="Verdana"/>
                <a:ea typeface="Verdana"/>
              </a:rPr>
              <a:t>estructurada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de apoyo a un SA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l objetivo es apoyar con información estructurada al SA relevante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Medioambiente es el SIA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50C9-E6D9-4B4E-BA52-7514E5FC7346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6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7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11280" y="342720"/>
            <a:ext cx="7912080" cy="1384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a7594"/>
                </a:solidFill>
                <a:latin typeface="Helvetica Neue Light"/>
              </a:rPr>
              <a:t>Sistema de Control de Gestión (SCG)</a:t>
            </a:r>
            <a:endParaRPr b="0" lang="en-US" sz="4800" spc="-1" strike="noStrike">
              <a:solidFill>
                <a:srgbClr val="4a7594"/>
              </a:solidFill>
              <a:latin typeface="Helvetica Neue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31640" y="2082600"/>
            <a:ext cx="8267760" cy="353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Es un sistema que </a:t>
            </a: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monitorea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y </a:t>
            </a: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mide indicadores de gestión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1"/>
                </a:solidFill>
                <a:latin typeface="Helvetica Neue"/>
              </a:rPr>
              <a:t>Toma acciones</a:t>
            </a: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 en caso de ser necesario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Su objetivo es mantener a un sistema dentro de las especificaciones definidas.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  <a:p>
            <a:pPr marL="382680" indent="-343080">
              <a:spcBef>
                <a:spcPts val="2299"/>
              </a:spcBef>
              <a:buClr>
                <a:srgbClr val="cc0000"/>
              </a:buClr>
              <a:buSzPct val="1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1"/>
                </a:solidFill>
                <a:latin typeface="Helvetica Neue"/>
              </a:rPr>
              <a:t>Medioambiente es el sistema que es controlado. </a:t>
            </a:r>
            <a:endParaRPr b="0" lang="en-US" sz="2400" spc="-1" strike="noStrike">
              <a:solidFill>
                <a:srgbClr val="646461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3"/>
          <p:cNvSpPr/>
          <p:nvPr/>
        </p:nvSpPr>
        <p:spPr>
          <a:xfrm>
            <a:off x="8721720" y="6654960"/>
            <a:ext cx="241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DAE9-61D7-44D0-9B57-0A827762B696}" type="slidenum">
              <a:rPr b="1" lang="en-US" sz="900" spc="-1" strike="noStrike">
                <a:solidFill>
                  <a:srgbClr val="4a7594"/>
                </a:solidFill>
                <a:latin typeface="Helvetica Neue"/>
                <a:ea typeface="Helvetica Neue"/>
              </a:rPr>
              <a:t>&lt;number&gt;</a:t>
            </a:fld>
            <a:endParaRPr b="0" lang="en-US" sz="9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2" name="Rectangle 1"/>
          <p:cNvSpPr/>
          <p:nvPr/>
        </p:nvSpPr>
        <p:spPr>
          <a:xfrm>
            <a:off x="198360" y="190440"/>
            <a:ext cx="8750520" cy="6481800"/>
          </a:xfrm>
          <a:prstGeom prst="rect">
            <a:avLst/>
          </a:prstGeom>
          <a:noFill/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3" name="Rectangle 2"/>
          <p:cNvSpPr/>
          <p:nvPr/>
        </p:nvSpPr>
        <p:spPr>
          <a:xfrm>
            <a:off x="177120" y="6691320"/>
            <a:ext cx="1352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IN55A  OTOÑO 2009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4" name="Rectangle 3"/>
          <p:cNvSpPr/>
          <p:nvPr/>
        </p:nvSpPr>
        <p:spPr>
          <a:xfrm>
            <a:off x="4518000" y="6685200"/>
            <a:ext cx="2830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7594"/>
                </a:solidFill>
                <a:latin typeface="Helvetica Neue Bold Condensed"/>
                <a:ea typeface="Helvetica Neue Bold Condensed"/>
              </a:rPr>
              <a:t>SEMANA 2 - SISTEMAS Y ORGANIZACIONES</a:t>
            </a:r>
            <a:endParaRPr b="0" lang="en-US" sz="11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75" name="AutoShape 4"/>
          <p:cNvSpPr/>
          <p:nvPr/>
        </p:nvSpPr>
        <p:spPr>
          <a:xfrm>
            <a:off x="2627280" y="2017800"/>
            <a:ext cx="4889520" cy="32925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3292560"/>
              <a:gd name="textAreaBottom" fmla="*/ 3292920 h 3292560"/>
            </a:gdLst>
            <a:ahLst/>
            <a:rect l="textAreaLeft" t="textAreaTop" r="textAreaRight" b="textAreaBottom"/>
            <a:pathLst>
              <a:path w="21600" h="21600">
                <a:moveTo>
                  <a:pt x="10796" y="0"/>
                </a:moveTo>
                <a:lnTo>
                  <a:pt x="0" y="21600"/>
                </a:lnTo>
                <a:lnTo>
                  <a:pt x="21600" y="21600"/>
                </a:lnTo>
                <a:lnTo>
                  <a:pt x="10796" y="0"/>
                </a:lnTo>
                <a:close/>
                <a:moveTo>
                  <a:pt x="10796" y="0"/>
                </a:moveTo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grpSp>
        <p:nvGrpSpPr>
          <p:cNvPr id="776" name="Group 5"/>
          <p:cNvGrpSpPr/>
          <p:nvPr/>
        </p:nvGrpSpPr>
        <p:grpSpPr>
          <a:xfrm>
            <a:off x="2668680" y="5796000"/>
            <a:ext cx="4873680" cy="695160"/>
            <a:chOff x="2668680" y="5796000"/>
            <a:chExt cx="4873680" cy="695160"/>
          </a:xfrm>
        </p:grpSpPr>
        <p:sp>
          <p:nvSpPr>
            <p:cNvPr id="777" name="Rectangle 6"/>
            <p:cNvSpPr/>
            <p:nvPr/>
          </p:nvSpPr>
          <p:spPr>
            <a:xfrm>
              <a:off x="2668680" y="5796000"/>
              <a:ext cx="4873680" cy="69516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  <p:sp>
          <p:nvSpPr>
            <p:cNvPr id="778" name="Rectangle 7"/>
            <p:cNvSpPr/>
            <p:nvPr/>
          </p:nvSpPr>
          <p:spPr>
            <a:xfrm>
              <a:off x="4184280" y="5869080"/>
              <a:ext cx="184068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1400" tIns="0" bIns="0" anchor="ctr">
              <a:spAutoFit/>
            </a:bodyPr>
            <a:p>
              <a:pPr marL="41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PRODUCCION</a:t>
              </a:r>
              <a:endParaRPr b="0" lang="en-US" sz="2000" spc="-1" strike="noStrike">
                <a:solidFill>
                  <a:srgbClr val="4a7594"/>
                </a:solidFill>
                <a:latin typeface="Helvetica Neue Bold Condensed"/>
              </a:endParaRPr>
            </a:p>
            <a:p>
              <a:pPr marL="41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ff"/>
                  </a:solidFill>
                  <a:latin typeface="Times New Roman"/>
                  <a:ea typeface="Times New Roman"/>
                </a:rPr>
                <a:t>(RECURSOS)</a:t>
              </a:r>
              <a:endParaRPr b="0" lang="en-US" sz="1600" spc="-1" strike="noStrike">
                <a:solidFill>
                  <a:srgbClr val="4a7594"/>
                </a:solidFill>
                <a:latin typeface="Helvetica Neue Bold Condensed"/>
              </a:endParaRPr>
            </a:p>
          </p:txBody>
        </p:sp>
      </p:grpSp>
      <p:sp>
        <p:nvSpPr>
          <p:cNvPr id="779" name="Rectangle 8"/>
          <p:cNvSpPr/>
          <p:nvPr/>
        </p:nvSpPr>
        <p:spPr>
          <a:xfrm>
            <a:off x="3851280" y="2905200"/>
            <a:ext cx="24382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ESTRATEGICO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0" name="Rectangle 9"/>
          <p:cNvSpPr/>
          <p:nvPr/>
        </p:nvSpPr>
        <p:spPr>
          <a:xfrm>
            <a:off x="3581280" y="3478320"/>
            <a:ext cx="3048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ADMINISTRATIVO</a:t>
            </a: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O DE GESTION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1" name="Rectangle 10"/>
          <p:cNvSpPr/>
          <p:nvPr/>
        </p:nvSpPr>
        <p:spPr>
          <a:xfrm>
            <a:off x="3544920" y="486108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OPERACIONAL</a:t>
            </a:r>
            <a:r>
              <a:rPr b="1" lang="en-US" sz="1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2" name="Line 11"/>
          <p:cNvSpPr/>
          <p:nvPr/>
        </p:nvSpPr>
        <p:spPr>
          <a:xfrm>
            <a:off x="1192320" y="2119320"/>
            <a:ext cx="14040" cy="1135080"/>
          </a:xfrm>
          <a:prstGeom prst="line">
            <a:avLst/>
          </a:prstGeom>
          <a:ln w="25560">
            <a:solidFill>
              <a:srgbClr val="ff33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3" name="Rectangle 12"/>
          <p:cNvSpPr/>
          <p:nvPr/>
        </p:nvSpPr>
        <p:spPr>
          <a:xfrm>
            <a:off x="216000" y="3355920"/>
            <a:ext cx="220968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594"/>
                </a:solidFill>
                <a:latin typeface="Times New Roman"/>
                <a:ea typeface="Times New Roman"/>
              </a:rPr>
              <a:t>ADMINISTRACION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4" name="Line 13"/>
          <p:cNvSpPr/>
          <p:nvPr/>
        </p:nvSpPr>
        <p:spPr>
          <a:xfrm>
            <a:off x="1181160" y="3801960"/>
            <a:ext cx="1440" cy="1414440"/>
          </a:xfrm>
          <a:prstGeom prst="line">
            <a:avLst/>
          </a:prstGeom>
          <a:ln w="255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5" name="Rectangle 14"/>
          <p:cNvSpPr/>
          <p:nvPr/>
        </p:nvSpPr>
        <p:spPr>
          <a:xfrm>
            <a:off x="355680" y="5680080"/>
            <a:ext cx="1917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a7594"/>
                </a:solidFill>
                <a:latin typeface="Times New Roman"/>
                <a:ea typeface="Times New Roman"/>
              </a:rPr>
              <a:t>OPERACIONES</a:t>
            </a:r>
            <a:endParaRPr b="0" lang="en-US" sz="16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6" name="Rectangle 15"/>
          <p:cNvSpPr/>
          <p:nvPr/>
        </p:nvSpPr>
        <p:spPr>
          <a:xfrm>
            <a:off x="7647120" y="5831640"/>
            <a:ext cx="1269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ctr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PRODUCTOS: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BIENE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  <a:p>
            <a:pPr marL="414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SERVICI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7" name="Rectangle 16"/>
          <p:cNvSpPr/>
          <p:nvPr/>
        </p:nvSpPr>
        <p:spPr>
          <a:xfrm>
            <a:off x="1635120" y="6043320"/>
            <a:ext cx="91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1400" tIns="0" bIns="0" anchor="ctr">
            <a:spAutoFit/>
          </a:bodyPr>
          <a:p>
            <a:pPr marL="41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a7594"/>
                </a:solidFill>
                <a:latin typeface="Arial"/>
                <a:ea typeface="Arial"/>
              </a:rPr>
              <a:t>INSUMOS</a:t>
            </a:r>
            <a:endParaRPr b="0" lang="en-US" sz="14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8" name="AutoShape 17"/>
          <p:cNvSpPr/>
          <p:nvPr/>
        </p:nvSpPr>
        <p:spPr>
          <a:xfrm>
            <a:off x="3228840" y="5381640"/>
            <a:ext cx="360360" cy="369720"/>
          </a:xfrm>
          <a:custGeom>
            <a:avLst/>
            <a:gdLst>
              <a:gd name="textAreaLeft" fmla="*/ 0 w 360360"/>
              <a:gd name="textAreaRight" fmla="*/ 360720 w 3603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5400" y="54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5400"/>
                </a:lnTo>
                <a:lnTo>
                  <a:pt x="21600" y="5400"/>
                </a:lnTo>
                <a:lnTo>
                  <a:pt x="10800" y="0"/>
                </a:lnTo>
                <a:lnTo>
                  <a:pt x="0" y="5400"/>
                </a:lnTo>
                <a:close/>
                <a:moveTo>
                  <a:pt x="0" y="5400"/>
                </a:move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89" name="AutoShape 18"/>
          <p:cNvSpPr/>
          <p:nvPr/>
        </p:nvSpPr>
        <p:spPr>
          <a:xfrm>
            <a:off x="6443640" y="5381640"/>
            <a:ext cx="360360" cy="369720"/>
          </a:xfrm>
          <a:custGeom>
            <a:avLst/>
            <a:gdLst>
              <a:gd name="textAreaLeft" fmla="*/ 0 w 360360"/>
              <a:gd name="textAreaRight" fmla="*/ 360720 w 3603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lnTo>
                  <a:pt x="5400" y="16200"/>
                </a:lnTo>
                <a:lnTo>
                  <a:pt x="5400" y="0"/>
                </a:lnTo>
                <a:lnTo>
                  <a:pt x="16200" y="0"/>
                </a:lnTo>
                <a:lnTo>
                  <a:pt x="16200" y="16200"/>
                </a:lnTo>
                <a:lnTo>
                  <a:pt x="21600" y="16200"/>
                </a:lnTo>
                <a:lnTo>
                  <a:pt x="10800" y="21600"/>
                </a:lnTo>
                <a:lnTo>
                  <a:pt x="0" y="16200"/>
                </a:lnTo>
                <a:close/>
                <a:moveTo>
                  <a:pt x="0" y="16200"/>
                </a:move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0" name="Rectangle 19"/>
          <p:cNvSpPr/>
          <p:nvPr/>
        </p:nvSpPr>
        <p:spPr>
          <a:xfrm>
            <a:off x="3057480" y="4241880"/>
            <a:ext cx="3962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1400" tIns="0" bIns="0" anchor="ctr">
            <a:noAutofit/>
          </a:bodyPr>
          <a:p>
            <a:pPr marL="41400" algn="ct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imes New Roman"/>
                <a:ea typeface="Times New Roman"/>
              </a:rPr>
              <a:t>MANEJO DE INFORMACION</a:t>
            </a:r>
            <a:endParaRPr b="0" lang="en-US" sz="18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1" name="Line 20"/>
          <p:cNvSpPr/>
          <p:nvPr/>
        </p:nvSpPr>
        <p:spPr>
          <a:xfrm>
            <a:off x="3060720" y="4753080"/>
            <a:ext cx="4032360" cy="144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2" name="Line 21"/>
          <p:cNvSpPr/>
          <p:nvPr/>
        </p:nvSpPr>
        <p:spPr>
          <a:xfrm>
            <a:off x="3564000" y="4033800"/>
            <a:ext cx="3024000" cy="180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3" name="Line 22"/>
          <p:cNvSpPr/>
          <p:nvPr/>
        </p:nvSpPr>
        <p:spPr>
          <a:xfrm>
            <a:off x="4140360" y="3313080"/>
            <a:ext cx="1871640" cy="1800"/>
          </a:xfrm>
          <a:prstGeom prst="line">
            <a:avLst/>
          </a:prstGeom>
          <a:ln w="25560">
            <a:solidFill>
              <a:srgbClr val="908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a7594"/>
              </a:solidFill>
              <a:latin typeface="Helvetica Neue Bold Condensed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36200" y="177840"/>
            <a:ext cx="76834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285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a7594"/>
                </a:solidFill>
                <a:latin typeface="Helvetica Neue Light"/>
              </a:rPr>
              <a:t>Modelo de Uso de Información</a:t>
            </a:r>
            <a:endParaRPr b="0" lang="en-US" sz="5400" spc="-1" strike="noStrike">
              <a:solidFill>
                <a:srgbClr val="4a7594"/>
              </a:solidFill>
              <a:latin typeface="Helvetica Neue Light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75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5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75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5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a Varas</dc:creator>
  <dc:description/>
  <cp:keywords/>
  <dc:language>en-US</dc:language>
  <cp:lastModifiedBy>nn nn</cp:lastModifiedBy>
  <dcterms:modified xsi:type="dcterms:W3CDTF">2011-12-05T13:46:18Z</dcterms:modified>
  <cp:revision>2</cp:revision>
  <dc:subject/>
  <dc:title>Introducción al Análisis de los Sistemas de Información Administrativos</dc:title>
</cp:coreProperties>
</file>