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BD07-D2C7-433C-8CC9-AA1F69A96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4121-1EB4-4B09-9D9B-935ED3D43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EA91-9327-4DDD-82B2-DA7950EC4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3098-4C0E-4A77-9384-0297BA7F2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B9AA-BE6F-4994-96D0-8E184C3D6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EC8FB-D37A-4CAA-A709-6C9219213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C63AE-250C-4341-AB13-022FD7950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CAE5-3EBE-4481-8921-7F5F329DA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832B-3467-4E24-A6CB-23345C598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7A5F-7542-41BE-BCBE-9BB34A5E9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9C07-6700-48E2-85F3-2E80984DB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7AC1-DA22-4B7E-A5ED-6B44ED409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291D-EE48-4BD9-9D14-792649BB1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CA76-3EF4-40CD-AF14-574C1FDF7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0398-E9E5-465B-8C20-3EBE4355D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AE27-CD29-4C4F-A27C-23938247C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810F-F311-4A0E-BE23-ED6E6B722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2EA8-CBD6-4981-8DCD-BABBCEDCC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EAB6-FC69-4C5E-96BE-B5FB97427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3497-94F6-44A3-B1C4-7C79E99F2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2D2C-08B3-4676-9C8E-563602BBB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BF15-2EDA-4AB3-90AE-3B1ECD07C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E50E-E3B5-4549-9F0B-F78A369BC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938B-34A8-44BF-A4C4-E4D64858B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4A08-3B11-434D-A8A1-888AEA8030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0C10-5E99-4053-A134-DB555102F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0B7D-47E4-4E23-80BF-6BD1296AA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F1EA6-6CD9-43C6-9090-6A12BE6AB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DD8F-9353-4F1B-BC04-6C6D64530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802F-F3FD-47FB-8C54-E8D56D1CAF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86D9DF-94E0-4B08-9461-F12F76D9B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513F4F-2CE7-4400-B39B-B4414155A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C508D0-1550-4420-ADF8-6A95D85C64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6FC965-B13B-4AFC-B482-503F801BFB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4F7E58-2F05-45F5-943C-E66AF1CEBE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6CE622-2A7D-4F02-96FA-559DAA356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FBAEF0-6471-4A25-A761-CE0EB76E2E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4CE1B8-391D-4747-8840-31570AFF10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F16EC7-EEBE-4DDB-99BF-E8ACE5FD23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84733D-4592-428B-98E7-28F5E4863B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0AA5AC-09B0-4E92-AE9A-EC95846DBD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485ADD-A724-4EB0-825B-948621F16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1E670D9F-9AC5-40D5-919A-ADEE13458BCA}"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A11C9AE3-09CE-4572-8997-303D78CED88E}"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CDAFB3-6DFF-4109-8F13-B3CABD002DAF}"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DE132A2-9AFB-4BBF-A16D-0780692735C0}"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EF2801F-A2E1-4359-8A1C-034ECE6E3067}"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448DCFF-4158-4532-9A35-8DD7DDEA9F2F}"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F53ADA0-726E-4F32-A1F7-5349E413FF76}"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AE6C5F3-4532-417D-9B68-030603E795C0}"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80AC9444-E456-4AB7-B039-45A8F3ACD620}"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08FA38C-DA9F-40B1-B66E-C80571C81F66}"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7C8D5FC-44B1-4956-A89B-808532FC1347}"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460C72-EE01-4DE1-9C6C-4D0B79C0B824}"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FBC3B8-EFF4-445D-A851-744DF946EEC6}"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1591B2-BD60-4E43-B02B-6EDE33D16314}"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7925FD-964F-49CF-9527-FCE428146B91}"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642368C-50C3-477A-B266-F42455A9304A}"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BA8942B-03CE-45D6-A80E-933C6C33FE92}"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607CF6A-AF2C-4AA1-B6F2-3B5A999EFBA0}"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2B4723A-71E7-4AD6-A470-EFDB614646D3}"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051440C-9061-4A53-B128-08BFDEC0C165}"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C264634-37DF-4C67-9220-44254B3C0B22}"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B5A71C4-9BE8-4A26-A565-430F35E61CDE}"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C2DB756-686E-41E0-9AC7-683AE010434A}"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18619CD-F347-47D0-9E92-E063E3DAD16E}"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0269CD2-5C85-454B-86DB-A09BA25EAF95}"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218073B-F731-442A-BFEA-4FAA757D1DB9}"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306B7D8-CDD6-4ECE-A5FE-D2C34750F707}"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D00078C7-A93A-4624-915D-03E0E50F8193}"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D03522BF-9CC6-4515-B880-9FB8A3CBDB89}"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F1646EB8-2685-4B31-8EE0-AA4A07A45915}"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0B9E7CE-D078-40DD-ACF6-050D14AF0913}"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687E5ED-34C8-4D21-8BEE-9FB2136F1372}"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AD7A064-E9DC-49E0-9F79-89599137BF90}"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F66D5942-27A6-43F5-9A0E-55275D42ABF4}"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7:36Z</dcterms:modified>
  <cp:revision>40</cp:revision>
  <dc:subject>Chapter 7</dc:subject>
  <dc:title>Strategic Management 7e.</dc:title>
</cp:coreProperties>
</file>