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move the slid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E5DB-14E4-485E-B3BB-FFFA80696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2FFA-0DF7-4ADF-A32C-8D32D22D7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50DB-0F49-4766-B407-47F4B2F03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543C-804B-417F-A78F-5876E924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2ADF-8138-4F12-BD0F-C65C610A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517-2801-437C-827E-1B8F11E0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E05A-04F9-4670-9D59-57F5E349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DD7-3F20-4A63-9FF5-F04E5687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AAF-1985-4967-BEBD-9D8D1CD3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747C-6CC6-45B9-8341-0748D138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0862-C24B-492F-AF1A-A3AE83B80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1AE2-AC83-42AD-94C4-FA0653E1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E983-50BE-4C36-B3A7-B266C09F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912-4AEB-4E83-9E72-85729A43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F6D8-3837-44A7-BD5C-5A8C2D3BB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DECC-D943-4AB6-B56A-07D7B476D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5AB5-886F-4744-9EE5-1957B793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576-CB6A-4197-B682-1D4305D81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A87-7D6A-48F7-AD49-C0DDD3290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6BA3-E382-4986-8702-AD7B8D56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AEFC-E371-4188-8B38-4178C3BD8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9BA-F748-4791-8828-C441E436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2659-9367-48CF-A1EE-4CE98B45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353D-AFFF-4299-98AD-BDB30DFF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FB4-94AC-4728-8E89-9F392E3AF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0DF3-D160-49A0-A4F9-2BB0A3412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E7C1-B15E-4BA6-ADB6-0A30D3DB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25E5-C1E0-41F0-B04C-69557FF8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3D5-A4EF-4FDE-BCE0-F611D1B0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FFE-6A19-4599-8903-1D362DBA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327-5E4A-4A98-B9BC-A28D679C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9936-D81C-4294-AE08-1D11E429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C4D-41B3-4C3B-B5F5-756DB161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FFFE-335E-409D-9CCE-D5616BBD5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0B2-4CBE-4E02-823D-478FDDD8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FD2-3D85-4299-BBE8-D99620A9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4CBC-1BEF-4AD8-9216-4D4D88BC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8F91-47C2-4163-B792-360563BED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737A-4BCB-4F1F-BE7A-6DEAFA41C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5CB7-6C76-4920-BFAD-A2784082E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6B136-3CDF-46D3-8501-CA2A15418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B12A4-838E-4F4F-945D-BF6F5C2E0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D811-D4F1-4DC3-BBCA-402155108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9C41-2048-4475-91EB-0432C05BF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FE169-A07E-4592-869F-8924F5C7B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1F7F-8419-4117-A3C1-8D5B667D4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46DF4-7400-4EE0-9601-852DFC20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E4475-DA15-439B-81AE-2E3726B99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7327-F275-4A14-9F12-33D0C2D77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–</a:t>
            </a:r>
            <a:fld id="{DABD28CB-3898-4A76-A59C-FCD216971C2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Line 13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4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5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1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0492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00400" y="2646360"/>
            <a:ext cx="556272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0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 Governance</a:t>
            </a:r>
            <a:endParaRPr b="0" lang="en-US" sz="3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B948D69-F6AE-4963-A568-AA6187F7242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eking of self-interest with guile (cunning or deceit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attitude (inclination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behaviors (specific acts of self-interes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opportunism prevents the maximization of shareholder wealth (the primary goal of owner/principals)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88A6AD9-CA19-4B8D-857E-10A40D2A2A5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ponse to Managerial Opportunis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do not know beforehand which agents will or will not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us, principals establish governance and control mechanisms to prevent managerial opportunis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462BAA4-37E2-4A43-8B01-94891421C27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amples of the Agency Proble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roblem of Product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size, and the relationship of size to managerial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tion of managerial employment ris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Free Cash Flow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prefer to invest these funds in additional product diversification (see above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areholders prefer the funds as dividends so they control how the funds are inves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1804F2A-2351-4EE1-AE01-1A7D5C19A32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495360"/>
            <a:ext cx="7934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 and Shareholder Risk and Diversification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6" name="Line 5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Picture 8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6715440" cy="4915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4D5B8C7E-785B-4D91-8008-BC73EB98D803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gency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m of incentive costs, monitoring costs, enforcement costs, and individual financial losses incurred by principals, because governance mechanisms cannot guarantee total compliance by the ag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incipals may engage in monitoring behavior to assess the activities and decisions of manag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dispersed shareholding makes it difficult and inefficient to monitor management’s behavi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376E561-CEBC-461B-B1A9-D35B0BF793E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Costs and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s of Directors have a fiduciary duty to shareholders to monitor managem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ever, Boards of Directors are often accused of being lax in performing this func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14A3243-2D98-4DC5-A512-9B31C561C94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6064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 Governance Mechanism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04920" y="1327320"/>
            <a:ext cx="830556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Governanc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ship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s responsible for representing the firm’s owners by monitoring top-level managers’ strategic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ecutive Compen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alary, bonuses, and long-term incentives to align managers’ interests with shareholders’ intere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Governance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for Corpora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urchase of a company that is underperforming relative to industry rivals in order to improve the firm’s strategic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126D527-5050-4FC1-ADEB-A43B7A9E119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3200400" y="1314360"/>
            <a:ext cx="990720" cy="44053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405320"/>
              <a:gd name="textAreaBottom" fmla="*/ 4404240 h 44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727"/>
                </a:lnTo>
                <a:cubicBezTo>
                  <a:pt x="10800" y="2738"/>
                  <a:pt x="5400" y="2749"/>
                  <a:pt x="0" y="2749"/>
                </a:cubicBezTo>
                <a:cubicBezTo>
                  <a:pt x="5400" y="2749"/>
                  <a:pt x="10800" y="2760"/>
                  <a:pt x="10800" y="277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77840" y="1330200"/>
            <a:ext cx="4908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rge block shareholders have a strong incentive to monitor management closely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ir large stakes make it worth their while to spend time, effort and expense to monitor clos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y may also obtain Board seats which enhances their ability to monitor effectively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nancial institutions are legally forbidden from directly holding board sea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6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77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9D75E0F-199C-433C-834E-3D73C98CB30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3200400" y="1386000"/>
            <a:ext cx="990720" cy="31860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20 h 3186000"/>
              <a:gd name="textAreaBottom" fmla="*/ 3185280 h 31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3530"/>
                </a:lnTo>
                <a:cubicBezTo>
                  <a:pt x="10800" y="3541"/>
                  <a:pt x="5400" y="3552"/>
                  <a:pt x="0" y="3552"/>
                </a:cubicBezTo>
                <a:cubicBezTo>
                  <a:pt x="5400" y="3552"/>
                  <a:pt x="10800" y="3563"/>
                  <a:pt x="10800" y="357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7840" y="1455840"/>
            <a:ext cx="490860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increasing influence of institutional owners (stock mutual funds and pension funds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Have the size (proxy voting power) and incentive (demand for returns to funds) to discipline ineffective top-level manag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an affect the firm’s choice of strategi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8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7746688-533B-4E82-B319-EAFFACBD327A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"/>
          <p:cNvSpPr/>
          <p:nvPr/>
        </p:nvSpPr>
        <p:spPr>
          <a:xfrm>
            <a:off x="3200400" y="1386000"/>
            <a:ext cx="990720" cy="38718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871800"/>
              <a:gd name="textAreaBottom" fmla="*/ 3870720 h 38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01"/>
                </a:lnTo>
                <a:cubicBezTo>
                  <a:pt x="10800" y="2912"/>
                  <a:pt x="5400" y="2923"/>
                  <a:pt x="0" y="2923"/>
                </a:cubicBezTo>
                <a:cubicBezTo>
                  <a:pt x="5400" y="2923"/>
                  <a:pt x="10800" y="2934"/>
                  <a:pt x="10800" y="29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777840" y="1452240"/>
            <a:ext cx="49086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 activism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can convene to discuss corporation’s directio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f a consensus exists, shareholders can vote as a block to elect their candidates to the boar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xy figh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17400" indent="-2718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here are limits on shareholder activism available to institutional owners in responding to activists’ tactic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19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centration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E1D10F9-C776-46F8-9B63-1EE195AAC09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rporate governance and explain why it is used to monitor and contro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ownership has been largely separated from managerial control in the modern corpora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 agency relationship and managerial opportunism and describe their strategic implic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1880" indent="-461880">
              <a:spcBef>
                <a:spcPts val="104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hree internal governance mechanisms—ownership concentration, the board of directors, and executive compensation—are used to monitor and control managerial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6414F82-6D49-4A76-9BB2-F069B77D909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3200400" y="1386000"/>
            <a:ext cx="990720" cy="402408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024080"/>
              <a:gd name="textAreaBottom" fmla="*/ 4023000 h 40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226"/>
                </a:lnTo>
                <a:cubicBezTo>
                  <a:pt x="10800" y="8237"/>
                  <a:pt x="5400" y="8248"/>
                  <a:pt x="0" y="8248"/>
                </a:cubicBezTo>
                <a:cubicBezTo>
                  <a:pt x="5400" y="8248"/>
                  <a:pt x="10800" y="8259"/>
                  <a:pt x="10800" y="8270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952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Group of elected individuals that acts in the owners’ interests to formally monitor and control the firm’s top-level execu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oard has the power to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rect the affairs of the organiz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unish and reward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tect owners from managerial opportunis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01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04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880107B-0E83-4A60-94E5-D2C8E4CD985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3200400" y="1386000"/>
            <a:ext cx="990720" cy="34909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490920"/>
              <a:gd name="textAreaBottom" fmla="*/ 3489840 h 34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9575"/>
                </a:lnTo>
                <a:cubicBezTo>
                  <a:pt x="10800" y="9586"/>
                  <a:pt x="5400" y="9597"/>
                  <a:pt x="0" y="9597"/>
                </a:cubicBezTo>
                <a:cubicBezTo>
                  <a:pt x="5400" y="9597"/>
                  <a:pt x="10800" y="9608"/>
                  <a:pt x="10800" y="9619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osition of Board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the firm’s CEO and other top-level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Related 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uninvolved with day-to-day operations, but who have a relationship with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utsiders: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 individuals who are independent of the firm’s day-to-day operations and other relationship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12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15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8039665-4BDA-4629-B332-D244E604CA4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741"/>
                </a:lnTo>
                <a:cubicBezTo>
                  <a:pt x="10800" y="8752"/>
                  <a:pt x="5400" y="8763"/>
                  <a:pt x="0" y="8763"/>
                </a:cubicBezTo>
                <a:cubicBezTo>
                  <a:pt x="5400" y="8763"/>
                  <a:pt x="10800" y="8774"/>
                  <a:pt x="10800" y="878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iticisms of Boards of Directors includ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Too readily approve managers’ self-serving initiativ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exploited by managers with personal ties to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re not vigilant enough in hiring and monitoring CEO behavio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ack of agreement about the number of and most appropriate role of outside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2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2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26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379F2CB2-E32E-4426-9EAA-ADDF4EC1E8C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"/>
          <p:cNvSpPr/>
          <p:nvPr/>
        </p:nvSpPr>
        <p:spPr>
          <a:xfrm>
            <a:off x="3200400" y="1386000"/>
            <a:ext cx="990720" cy="39481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948120"/>
              <a:gd name="textAreaBottom" fmla="*/ 3947040 h 39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8368"/>
                </a:lnTo>
                <a:cubicBezTo>
                  <a:pt x="10800" y="8379"/>
                  <a:pt x="5400" y="8390"/>
                  <a:pt x="0" y="8390"/>
                </a:cubicBezTo>
                <a:cubicBezTo>
                  <a:pt x="5400" y="8390"/>
                  <a:pt x="10800" y="8401"/>
                  <a:pt x="10800" y="841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hancing the effectiveness of boards and director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diversity in the backgrounds of board memb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onger internal management and accounting control system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ore formal processes to evaluate the board’s performan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dopting a “lead director” rol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compensation of directo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33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34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37" name="Rectangle 9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Board of Dir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(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C416238-0B97-4F57-935A-3DA8990F568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"/>
          <p:cNvSpPr/>
          <p:nvPr/>
        </p:nvSpPr>
        <p:spPr>
          <a:xfrm>
            <a:off x="3200400" y="1386000"/>
            <a:ext cx="990720" cy="4557600"/>
          </a:xfrm>
          <a:custGeom>
            <a:avLst/>
            <a:gdLst>
              <a:gd name="textAreaLeft" fmla="*/ 632880 w 990720"/>
              <a:gd name="textAreaRight" fmla="*/ 991080 w 990720"/>
              <a:gd name="textAreaTop" fmla="*/ 1440 h 4557600"/>
              <a:gd name="textAreaBottom" fmla="*/ 4556160 h 45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2399"/>
                </a:lnTo>
                <a:cubicBezTo>
                  <a:pt x="10800" y="12410"/>
                  <a:pt x="5400" y="12421"/>
                  <a:pt x="0" y="12421"/>
                </a:cubicBezTo>
                <a:cubicBezTo>
                  <a:pt x="5400" y="12421"/>
                  <a:pt x="10800" y="12432"/>
                  <a:pt x="10800" y="1244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orms of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alaries, bonuses, long-term performance incentives, stock awards,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20680" indent="-22068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actors complicating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ic decisions by top-level managers are complex, non-routine and affect the firm over an extended period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586440" indent="-25812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ther variables affecting the firm’s performance over time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45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48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51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6CFD306-D4EE-4661-BA6B-CAA92DA947EC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"/>
          <p:cNvSpPr/>
          <p:nvPr/>
        </p:nvSpPr>
        <p:spPr>
          <a:xfrm>
            <a:off x="3200400" y="1386000"/>
            <a:ext cx="990720" cy="371952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19520"/>
              <a:gd name="textAreaBottom" fmla="*/ 3718440 h 37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5060"/>
                </a:lnTo>
                <a:cubicBezTo>
                  <a:pt x="10800" y="15071"/>
                  <a:pt x="5400" y="15082"/>
                  <a:pt x="0" y="15082"/>
                </a:cubicBezTo>
                <a:cubicBezTo>
                  <a:pt x="5400" y="15082"/>
                  <a:pt x="10800" y="15093"/>
                  <a:pt x="10800" y="15104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762000" y="1447920"/>
            <a:ext cx="4876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imits on the effectiveness of executive compensation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ntended consequences of stock op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irm performance not as important than firm siz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lance sheet not showing executive wealth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623880" indent="-2746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ptions not expensed at the time they are awarded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59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62" name="Rectangle 15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6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7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65" name="Rectangle 18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9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mpensation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C9388BB-1FDE-4C30-B42B-5F4C519A422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"/>
          <p:cNvSpPr/>
          <p:nvPr/>
        </p:nvSpPr>
        <p:spPr>
          <a:xfrm>
            <a:off x="3200400" y="1690560"/>
            <a:ext cx="990720" cy="37958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3795840"/>
              <a:gd name="textAreaBottom" fmla="*/ 3794760 h 37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877"/>
                </a:lnTo>
                <a:cubicBezTo>
                  <a:pt x="10800" y="18888"/>
                  <a:pt x="5400" y="18899"/>
                  <a:pt x="0" y="18899"/>
                </a:cubicBezTo>
                <a:cubicBezTo>
                  <a:pt x="5400" y="18899"/>
                  <a:pt x="10800" y="18910"/>
                  <a:pt x="10800" y="18921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762000" y="1752480"/>
            <a:ext cx="487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ividuals and firms buy or take over undervalu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effective managers are usually replaced in such takeover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reat of takeover may lead firm to operate more efficient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in regulations have made hostile takeovers difficul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2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73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7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7c9496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d5c5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20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79" name="Rectangle 21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2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3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82" name="Rectangle 24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5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500"/>
                            </p:stCondLst>
                            <p:childTnLst>
                              <p:par>
                                <p:cTn id="6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491153D-CBA9-4B7D-B214-23929041233F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3200400" y="1512720"/>
            <a:ext cx="990720" cy="4253040"/>
          </a:xfrm>
          <a:custGeom>
            <a:avLst/>
            <a:gdLst>
              <a:gd name="textAreaLeft" fmla="*/ 632880 w 990720"/>
              <a:gd name="textAreaRight" fmla="*/ 991080 w 990720"/>
              <a:gd name="textAreaTop" fmla="*/ 1080 h 4253040"/>
              <a:gd name="textAreaBottom" fmla="*/ 4251960 h 42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8079"/>
                </a:lnTo>
                <a:cubicBezTo>
                  <a:pt x="10800" y="18090"/>
                  <a:pt x="5400" y="18101"/>
                  <a:pt x="0" y="18101"/>
                </a:cubicBezTo>
                <a:cubicBezTo>
                  <a:pt x="5400" y="18101"/>
                  <a:pt x="10800" y="18112"/>
                  <a:pt x="10800" y="18123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33920" y="152352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nagerial defense tactics increase the costs of mounting a takeov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fense tactics may requi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sset restructuring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hanges in the financial structure of the firm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 approv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for corporate control lacks the precision of internal governance mechanis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9" name="Group 5"/>
          <p:cNvGrpSpPr/>
          <p:nvPr/>
        </p:nvGrpSpPr>
        <p:grpSpPr>
          <a:xfrm>
            <a:off x="541440" y="1371600"/>
            <a:ext cx="2811240" cy="1036440"/>
            <a:chOff x="541440" y="1371600"/>
            <a:chExt cx="2811240" cy="1036440"/>
          </a:xfrm>
        </p:grpSpPr>
        <p:sp>
          <p:nvSpPr>
            <p:cNvPr id="290" name="Rectangle 6"/>
            <p:cNvSpPr/>
            <p:nvPr/>
          </p:nvSpPr>
          <p:spPr>
            <a:xfrm>
              <a:off x="541440" y="13716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7"/>
            <p:cNvSpPr/>
            <p:nvPr/>
          </p:nvSpPr>
          <p:spPr>
            <a:xfrm>
              <a:off x="644400" y="1449360"/>
              <a:ext cx="260532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541440" y="3483000"/>
            <a:ext cx="2811240" cy="1036440"/>
            <a:chOff x="541440" y="3483000"/>
            <a:chExt cx="2811240" cy="1036440"/>
          </a:xfrm>
        </p:grpSpPr>
        <p:sp>
          <p:nvSpPr>
            <p:cNvPr id="293" name="Rectangle 12"/>
            <p:cNvSpPr/>
            <p:nvPr/>
          </p:nvSpPr>
          <p:spPr>
            <a:xfrm>
              <a:off x="541440" y="348300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644400" y="356040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ecut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mpens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4"/>
          <p:cNvGrpSpPr/>
          <p:nvPr/>
        </p:nvGrpSpPr>
        <p:grpSpPr>
          <a:xfrm>
            <a:off x="541440" y="4538520"/>
            <a:ext cx="2811240" cy="1036440"/>
            <a:chOff x="541440" y="4538520"/>
            <a:chExt cx="2811240" cy="1036440"/>
          </a:xfrm>
        </p:grpSpPr>
        <p:sp>
          <p:nvSpPr>
            <p:cNvPr id="296" name="Rectangle 15"/>
            <p:cNvSpPr/>
            <p:nvPr/>
          </p:nvSpPr>
          <p:spPr>
            <a:xfrm>
              <a:off x="541440" y="45385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6"/>
            <p:cNvSpPr/>
            <p:nvPr/>
          </p:nvSpPr>
          <p:spPr>
            <a:xfrm>
              <a:off x="644400" y="46162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Market f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rporate Control (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541440" y="2427120"/>
            <a:ext cx="2811240" cy="1036440"/>
            <a:chOff x="541440" y="2427120"/>
            <a:chExt cx="2811240" cy="1036440"/>
          </a:xfrm>
        </p:grpSpPr>
        <p:sp>
          <p:nvSpPr>
            <p:cNvPr id="299" name="Rectangle 18"/>
            <p:cNvSpPr/>
            <p:nvPr/>
          </p:nvSpPr>
          <p:spPr>
            <a:xfrm>
              <a:off x="541440" y="2427120"/>
              <a:ext cx="2811240" cy="103644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9"/>
            <p:cNvSpPr/>
            <p:nvPr/>
          </p:nvSpPr>
          <p:spPr>
            <a:xfrm>
              <a:off x="644400" y="2504880"/>
              <a:ext cx="2604600" cy="880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oard of Direc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2500"/>
                            </p:stCondLst>
                            <p:childTnLst>
                              <p:par>
                                <p:cTn id="7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500"/>
                            </p:stCondLst>
                            <p:childTnLst>
                              <p:par>
                                <p:cTn id="7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11F81EA9-B13C-479B-9EAE-527199DE3EE1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41360"/>
            <a:ext cx="8381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10.2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209520" y="1251000"/>
            <a:ext cx="87822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Defense strateg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ategor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Popularity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ffectivenes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tockholder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mong firms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s a defense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wealth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son p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char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end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lden parachu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ig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ma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l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sti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112840"/>
                <a:tab algn="l" pos="3541680"/>
                <a:tab algn="l" pos="5140440"/>
                <a:tab algn="l" pos="6862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tal struct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nclusi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96360" y="6313320"/>
            <a:ext cx="768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. A. Pearce II &amp; R. B. Robinson, Jr., 2004, Hostile takeover defenses that maximize shareholder wealth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Business Horiz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7(5): 15–24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1AAFF8A-D533-4BCA-855E-6E843974F4A2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 and manager are often the same in private fir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ublic firms often have a dominant shareholder, frequently a ban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requently there is less emphasis on shareholder value than in U.S. firms, although this may be chang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10" name="Picture 4" descr="j0234757"/>
          <p:cNvPicPr/>
          <p:nvPr/>
        </p:nvPicPr>
        <p:blipFill>
          <a:blip r:embed="rId1"/>
          <a:stretch/>
        </p:blipFill>
        <p:spPr>
          <a:xfrm>
            <a:off x="5888160" y="4038480"/>
            <a:ext cx="165564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csuj_3zz[1]"/>
          <p:cNvPicPr/>
          <p:nvPr/>
        </p:nvPicPr>
        <p:blipFill>
          <a:blip r:embed="rId2"/>
          <a:stretch/>
        </p:blipFill>
        <p:spPr>
          <a:xfrm>
            <a:off x="6324480" y="2819520"/>
            <a:ext cx="228600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F56C3C9C-CF0B-4D27-8836-361CC1182C78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types of compensation executives receive and their effects on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the external corporate governance mechanism—the market for corporate control—acts as a restraint on top-level managers’ strategic decis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 governance in international settings, in particular in Germany and Japa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rporate governance fosters ethical strategic decisions and the importance of such behaviors on the part of top-level executiv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1E01221-4A53-4F21-A304-3010011489D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4006800" y="225252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the functions of direction and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4006800" y="34718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Vo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006800" y="4937040"/>
            <a:ext cx="399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le for appointing members to the Aufsichts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1301760" y="2057400"/>
            <a:ext cx="2482560" cy="1033200"/>
            <a:chOff x="1301760" y="2057400"/>
            <a:chExt cx="2482560" cy="1033200"/>
          </a:xfrm>
        </p:grpSpPr>
        <p:sp>
          <p:nvSpPr>
            <p:cNvPr id="319" name="Rectangle 7"/>
            <p:cNvSpPr/>
            <p:nvPr/>
          </p:nvSpPr>
          <p:spPr>
            <a:xfrm>
              <a:off x="1301760" y="2057400"/>
              <a:ext cx="2482560" cy="10332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"/>
            <p:cNvSpPr/>
            <p:nvPr/>
          </p:nvSpPr>
          <p:spPr>
            <a:xfrm>
              <a:off x="1361880" y="2125440"/>
              <a:ext cx="2327400" cy="89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orst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9"/>
          <p:cNvGrpSpPr/>
          <p:nvPr/>
        </p:nvGrpSpPr>
        <p:grpSpPr>
          <a:xfrm>
            <a:off x="1301760" y="3352680"/>
            <a:ext cx="2482920" cy="1033200"/>
            <a:chOff x="1301760" y="3352680"/>
            <a:chExt cx="2482920" cy="1033200"/>
          </a:xfrm>
        </p:grpSpPr>
        <p:sp>
          <p:nvSpPr>
            <p:cNvPr id="322" name="Rectangle 10"/>
            <p:cNvSpPr/>
            <p:nvPr/>
          </p:nvSpPr>
          <p:spPr>
            <a:xfrm>
              <a:off x="1301760" y="3352680"/>
              <a:ext cx="2482920" cy="1033200"/>
            </a:xfrm>
            <a:prstGeom prst="rect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1"/>
            <p:cNvSpPr/>
            <p:nvPr/>
          </p:nvSpPr>
          <p:spPr>
            <a:xfrm>
              <a:off x="1362240" y="3420720"/>
              <a:ext cx="2327040" cy="8971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ufsichtsr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2"/>
          <p:cNvGrpSpPr/>
          <p:nvPr/>
        </p:nvGrpSpPr>
        <p:grpSpPr>
          <a:xfrm>
            <a:off x="1300320" y="4627440"/>
            <a:ext cx="2495520" cy="1359000"/>
            <a:chOff x="1300320" y="4627440"/>
            <a:chExt cx="2495520" cy="1359000"/>
          </a:xfrm>
        </p:grpSpPr>
        <p:sp>
          <p:nvSpPr>
            <p:cNvPr id="325" name="Rectangle 13"/>
            <p:cNvSpPr/>
            <p:nvPr/>
          </p:nvSpPr>
          <p:spPr>
            <a:xfrm>
              <a:off x="1300320" y="4627440"/>
              <a:ext cx="2495520" cy="1359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4"/>
            <p:cNvSpPr/>
            <p:nvPr/>
          </p:nvSpPr>
          <p:spPr>
            <a:xfrm>
              <a:off x="1377720" y="4802400"/>
              <a:ext cx="2340000" cy="10087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Un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bers Shar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7" name="AutoShape 15"/>
          <p:cNvCxnSpPr>
            <a:stCxn id="325" idx="0"/>
            <a:endCxn id="322" idx="2"/>
          </p:cNvCxnSpPr>
          <p:nvPr/>
        </p:nvCxnSpPr>
        <p:spPr>
          <a:xfrm flipH="1" flipV="1">
            <a:off x="2542680" y="4385880"/>
            <a:ext cx="5760" cy="241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28" name="AutoShape 16"/>
          <p:cNvCxnSpPr>
            <a:stCxn id="322" idx="0"/>
            <a:endCxn id="319" idx="2"/>
          </p:cNvCxnSpPr>
          <p:nvPr/>
        </p:nvCxnSpPr>
        <p:spPr>
          <a:xfrm flipV="1">
            <a:off x="2542680" y="309060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29" name="Text Box 17"/>
          <p:cNvSpPr/>
          <p:nvPr/>
        </p:nvSpPr>
        <p:spPr>
          <a:xfrm>
            <a:off x="195264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Germany: Two-tiered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A889A1D-7564-469A-ADB3-EEFCE12E662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j0090245"/>
          <p:cNvPicPr/>
          <p:nvPr/>
        </p:nvPicPr>
        <p:blipFill>
          <a:blip r:embed="rId1"/>
          <a:stretch/>
        </p:blipFill>
        <p:spPr>
          <a:xfrm>
            <a:off x="6864480" y="3352680"/>
            <a:ext cx="1670040" cy="17049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956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governance factor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n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iretsus: strongly interrelated groups of firms tied together by cross-shareholding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nks (especially “main bank”) are highly influential with firm’s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335" name="Picture 5" descr="v0igzx1j[1]"/>
          <p:cNvPicPr/>
          <p:nvPr/>
        </p:nvPicPr>
        <p:blipFill>
          <a:blip r:embed="rId2"/>
          <a:stretch/>
        </p:blipFill>
        <p:spPr>
          <a:xfrm>
            <a:off x="6172200" y="1981080"/>
            <a:ext cx="2127240" cy="149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3766BE3-5938-4D61-87A9-3147D0E3895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pan (cont’d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ther governance characteristics: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government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relationships between firms and government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and stable shareholders who exert littl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bsence of external market for corporat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78B9846B-17FB-41DA-937B-3242C051006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rporate Governanc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Corporate Govern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2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Organizations worldwide are adopting a relatively uniform governance structure.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s of directors are becoming smaller, with more independent and outsid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s are becoming more 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apidly developing market economies, minority shareholder rights are not protected by adequate governance contr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97FCDACA-1448-4C6E-9E21-EBEAAFD422D6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566640" y="4716360"/>
            <a:ext cx="2584440" cy="846360"/>
            <a:chOff x="566640" y="4716360"/>
            <a:chExt cx="2584440" cy="846360"/>
          </a:xfrm>
        </p:grpSpPr>
        <p:sp>
          <p:nvSpPr>
            <p:cNvPr id="347" name="Rectangle 5"/>
            <p:cNvSpPr/>
            <p:nvPr/>
          </p:nvSpPr>
          <p:spPr>
            <a:xfrm>
              <a:off x="566640" y="471636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619200" y="47743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7"/>
          <p:cNvGrpSpPr/>
          <p:nvPr/>
        </p:nvGrpSpPr>
        <p:grpSpPr>
          <a:xfrm>
            <a:off x="566640" y="3835440"/>
            <a:ext cx="2584440" cy="846000"/>
            <a:chOff x="566640" y="3835440"/>
            <a:chExt cx="2584440" cy="846000"/>
          </a:xfrm>
        </p:grpSpPr>
        <p:sp>
          <p:nvSpPr>
            <p:cNvPr id="350" name="Rectangle 8"/>
            <p:cNvSpPr/>
            <p:nvPr/>
          </p:nvSpPr>
          <p:spPr>
            <a:xfrm>
              <a:off x="566640" y="38354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9"/>
            <p:cNvSpPr/>
            <p:nvPr/>
          </p:nvSpPr>
          <p:spPr>
            <a:xfrm>
              <a:off x="625320" y="38890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5187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Ethical Behavio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0"/>
          <p:cNvSpPr/>
          <p:nvPr/>
        </p:nvSpPr>
        <p:spPr>
          <a:xfrm>
            <a:off x="3530520" y="3033720"/>
            <a:ext cx="51055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hareholders (in the capital market stakeholder group) are viewed as the most important stakehold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focus of governance mechanisms is on the control of managerial decisions to assure shareholder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rests of shareholders is served by the Board of Dire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32"/>
          <p:cNvSpPr/>
          <p:nvPr/>
        </p:nvSpPr>
        <p:spPr>
          <a:xfrm>
            <a:off x="3124080" y="302256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2918"/>
                </a:lnTo>
                <a:cubicBezTo>
                  <a:pt x="10800" y="2929"/>
                  <a:pt x="5400" y="2940"/>
                  <a:pt x="0" y="2940"/>
                </a:cubicBezTo>
                <a:cubicBezTo>
                  <a:pt x="5400" y="2940"/>
                  <a:pt x="10800" y="2951"/>
                  <a:pt x="10800" y="2962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565200" y="2963880"/>
            <a:ext cx="2584440" cy="846000"/>
            <a:chOff x="565200" y="2963880"/>
            <a:chExt cx="2584440" cy="846000"/>
          </a:xfrm>
        </p:grpSpPr>
        <p:sp>
          <p:nvSpPr>
            <p:cNvPr id="357" name="Rectangle 11"/>
            <p:cNvSpPr/>
            <p:nvPr/>
          </p:nvSpPr>
          <p:spPr>
            <a:xfrm>
              <a:off x="565200" y="29638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623880" y="30178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500"/>
                            </p:stCondLst>
                            <p:childTnLst>
                              <p:par>
                                <p:cTn id="9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3000"/>
                            </p:stCondLst>
                            <p:childTnLst>
                              <p:par>
                                <p:cTn id="9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3500"/>
                            </p:stCondLst>
                            <p:childTnLst>
                              <p:par>
                                <p:cTn id="9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50331BE2-870C-4B57-A3D2-099726B6F9C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66640" y="4718160"/>
            <a:ext cx="2584440" cy="846000"/>
            <a:chOff x="566640" y="4718160"/>
            <a:chExt cx="2584440" cy="846000"/>
          </a:xfrm>
        </p:grpSpPr>
        <p:sp>
          <p:nvSpPr>
            <p:cNvPr id="362" name="Rectangle 5"/>
            <p:cNvSpPr/>
            <p:nvPr/>
          </p:nvSpPr>
          <p:spPr>
            <a:xfrm>
              <a:off x="566640" y="471816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619200" y="477612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7"/>
          <p:cNvGrpSpPr/>
          <p:nvPr/>
        </p:nvGrpSpPr>
        <p:grpSpPr>
          <a:xfrm>
            <a:off x="566640" y="3833640"/>
            <a:ext cx="2584440" cy="846360"/>
            <a:chOff x="566640" y="3833640"/>
            <a:chExt cx="2584440" cy="846360"/>
          </a:xfrm>
        </p:grpSpPr>
        <p:sp>
          <p:nvSpPr>
            <p:cNvPr id="365" name="Rectangle 8"/>
            <p:cNvSpPr/>
            <p:nvPr/>
          </p:nvSpPr>
          <p:spPr>
            <a:xfrm>
              <a:off x="566640" y="3833640"/>
              <a:ext cx="2584440" cy="846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25320" y="38872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10"/>
          <p:cNvGrpSpPr/>
          <p:nvPr/>
        </p:nvGrpSpPr>
        <p:grpSpPr>
          <a:xfrm>
            <a:off x="565200" y="2959200"/>
            <a:ext cx="2584440" cy="846000"/>
            <a:chOff x="565200" y="2959200"/>
            <a:chExt cx="2584440" cy="846000"/>
          </a:xfrm>
        </p:grpSpPr>
        <p:sp>
          <p:nvSpPr>
            <p:cNvPr id="368" name="Rectangle 11"/>
            <p:cNvSpPr/>
            <p:nvPr/>
          </p:nvSpPr>
          <p:spPr>
            <a:xfrm>
              <a:off x="565200" y="295920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623880" y="301320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1" name="Rectangle 30"/>
          <p:cNvSpPr/>
          <p:nvPr/>
        </p:nvSpPr>
        <p:spPr>
          <a:xfrm>
            <a:off x="3505320" y="3040200"/>
            <a:ext cx="49528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duct market stakeholders (customers, suppliers and host communities) and organizational stakeholders may withdraw their support of the firm if their needs are not met, at least minim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32"/>
          <p:cNvSpPr/>
          <p:nvPr/>
        </p:nvSpPr>
        <p:spPr>
          <a:xfrm>
            <a:off x="3124080" y="2997360"/>
            <a:ext cx="609840" cy="2082600"/>
          </a:xfrm>
          <a:custGeom>
            <a:avLst/>
            <a:gdLst>
              <a:gd name="textAreaLeft" fmla="*/ 389520 w 609840"/>
              <a:gd name="textAreaRight" fmla="*/ 610200 w 609840"/>
              <a:gd name="textAreaTop" fmla="*/ 360 h 2082600"/>
              <a:gd name="textAreaBottom" fmla="*/ 2082240 h 208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3001"/>
                </a:lnTo>
                <a:cubicBezTo>
                  <a:pt x="10800" y="13012"/>
                  <a:pt x="5400" y="13023"/>
                  <a:pt x="0" y="13023"/>
                </a:cubicBezTo>
                <a:cubicBezTo>
                  <a:pt x="5400" y="13023"/>
                  <a:pt x="10800" y="13034"/>
                  <a:pt x="10800" y="13045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1752480" y="1905120"/>
            <a:ext cx="5639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24C79D89-D540-48ED-B825-BCFE05832F8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32"/>
          <p:cNvSpPr/>
          <p:nvPr/>
        </p:nvSpPr>
        <p:spPr>
          <a:xfrm>
            <a:off x="3124080" y="2971800"/>
            <a:ext cx="609840" cy="2743200"/>
          </a:xfrm>
          <a:custGeom>
            <a:avLst/>
            <a:gdLst>
              <a:gd name="textAreaLeft" fmla="*/ 389520 w 609840"/>
              <a:gd name="textAreaRight" fmla="*/ 610200 w 609840"/>
              <a:gd name="textAreaTop" fmla="*/ 720 h 2743200"/>
              <a:gd name="textAreaBottom" fmla="*/ 27424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"/>
                  <a:pt x="10800" y="22"/>
                </a:cubicBezTo>
                <a:lnTo>
                  <a:pt x="10800" y="16703"/>
                </a:lnTo>
                <a:cubicBezTo>
                  <a:pt x="10800" y="16714"/>
                  <a:pt x="5400" y="16725"/>
                  <a:pt x="0" y="16725"/>
                </a:cubicBezTo>
                <a:cubicBezTo>
                  <a:pt x="5400" y="16725"/>
                  <a:pt x="10800" y="16736"/>
                  <a:pt x="10800" y="16747"/>
                </a:cubicBezTo>
                <a:lnTo>
                  <a:pt x="10800" y="21578"/>
                </a:lnTo>
                <a:cubicBezTo>
                  <a:pt x="10800" y="2158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66640" y="3822840"/>
            <a:ext cx="2584440" cy="846000"/>
            <a:chOff x="566640" y="3822840"/>
            <a:chExt cx="2584440" cy="846000"/>
          </a:xfrm>
        </p:grpSpPr>
        <p:sp>
          <p:nvSpPr>
            <p:cNvPr id="378" name="Rectangle 8"/>
            <p:cNvSpPr/>
            <p:nvPr/>
          </p:nvSpPr>
          <p:spPr>
            <a:xfrm>
              <a:off x="566640" y="38228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625320" y="387648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Product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"/>
          <p:cNvGrpSpPr/>
          <p:nvPr/>
        </p:nvGrpSpPr>
        <p:grpSpPr>
          <a:xfrm>
            <a:off x="566640" y="4710240"/>
            <a:ext cx="2584440" cy="846000"/>
            <a:chOff x="566640" y="4710240"/>
            <a:chExt cx="2584440" cy="846000"/>
          </a:xfrm>
        </p:grpSpPr>
        <p:sp>
          <p:nvSpPr>
            <p:cNvPr id="381" name="Rectangle 5"/>
            <p:cNvSpPr/>
            <p:nvPr/>
          </p:nvSpPr>
          <p:spPr>
            <a:xfrm>
              <a:off x="566640" y="471024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619200" y="4768200"/>
              <a:ext cx="2467080" cy="73836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"/>
          <p:cNvGrpSpPr/>
          <p:nvPr/>
        </p:nvGrpSpPr>
        <p:grpSpPr>
          <a:xfrm>
            <a:off x="565200" y="2951280"/>
            <a:ext cx="2584440" cy="846000"/>
            <a:chOff x="565200" y="2951280"/>
            <a:chExt cx="2584440" cy="846000"/>
          </a:xfrm>
        </p:grpSpPr>
        <p:sp>
          <p:nvSpPr>
            <p:cNvPr id="384" name="Rectangle 11"/>
            <p:cNvSpPr/>
            <p:nvPr/>
          </p:nvSpPr>
          <p:spPr>
            <a:xfrm>
              <a:off x="565200" y="2951280"/>
              <a:ext cx="2584440" cy="846000"/>
            </a:xfrm>
            <a:prstGeom prst="rect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23880" y="3005280"/>
              <a:ext cx="2467080" cy="738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ital Mar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kehol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518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overnance Mechanisms and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Behavio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7" name="Text Box 29"/>
          <p:cNvSpPr/>
          <p:nvPr/>
        </p:nvSpPr>
        <p:spPr>
          <a:xfrm>
            <a:off x="1790640" y="1905120"/>
            <a:ext cx="556272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t is important to serve the interests of the firm’s multiple stakeholder grou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"/>
          <p:cNvSpPr/>
          <p:nvPr/>
        </p:nvSpPr>
        <p:spPr>
          <a:xfrm>
            <a:off x="3505320" y="3014640"/>
            <a:ext cx="49528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ome observers believe that ethically responsible companies design and use governance mechanisms that serve all stakeholders’ inter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mportance of maintaining ethical behavior is seen in the examples of Enron, WorldCom, HealthSouth and Ty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05CF3655-5F11-44DB-A2D3-C53C80ED78BB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Govern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governance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relationship among stakeholders that is used to determine and control the strategic direction and performance of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identifying ways to ensure that strategic decisions are made more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ed in corporations to establish order between the firm’s owners and its top-level managers whose interests may be in confli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B136671F-0B0C-4C2D-B4E6-D45768348740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992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ship Concent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ve amounts of stock owned by individual shareholders and institutional inves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oard of Direc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s responsible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representing the firm’s </a:t>
            </a:r>
            <a:br>
              <a:rPr sz="2400"/>
            </a:b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wners by monitoring top-level managers’ strategic dec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6" name="Picture 27" descr="j0090344"/>
          <p:cNvPicPr/>
          <p:nvPr/>
        </p:nvPicPr>
        <p:blipFill>
          <a:blip r:embed="rId1"/>
          <a:stretch/>
        </p:blipFill>
        <p:spPr>
          <a:xfrm>
            <a:off x="5486400" y="2401920"/>
            <a:ext cx="2801880" cy="209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ECF9F41A-9A80-49FB-8E63-77CD45FA61DD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Governance Mechanism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486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ecutive Compens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use of salary, bonuses, and long-term incentives to align managers’ interests with shareholders’ intere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for Corporate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purchase of a firm that is underperforming relative to industry rivals in order to improve its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1" name="Picture 29" descr="j0215564"/>
          <p:cNvPicPr/>
          <p:nvPr/>
        </p:nvPicPr>
        <p:blipFill>
          <a:blip r:embed="rId1"/>
          <a:stretch/>
        </p:blipFill>
        <p:spPr>
          <a:xfrm>
            <a:off x="5791320" y="2009880"/>
            <a:ext cx="2879640" cy="28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Marcador de pie de página 4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Marcador de número de diapositiva 5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8118EDA8-1562-44CC-A984-3854513959E9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paration of Ownership and Managerial Contro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asis of the modern corpor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purchase stock, becoming residual claimant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hareholders reduce risk by holding diversified portfolio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fessional managers are contracted to provide decision making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dern public corporation form leads to efficient specialization of task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isk bearing by sharehold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rategy development and decision making by manager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Marcador de pie de página 2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arcador de número de diapositiva 3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AFEEC44B-5DA1-4B2E-8A38-8EAECDF1843E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0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gency Relationship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0" name="Freeform 4"/>
          <p:cNvSpPr/>
          <p:nvPr/>
        </p:nvSpPr>
        <p:spPr>
          <a:xfrm>
            <a:off x="457200" y="457200"/>
            <a:ext cx="8229600" cy="4665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32" name="Line 6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2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538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ie de página 3"/>
          <p:cNvSpPr/>
          <p:nvPr/>
        </p:nvSpPr>
        <p:spPr>
          <a:xfrm>
            <a:off x="533520" y="6400800"/>
            <a:ext cx="571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número de diapositiva 4"/>
          <p:cNvSpPr/>
          <p:nvPr/>
        </p:nvSpPr>
        <p:spPr>
          <a:xfrm>
            <a:off x="7315200" y="647712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10–</a:t>
            </a:r>
            <a:fld id="{697CCC84-7858-412F-9A24-BB02135C6E04}" type="slidenum">
              <a:rPr b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gency Relationship Proble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ncipal and agent have divergent interests and goa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hareholders lack direct control of large, publicly traded corpora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makes decisions that result in the pursuit of goals that conflict with those of the princip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 is difficult or expensive for the principal to verify that the agent has behaved appropriatel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nt falls prey to managerial opportunis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6:39:10Z</dcterms:created>
  <dc:creator>Charlie Cook, The University of West Alabama</dc:creator>
  <dc:description/>
  <dc:language>en-US</dc:language>
  <cp:lastModifiedBy>Luis Zaviezo</cp:lastModifiedBy>
  <dcterms:modified xsi:type="dcterms:W3CDTF">2010-11-08T16:49:52Z</dcterms:modified>
  <cp:revision>47</cp:revision>
  <dc:subject>Chapter 10</dc:subject>
  <dc:title>Strategic Management 7e.</dc:title>
</cp:coreProperties>
</file>