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10F-0DDC-4D26-AA0B-42037D3E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AAF-A39F-4C8F-AF31-BF5B0B0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305-337B-4AD5-8EFB-C1CC8052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4A0-2DF0-47A1-8C9F-F6015BB5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861-ECBD-4ED7-8405-1531E213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B86-E4CC-4BA5-B086-175EC0A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7F9-ECAD-4573-A7B0-4718EC6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B39-84F4-49B5-A508-15ACCE7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633-8B96-4EE9-87E5-5B54164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B48-6C66-4EB9-B20E-A22B425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B21-0183-4885-B6FD-2D52985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788-D9E6-4B30-87F0-C567869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FBF7FA1-43E5-444E-9976-0592375223D5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9423C7A-8A93-47E6-80FF-B4A4DB0BAC7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A97EDD5-BEB1-46DD-96B1-6E9110E743B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Imagen" descr="core_values[1].jpg"/>
          <p:cNvPicPr/>
          <p:nvPr/>
        </p:nvPicPr>
        <p:blipFill>
          <a:blip r:embed="rId1"/>
          <a:stretch/>
        </p:blipFill>
        <p:spPr>
          <a:xfrm>
            <a:off x="4786200" y="356400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92" name="8 Imagen" descr="scale_clip_art_17489[1].jpg"/>
          <p:cNvPicPr/>
          <p:nvPr/>
        </p:nvPicPr>
        <p:blipFill>
          <a:blip r:embed="rId2"/>
          <a:stretch/>
        </p:blipFill>
        <p:spPr>
          <a:xfrm>
            <a:off x="4786200" y="0"/>
            <a:ext cx="4211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3"/>
          <p:cNvSpPr/>
          <p:nvPr/>
        </p:nvSpPr>
        <p:spPr>
          <a:xfrm>
            <a:off x="974880" y="900000"/>
            <a:ext cx="757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¿AUTÓNO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w &amp;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D7067CD-D9DE-4E9E-8CD5-B24F4DB1736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7 Imagen" descr="Isla_con_Palmera-1024x768-25719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3"/>
          <p:cNvSpPr/>
          <p:nvPr/>
        </p:nvSpPr>
        <p:spPr>
          <a:xfrm>
            <a:off x="974880" y="900000"/>
            <a:ext cx="7573680" cy="83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DERECHO VS.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ción + s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implí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uición sobre 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y métodos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AC2A194-4C81-44CA-9036-004F970700B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 Imagen" descr="skeleton-anatomy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8 Imagen" descr="sistema-circulatorio[1].jpg"/>
          <p:cNvPicPr/>
          <p:nvPr/>
        </p:nvPicPr>
        <p:blipFill>
          <a:blip r:embed="rId2"/>
          <a:stretch/>
        </p:blipFill>
        <p:spPr>
          <a:xfrm>
            <a:off x="5003640" y="262728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echo vs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550B841-3379-4274-9721-DA28E8170B0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 Imagen" descr="bostezo4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Civ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8FC2931-8BDF-4EDC-936F-4D05B6D0217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upload.wikimedia.org/wikipedia/commons/thumb/2/25/Codigo_Civil_Chile_01.jpg/150px-Codigo_Civil_Chile_01.jpg"/>
          <p:cNvPicPr/>
          <p:nvPr/>
        </p:nvPicPr>
        <p:blipFill>
          <a:blip r:embed="rId1"/>
          <a:stretch/>
        </p:blipFill>
        <p:spPr>
          <a:xfrm>
            <a:off x="4859280" y="0"/>
            <a:ext cx="4138560" cy="3014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84240" y="-1198440"/>
            <a:ext cx="1847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educarchile.cl/UserFiles/P0001/Image/Modulo2_contenidos_estudiantes_historia_eje2/Andres_Bello.jpg"/>
          <p:cNvPicPr/>
          <p:nvPr/>
        </p:nvPicPr>
        <p:blipFill>
          <a:blip r:embed="rId2"/>
          <a:stretch/>
        </p:blipFill>
        <p:spPr>
          <a:xfrm>
            <a:off x="4859280" y="3014640"/>
            <a:ext cx="4138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uadroTexto 3"/>
          <p:cNvSpPr/>
          <p:nvPr/>
        </p:nvSpPr>
        <p:spPr>
          <a:xfrm>
            <a:off x="974880" y="900000"/>
            <a:ext cx="757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/Potestad reg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995E3BB-6293-430A-9451-7BF8EE3531A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error-de-derecho-300x30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ORIA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g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 de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33D18FB-9894-4A3A-A305-EF435D92E79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books[1].jpg"/>
          <p:cNvPicPr/>
          <p:nvPr/>
        </p:nvPicPr>
        <p:blipFill>
          <a:blip r:embed="rId1"/>
          <a:stretch/>
        </p:blipFill>
        <p:spPr>
          <a:xfrm>
            <a:off x="4660920" y="855720"/>
            <a:ext cx="4336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974880" y="900000"/>
            <a:ext cx="75736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RAMA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9B8BC02-2A06-4952-A653-5BDCEBF2A8D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0 Imagen" descr="arboles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974880" y="900000"/>
            <a:ext cx="3595680" cy="76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S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esoro encontrado en terreno ajeno se dividirá por partes iguales entre el dueño del terreno y la persona que haya hecho el descubrimiento. Pero esta última no tendrá derecho a su porción, sino cuando el descubrimiento sea fortuito o cuando se haya buscado el tesoro con permiso del dueño del terreno. En los demás casos, o cuando sean una misma persona el dueño del terreno y el descubridor, pertenecerá todo el tesoro al dueño del terren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F0DBDC3-07F2-4C2A-AA40-574FDE4729B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Firarrazabal\Desktop\treasure[1].jpg"/>
          <p:cNvPicPr/>
          <p:nvPr/>
        </p:nvPicPr>
        <p:blipFill>
          <a:blip r:embed="rId1"/>
          <a:stretch/>
        </p:blipFill>
        <p:spPr>
          <a:xfrm>
            <a:off x="4570560" y="0"/>
            <a:ext cx="442728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uadroTexto 3"/>
          <p:cNvSpPr/>
          <p:nvPr/>
        </p:nvSpPr>
        <p:spPr>
          <a:xfrm>
            <a:off x="974880" y="900000"/>
            <a:ext cx="3452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LESION EN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endedor sufre lesión enorme, cuando el precio que recibe es inferior a la mitad del justo precio de la cosa que se vende; y el comprador a su vez sufre lesión enorme, cuando el justo precio de la cosa que compra es inferior a la mitad del precio que paga por e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7C8582-F6F1-4F94-A136-9B2B178ABE1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Firarrazabal\Desktop\imagesCALPG78Q.jpg"/>
          <p:cNvPicPr/>
          <p:nvPr/>
        </p:nvPicPr>
        <p:blipFill>
          <a:blip r:embed="rId1"/>
          <a:stretch/>
        </p:blipFill>
        <p:spPr>
          <a:xfrm>
            <a:off x="4930920" y="0"/>
            <a:ext cx="4066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974880" y="900000"/>
            <a:ext cx="34527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ANIMAL F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 causado por un animal fiero, de que no se reporta utilidad para la guarda o servicio de un predio, será siempre imputable al que lo tenga, y si alegare que no le fue posible evitar el daño, no será oí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FA625E5-303C-437C-992B-DF306F44EAB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Firarrazabal\Desktop\perro bravo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0-06T18:54:34Z</dcterms:modified>
  <cp:revision>138</cp:revision>
  <dc:subject/>
  <dc:title>Diapositiva 1</dc:title>
</cp:coreProperties>
</file>