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97188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8DC8ED7D-9B5B-4A67-8564-1EE6239A1E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95200" y="690120"/>
            <a:ext cx="4622760" cy="346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34560" y="4387680"/>
            <a:ext cx="5140440" cy="42386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0" y="885348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al iDTV da CidadeBCP</a:t>
            </a: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971880" y="885348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E369F85C-B487-4BEF-83D8-3A7BF6706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3971880" y="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0C95C118-D9BF-4AB8-B148-67A549EAFE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0" y="885348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al iDTV da CidadeBCP</a:t>
            </a: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3971880" y="885348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EB76539D-EB19-4D82-B9F4-9A351FBA94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97000" y="690480"/>
            <a:ext cx="4619520" cy="346572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34560" y="4387680"/>
            <a:ext cx="514044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3971880" y="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8326409D-DA04-474B-AF12-ACBEE524E0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0" y="885348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al iDTV da CidadeBCP</a:t>
            </a: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971880" y="885348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DF6E0CB5-AC6B-47A0-A351-3F8153BF4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97000" y="690480"/>
            <a:ext cx="4619520" cy="346572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34560" y="4387680"/>
            <a:ext cx="514044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3971880" y="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6442A017-2A1E-45BA-A6E6-E38835EEB7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0" y="885348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al iDTV da CidadeBCP</a:t>
            </a: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3971880" y="885348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CA55333D-BF7C-4FB2-9BE0-466D106D8F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97000" y="690480"/>
            <a:ext cx="4619520" cy="34657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34560" y="4387680"/>
            <a:ext cx="514044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3"/>
          <p:cNvSpPr/>
          <p:nvPr/>
        </p:nvSpPr>
        <p:spPr>
          <a:xfrm>
            <a:off x="3971880" y="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0BFC367C-1618-427D-9D20-293C15AC23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0" y="885348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al iDTV da CidadeBCP</a:t>
            </a: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3971880" y="885348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89898DB1-4725-409E-9DC7-141536EA15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97000" y="690480"/>
            <a:ext cx="4619520" cy="34657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34560" y="4387680"/>
            <a:ext cx="514044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3"/>
          <p:cNvSpPr/>
          <p:nvPr/>
        </p:nvSpPr>
        <p:spPr>
          <a:xfrm>
            <a:off x="3971880" y="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AD9E63EB-6568-4469-95F0-EC90C5FF9B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0" y="885348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al iDTV da CidadeBCP</a:t>
            </a: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971880" y="885348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589A8A48-90DB-4410-8927-399AE6509D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97000" y="690480"/>
            <a:ext cx="4619520" cy="346572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34560" y="4387680"/>
            <a:ext cx="514044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3"/>
          <p:cNvSpPr/>
          <p:nvPr/>
        </p:nvSpPr>
        <p:spPr>
          <a:xfrm>
            <a:off x="3971880" y="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FEF99C64-DA90-4F76-941A-B1E6B0ADF6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0" y="885348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al iDTV da CidadeBCP</a:t>
            </a: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971880" y="885348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1B648FF8-80C6-4391-ACAC-C4A902C6A4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97000" y="690480"/>
            <a:ext cx="4619520" cy="346572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34560" y="4387680"/>
            <a:ext cx="514044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3"/>
          <p:cNvSpPr/>
          <p:nvPr/>
        </p:nvSpPr>
        <p:spPr>
          <a:xfrm>
            <a:off x="3971880" y="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088FC1D2-2E9E-4CB5-9904-2BFCEF675C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0" y="885348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al iDTV da CidadeBCP</a:t>
            </a: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3971880" y="885348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832F9D1B-0F9F-450A-B727-E1D1547BF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97000" y="690480"/>
            <a:ext cx="4619520" cy="346572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34560" y="4387680"/>
            <a:ext cx="514044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52D77-6A60-4805-B649-1C68E74796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181080"/>
            <a:ext cx="57420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520" y="375984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8D8E4-5898-4C54-AC0A-83C865F8BB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181080"/>
            <a:ext cx="57420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4560" y="137160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520" y="375984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14560" y="375984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85191-42FD-49DE-812E-C75C86BDA4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181080"/>
            <a:ext cx="57420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40360" y="137160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0560" y="137160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520" y="375984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40360" y="375984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0560" y="375984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219D4-CC33-4F71-8CA1-0336E3CC40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81080"/>
            <a:ext cx="57420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520" y="13716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B9140-EF45-4788-9C78-03A5F2610B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81080"/>
            <a:ext cx="57420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162B0-6D98-478B-BBBA-63FE4B118A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181080"/>
            <a:ext cx="57420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4560" y="137160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271D2-FB5A-4199-AFDE-C719223F3E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81080"/>
            <a:ext cx="57420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53B76-7FC5-4ACF-BBBC-315A511FF1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600" y="181080"/>
            <a:ext cx="5742000" cy="29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077E1-959E-442C-9BC3-EA94222BE9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181080"/>
            <a:ext cx="57420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4560" y="137160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520" y="375984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79FE0-C5EF-40EF-99A0-3C64A0FD4C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181080"/>
            <a:ext cx="57420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4560" y="137160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4560" y="375984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AD52A-4353-4D35-8904-506C719001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181080"/>
            <a:ext cx="57420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4560" y="137160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520" y="375984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5CC07-2A4B-4899-A0D9-044114C457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470000"/>
              </a:gs>
              <a:gs pos="100000">
                <a:srgbClr val="990000"/>
              </a:gs>
            </a:gsLst>
            <a:lin ang="0"/>
          </a:gradFill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13716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400"/>
              </a:spcBef>
              <a:buClr>
                <a:srgbClr val="3333cc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400"/>
              </a:spcBef>
              <a:buClr>
                <a:srgbClr val="3333cc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400"/>
              </a:spcBef>
              <a:buClr>
                <a:srgbClr val="cc33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400"/>
              </a:spcBef>
              <a:buClr>
                <a:srgbClr val="cc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2730600" y="6603480"/>
            <a:ext cx="4038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8152920" y="659088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DAC32-6B69-4FC2-84A4-1C0AF3A173E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Rectangle 31"/>
          <p:cNvSpPr/>
          <p:nvPr/>
        </p:nvSpPr>
        <p:spPr>
          <a:xfrm>
            <a:off x="0" y="0"/>
            <a:ext cx="6818400" cy="826920"/>
          </a:xfrm>
          <a:prstGeom prst="rect">
            <a:avLst/>
          </a:prstGeom>
          <a:gradFill rotWithShape="0">
            <a:gsLst>
              <a:gs pos="0">
                <a:srgbClr val="5e1800"/>
              </a:gs>
              <a:gs pos="100000">
                <a:srgbClr val="cc33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228600" y="181080"/>
            <a:ext cx="57420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Picture 40" descr=""/>
          <p:cNvPicPr/>
          <p:nvPr/>
        </p:nvPicPr>
        <p:blipFill>
          <a:blip r:embed="rId2"/>
          <a:stretch/>
        </p:blipFill>
        <p:spPr>
          <a:xfrm>
            <a:off x="6629400" y="0"/>
            <a:ext cx="2514600" cy="822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CuadroTexto 3"/>
          <p:cNvSpPr/>
          <p:nvPr/>
        </p:nvSpPr>
        <p:spPr>
          <a:xfrm>
            <a:off x="2376360" y="5549760"/>
            <a:ext cx="632484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FELIPE IRARRÁZABAL PHILIPPI</a:t>
            </a: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 Narrow"/>
              </a:rPr>
              <a:t>MGPP/UNIVERSIDAD DE CHILE</a:t>
            </a: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 Narrow"/>
                <a:ea typeface="Arial"/>
              </a:rPr>
              <a:t>05 DE OCTUBRE DE 2011</a:t>
            </a: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CuadroTexto 3"/>
          <p:cNvSpPr/>
          <p:nvPr/>
        </p:nvSpPr>
        <p:spPr>
          <a:xfrm>
            <a:off x="-184320" y="3862440"/>
            <a:ext cx="90583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Tahoma"/>
              </a:rPr>
              <a:t>Costo-Beneficio en el Sistema Jurídico Chileno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AutoShape 6"/>
          <p:cNvSpPr/>
          <p:nvPr/>
        </p:nvSpPr>
        <p:spPr>
          <a:xfrm>
            <a:off x="85680" y="-628560"/>
            <a:ext cx="1316160" cy="12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3" name="Picture 8" descr="http://cesarusat.files.wordpress.com/2011/04/abogados_sevilla_derecho_penal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5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2 Marcador de número de diapositiva"/>
          <p:cNvSpPr/>
          <p:nvPr/>
        </p:nvSpPr>
        <p:spPr>
          <a:xfrm>
            <a:off x="8153280" y="659124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06416-EBF6-4599-A7CB-2C0B463D83D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0" y="0"/>
            <a:ext cx="59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Tahoma"/>
              </a:rPr>
              <a:t>Introducción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800280" y="925560"/>
            <a:ext cx="760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 indent="392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Derecho y Economía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7" name="Picture 4" descr="human_skeleton_1"/>
          <p:cNvPicPr/>
          <p:nvPr/>
        </p:nvPicPr>
        <p:blipFill>
          <a:blip r:embed="rId1"/>
          <a:stretch/>
        </p:blipFill>
        <p:spPr>
          <a:xfrm>
            <a:off x="990720" y="1314360"/>
            <a:ext cx="2571480" cy="5238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circulationgeneral"/>
          <p:cNvPicPr/>
          <p:nvPr/>
        </p:nvPicPr>
        <p:blipFill>
          <a:blip r:embed="rId2"/>
          <a:stretch/>
        </p:blipFill>
        <p:spPr>
          <a:xfrm>
            <a:off x="5267160" y="1324080"/>
            <a:ext cx="1949760" cy="512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2 Marcador de número de diapositiva"/>
          <p:cNvSpPr/>
          <p:nvPr/>
        </p:nvSpPr>
        <p:spPr>
          <a:xfrm>
            <a:off x="8153280" y="659124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79456-8F8C-443C-A482-12EEC1EBD49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Text Box 2"/>
          <p:cNvSpPr/>
          <p:nvPr/>
        </p:nvSpPr>
        <p:spPr>
          <a:xfrm>
            <a:off x="0" y="0"/>
            <a:ext cx="59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Tahoma"/>
              </a:rPr>
              <a:t>Visión orgánica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85640" y="2239920"/>
            <a:ext cx="7607520" cy="29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 indent="3924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179280" indent="392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Legislador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179280" indent="392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179280" indent="392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179280" indent="392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Autoridad Administrativa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179280" indent="392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179280" indent="392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179280" indent="392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Juez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2 Marcador de número de diapositiva"/>
          <p:cNvSpPr/>
          <p:nvPr/>
        </p:nvSpPr>
        <p:spPr>
          <a:xfrm>
            <a:off x="8153280" y="659124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17578-224E-4AC3-9BC1-27ABAB36297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0" y="0"/>
            <a:ext cx="59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Tahoma"/>
              </a:rPr>
              <a:t>Legislador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800280" y="925560"/>
            <a:ext cx="7607160" cy="54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 indent="3924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Legislador: Destinatario natural de análisis CB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179280" indent="3924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400040" indent="-64908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</a:rPr>
              <a:t>Amplias atribuciones en relación a las garantías constitucionales económicas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400040" indent="-64908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400040" indent="-64908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</a:rPr>
              <a:t>Existen ciertas limitaciones: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036880" indent="-45720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</a:rPr>
              <a:t>Requisitos de cada garantía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036880" indent="-45720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036880" indent="-45720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</a:rPr>
              <a:t>Garantía de las garantías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03688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036880" indent="-45720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</a:rPr>
              <a:t>Ius Puniendi: 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4" marL="3111480" indent="-45720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</a:rPr>
              <a:t>descripción de las conductas 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4" marL="3111480" indent="-45720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</a:rPr>
              <a:t>sanciones por riesgos 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4" marL="3111480" indent="-45720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</a:rPr>
              <a:t>enumeración de las sanciones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4" marL="311148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036880" indent="-45720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</a:rPr>
              <a:t>Principio de la proporcionalidad 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03688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2 Marcador de número de diapositiva"/>
          <p:cNvSpPr/>
          <p:nvPr/>
        </p:nvSpPr>
        <p:spPr>
          <a:xfrm>
            <a:off x="8153280" y="659124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B8E13-FD0D-4313-8319-2B97CCE9625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0" y="0"/>
            <a:ext cx="59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Tahoma"/>
              </a:rPr>
              <a:t>Autoridad Administrativa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838080" y="773280"/>
            <a:ext cx="7607520" cy="58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1680" indent="-1908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1908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Depende del espacio discrecional que le dé la ley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1908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190800" algn="just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_tradnl" sz="2100" spc="-1" strike="noStrike">
                <a:solidFill>
                  <a:srgbClr val="000000"/>
                </a:solidFill>
                <a:latin typeface="Arial Narrow"/>
              </a:rPr>
              <a:t>A  B</a:t>
            </a:r>
            <a:r>
              <a:rPr b="0" lang="es-ES_tradnl" sz="21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Arial Narrow"/>
              </a:rPr>
              <a:t>   C  D</a:t>
            </a:r>
            <a:r>
              <a:rPr b="1" lang="es-ES_tradnl" sz="21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190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190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190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¿Por qué NO se puede optar por A, B, C o D?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190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714680" indent="-47016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</a:rPr>
              <a:t>Principio de legalidad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463840" indent="-45720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</a:rPr>
              <a:t>Órganos del Estado deben someter su acción a la Constitución y a las normas dictadas conforme a ella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46384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6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463840" indent="-45720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</a:rPr>
              <a:t>Órganos del Estado actúan válidamente dentro de su competencia y en la forma que prescriba la ley, si no habrá nulidad y responsabilidades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46384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6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714680" indent="-47016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  <a:ea typeface="Tahoma"/>
              </a:rPr>
              <a:t>Jurisprudencia de la Contraloría: revisión de legalidad y no de mérito y oportunidad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46384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6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3624120" y="2000160"/>
            <a:ext cx="838440" cy="3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2   3   4</a:t>
            </a: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633840" y="2017800"/>
            <a:ext cx="838080" cy="309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cc0000"/>
                </a:solidFill>
                <a:latin typeface="Times New Roman"/>
              </a:rPr>
              <a:t>2   3   4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2 Marcador de número de diapositiva"/>
          <p:cNvSpPr/>
          <p:nvPr/>
        </p:nvSpPr>
        <p:spPr>
          <a:xfrm>
            <a:off x="8153280" y="659124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6B5A8-AF5F-4276-BFD4-6F2C90C78B3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0" y="0"/>
            <a:ext cx="59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ff0000"/>
                </a:solidFill>
                <a:latin typeface="Tahoma"/>
              </a:rPr>
              <a:t>Autoridad Administrativa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469800" y="649440"/>
            <a:ext cx="7607520" cy="59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1680" indent="-1908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190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¿Es completamente libre para decidir </a:t>
            </a:r>
            <a:r>
              <a:rPr b="1" lang="es-CL" sz="1600" spc="-1" strike="noStrike">
                <a:solidFill>
                  <a:srgbClr val="ff3300"/>
                </a:solidFill>
                <a:latin typeface="Tahoma"/>
              </a:rPr>
              <a:t>2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s-CL" sz="1600" spc="-1" strike="noStrike">
                <a:solidFill>
                  <a:srgbClr val="ff3300"/>
                </a:solidFill>
                <a:latin typeface="Tahoma"/>
              </a:rPr>
              <a:t>3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, o </a:t>
            </a:r>
            <a:r>
              <a:rPr b="1" lang="es-CL" sz="1600" spc="-1" strike="noStrike">
                <a:solidFill>
                  <a:srgbClr val="ff3300"/>
                </a:solidFill>
                <a:latin typeface="Tahoma"/>
              </a:rPr>
              <a:t>4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?: No, Diferencia entre discrecionalidad y arbitrariedad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190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714680" indent="-47016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  <a:ea typeface="Tahoma"/>
              </a:rPr>
              <a:t>Principio de la Proporcionalidad y Razonabilidad: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463840" indent="-45720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  <a:ea typeface="Tahoma"/>
              </a:rPr>
              <a:t>No se podrán establecer diferencias arbitrarias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463840" indent="-45720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  <a:ea typeface="Tahoma"/>
              </a:rPr>
              <a:t>No discriminación arbitraria en el trato que deben dar el Estado y sus organismos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463840" indent="-45720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  <a:ea typeface="Tahoma"/>
              </a:rPr>
              <a:t>Igualdad ante la ley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463840" indent="-45720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714680" indent="-47016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  <a:ea typeface="Tahoma"/>
              </a:rPr>
              <a:t>Legislación administrativa más bien parca: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463840" indent="-45720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  <a:ea typeface="Tahoma"/>
              </a:rPr>
              <a:t>Administración deberá observar los principios de la eficiencia y eficacia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463840" indent="-45720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  <a:ea typeface="Tahoma"/>
              </a:rPr>
              <a:t>Administración deberá velar por la eficiente e idónea administración de los medios públicos y por el debido cumplimiento de la función pública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463840" indent="-45720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  <a:ea typeface="Tahoma"/>
              </a:rPr>
              <a:t>La decisión, en todo caso, debe ser fundada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46384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6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714680" indent="-47016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  <a:ea typeface="Tahoma"/>
              </a:rPr>
              <a:t>Teoría de los actos propios/confianza legítima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46384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6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2 Marcador de número de diapositiva"/>
          <p:cNvSpPr/>
          <p:nvPr/>
        </p:nvSpPr>
        <p:spPr>
          <a:xfrm>
            <a:off x="8153280" y="659124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EACFE-6592-4751-906A-20B83514575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Text Box 2"/>
          <p:cNvSpPr/>
          <p:nvPr/>
        </p:nvSpPr>
        <p:spPr>
          <a:xfrm>
            <a:off x="0" y="0"/>
            <a:ext cx="59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Tahoma"/>
              </a:rPr>
              <a:t>Juez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507960" y="584280"/>
            <a:ext cx="8093160" cy="64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1680" indent="-1908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190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Tienen que aplicar la ley (o el “sentido” de la ley)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190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714680" indent="-47016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  <a:ea typeface="Tahoma"/>
              </a:rPr>
              <a:t>Primero: revisión de legalidad; luego control de razonabilidad (la justificación es analizada desde muchas perspectivas, incluso CB)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46384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6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4" marL="3111480" indent="-457200" algn="just">
              <a:lnSpc>
                <a:spcPct val="100000"/>
              </a:lnSpc>
              <a:spcBef>
                <a:spcPts val="876"/>
              </a:spcBef>
              <a:buClr>
                <a:srgbClr val="ff3300"/>
              </a:buClr>
              <a:buFont typeface="Wingdings" charset="2"/>
              <a:buChar char=""/>
              <a:tabLst>
                <a:tab algn="l" pos="86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3300"/>
                </a:solidFill>
                <a:latin typeface="Tahoma"/>
                <a:ea typeface="Tahoma"/>
              </a:rPr>
              <a:t>“</a:t>
            </a:r>
            <a:r>
              <a:rPr b="1" lang="es-CL" sz="1200" spc="-1" strike="noStrike">
                <a:solidFill>
                  <a:srgbClr val="ff3300"/>
                </a:solidFill>
                <a:latin typeface="Tahoma"/>
                <a:ea typeface="Tahoma"/>
              </a:rPr>
              <a:t>Los jueces están obligados a cumplir su función aplicando la legislación vigente, con prescindencia de la convicción íntima que tengan acerca de la bondad de ésta”</a:t>
            </a:r>
            <a:r>
              <a:rPr b="1" lang="es-CL" sz="1400" spc="-1" strike="noStrike">
                <a:solidFill>
                  <a:srgbClr val="3333cc"/>
                </a:solidFill>
                <a:latin typeface="Tahoma"/>
                <a:ea typeface="Tahoma"/>
              </a:rPr>
              <a:t>  Corte Suprema, 15/06/09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46384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6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714680" indent="-47016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  <a:ea typeface="Tahoma"/>
              </a:rPr>
              <a:t>Espacio para CB: Interpretación da flexibilidad al sistema: elemento lógico y sistemático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463840" indent="-45720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714680" indent="-47016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  <a:ea typeface="Tahoma"/>
              </a:rPr>
              <a:t>Otro espacio para CB: Decisión entre dos derechos: hay que optar entre dos derechos igualmente bien protegidos 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714680" indent="-47016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714680" indent="-47016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  <a:ea typeface="Tahoma"/>
              </a:rPr>
              <a:t>Obligación de fundamentar la sentencia: “consideraciones de hecho y derecho que sirven de fundamento a la sentencia”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714680" indent="-47016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714680" indent="-47016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  <a:ea typeface="Tahoma"/>
              </a:rPr>
              <a:t>Crítica: la fundamentación es pobre, y la crítica de la doctrina a la jurisprudencia también es pobre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714680" indent="-47016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2 Marcador de número de diapositiva"/>
          <p:cNvSpPr/>
          <p:nvPr/>
        </p:nvSpPr>
        <p:spPr>
          <a:xfrm>
            <a:off x="8153280" y="659124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22E98-805E-4C74-A62D-A74636184A9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0" y="0"/>
            <a:ext cx="59943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Tahoma"/>
              </a:rPr>
              <a:t>Limitaciones chilenas 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488880" y="1258920"/>
            <a:ext cx="760752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1680" indent="-1908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190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714680" indent="-47016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  <a:ea typeface="Tahoma"/>
              </a:rPr>
              <a:t>Pobre formación cuantitativa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714680" indent="-47016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714680" indent="-47016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  <a:ea typeface="Tahoma"/>
              </a:rPr>
              <a:t>Poca información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714680" indent="-47016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714680" indent="-47016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  <a:ea typeface="Tahoma"/>
              </a:rPr>
              <a:t>Mala información (tendenciosa pues viene de parte interesada)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46384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6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CuadroTexto 3"/>
          <p:cNvSpPr/>
          <p:nvPr/>
        </p:nvSpPr>
        <p:spPr>
          <a:xfrm>
            <a:off x="2376360" y="5549760"/>
            <a:ext cx="632484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FELIPE IRARRÁZABAL PHILIPPI</a:t>
            </a: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 Narrow"/>
              </a:rPr>
              <a:t>MGPP/UNIVERSIDAD DE CHILE</a:t>
            </a: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 Narrow"/>
                <a:ea typeface="Arial"/>
              </a:rPr>
              <a:t>05 DE OCTUBRE DE 2011</a:t>
            </a: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CuadroTexto 3"/>
          <p:cNvSpPr/>
          <p:nvPr/>
        </p:nvSpPr>
        <p:spPr>
          <a:xfrm>
            <a:off x="-184320" y="3862440"/>
            <a:ext cx="90583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Tahoma"/>
              </a:rPr>
              <a:t>Costo-Beneficio en el Sistema Jurídico Chileno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85680" y="-628560"/>
            <a:ext cx="1316160" cy="12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82" name="Picture 8" descr="http://cesarusat.files.wordpress.com/2011/04/abogados_sevilla_derecho_penal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573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30T15:28:12Z</dcterms:created>
  <dc:creator>Felipe Irarrázabal</dc:creator>
  <dc:description/>
  <dc:language>en-US</dc:language>
  <cp:lastModifiedBy>Felipe Irarrázabal</cp:lastModifiedBy>
  <cp:lastPrinted>2000-12-05T01:20:25Z</cp:lastPrinted>
  <dcterms:modified xsi:type="dcterms:W3CDTF">2011-10-05T18:24:15Z</dcterms:modified>
  <cp:revision>1511</cp:revision>
  <dc:subject/>
  <dc:title>FODA Invertec</dc:title>
</cp:coreProperties>
</file>