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1B41A51-4DF2-45BD-A1EA-A002410FE118}" type="datetime">
              <a:rPr b="0" lang="es-ES_tradnl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680" y="685440"/>
            <a:ext cx="4508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566DEAC-2102-4BD1-A136-AB7EA2B0E76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926B28B-012F-4A87-96D2-3B7843F930E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E5B67C9-6B51-497F-936A-6C114503EE5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85DAE5D-6F17-4AB4-A334-E542C48F0A5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6B1F834-582D-4C5D-A59D-4810EE8F7BC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7796777-E263-4561-9534-F4AB5FB4F61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075F588-96CB-4A19-91AE-E47DFF33821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8A13923-8B52-4FB0-8F6E-674B223F166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352329C-1CF0-4ADE-A260-4690B38F0AC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E2B338F-6958-4516-8843-6CB1445CBD4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09E-3B95-4398-9FCC-294BE726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E3A-601C-4CD1-B49D-A345331D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EA3-C058-4771-AC77-41C8B398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B3E-550F-4B9A-949E-6A5FCBF5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23C-37D6-44F6-8DB3-BFD0A53B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CC3-582C-4BD7-9C15-C0387E70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53D-71B3-4CD4-A79C-3A8DE235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169-BC41-4117-928B-F9276C7D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5D4-8068-438A-ACDB-043DD151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38E-DF0A-460A-A871-F40BE526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3D7-74FB-4A09-A930-2FCC1D1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72C-5C08-463E-BB73-89AD640C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DA35021-698E-4948-B632-7B2CC2B2FEF5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E02B130-4AFD-4FA5-8DAC-31CE0716C68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adroTexto 3"/>
          <p:cNvSpPr/>
          <p:nvPr/>
        </p:nvSpPr>
        <p:spPr>
          <a:xfrm>
            <a:off x="974880" y="760320"/>
            <a:ext cx="7700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FISCALÍA NACIONAL ECONÓMICA Y EL COMBATE A LOS CART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cto 6"/>
          <p:cNvSpPr/>
          <p:nvPr/>
        </p:nvSpPr>
        <p:spPr>
          <a:xfrm>
            <a:off x="0" y="644364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F3D8CD8-2F26-4223-949D-D161777383F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483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451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UNIDAD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 profesionales e infraestructura dedicada exclusivamente al combate de los carteles, actualmente contamos con los más modernos recursos informáticos de pericia forense y de seguridad que permiten al mismo tiempo mejorar la eficiencia en la investigación y resguardar la integridad de las pruebas recab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en los grupos especializados en el tema – International Competition Network, OECD, Forum Latino Americano,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9280" y="876240"/>
            <a:ext cx="8099280" cy="54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REPRES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versas investigaciones iniciadas por oficio y por denuncias rea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rollo de Métodos Cuantitativos diseñados específicamente para la      detección de carteles en li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venio con otros órganos del Estado para la detección temprana de estos ilíc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vestigaciones Reservadas: ES FUNDAMENTAL LA MANTENCIÓN DE LA CONFIDENCIALIDAD DE LAS INVESTIGACIONES DURANTE SUS PRIMERAS ETAPAS INVESTI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PREVEN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ublicaciones de guías y documentos de trabaj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as Publicas y Libre Competenc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ía de Asociaciones Gremi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EC57EC5-7E57-48B8-BDDD-72FFE01FDE8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280" y="1116000"/>
            <a:ext cx="8099280" cy="45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junto a los Seremi y otras autoridades regionales para difusión y educación de la legislación conting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sencia constante en Congresos y Seminarios naciona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uerdos de Cooperación con Agencias de Competencia Internacional – Esto es fundamental para la acción contra los carteles inter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994E131-C278-48C2-971C-F9B37195ED5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05840"/>
            <a:ext cx="809928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NUEVAS HERRAMIENTAS INVESTIGATIVAS Y DISUASIVA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 Marcador de contenido" descr=""/>
          <p:cNvPicPr/>
          <p:nvPr/>
        </p:nvPicPr>
        <p:blipFill>
          <a:blip r:embed="rId1"/>
          <a:stretch/>
        </p:blipFill>
        <p:spPr>
          <a:xfrm>
            <a:off x="426960" y="1109520"/>
            <a:ext cx="8163000" cy="3907080"/>
          </a:xfrm>
          <a:prstGeom prst="rect">
            <a:avLst/>
          </a:prstGeom>
          <a:ln w="0">
            <a:noFill/>
          </a:ln>
        </p:spPr>
      </p:pic>
      <p:sp>
        <p:nvSpPr>
          <p:cNvPr id="10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FD7945E-6898-4416-8312-652275C74B2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8490A33-EFE4-4068-821D-760916B6046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2116080" y="2322360"/>
            <a:ext cx="9590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2E73CB5-CEB7-42B7-8BF7-9CE3E7A8BB2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6 Diagrama" descr=""/>
          <p:cNvPicPr/>
          <p:nvPr/>
        </p:nvPicPr>
        <p:blipFill>
          <a:blip r:embed="rId1"/>
          <a:stretch/>
        </p:blipFill>
        <p:spPr>
          <a:xfrm>
            <a:off x="669960" y="1457280"/>
            <a:ext cx="7596000" cy="493092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498600" y="219240"/>
            <a:ext cx="79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Métodos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métodos de detección de carteles, usando análisis económicos pueden ser agrupados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2411280" y="3490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9 Rectángulo" descr=""/>
          <p:cNvPicPr/>
          <p:nvPr/>
        </p:nvPicPr>
        <p:blipFill>
          <a:blip r:embed="rId2"/>
          <a:stretch/>
        </p:blipFill>
        <p:spPr>
          <a:xfrm>
            <a:off x="5510160" y="2401920"/>
            <a:ext cx="1774800" cy="377640"/>
          </a:xfrm>
          <a:prstGeom prst="rect">
            <a:avLst/>
          </a:prstGeom>
          <a:ln w="0">
            <a:noFill/>
          </a:ln>
        </p:spPr>
      </p:pic>
      <p:sp>
        <p:nvSpPr>
          <p:cNvPr id="113" name="10 Rectángulo"/>
          <p:cNvSpPr/>
          <p:nvPr/>
        </p:nvSpPr>
        <p:spPr>
          <a:xfrm>
            <a:off x="2411280" y="2322360"/>
            <a:ext cx="2876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3 Rectángulo"/>
          <p:cNvSpPr/>
          <p:nvPr/>
        </p:nvSpPr>
        <p:spPr>
          <a:xfrm>
            <a:off x="2411280" y="2630520"/>
            <a:ext cx="287640" cy="55440"/>
          </a:xfrm>
          <a:prstGeom prst="rect">
            <a:avLst/>
          </a:prstGeom>
          <a:solidFill>
            <a:srgbClr val="bec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Rectángulo" descr=""/>
          <p:cNvPicPr/>
          <p:nvPr/>
        </p:nvPicPr>
        <p:blipFill>
          <a:blip r:embed="rId3"/>
          <a:stretch/>
        </p:blipFill>
        <p:spPr>
          <a:xfrm>
            <a:off x="1633680" y="2462040"/>
            <a:ext cx="18158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73123E5-53D6-45C3-B545-8AAED7A05E7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Texto 3"/>
          <p:cNvSpPr/>
          <p:nvPr/>
        </p:nvSpPr>
        <p:spPr>
          <a:xfrm>
            <a:off x="974880" y="20520"/>
            <a:ext cx="802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Análisis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EAE0B25-2837-4B33-8E85-4163704FD17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974880" y="1258920"/>
            <a:ext cx="73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44560" y="528480"/>
          <a:ext cx="7615080" cy="5810400"/>
        </p:xfrm>
        <a:graphic>
          <a:graphicData uri="http://schemas.openxmlformats.org/drawingml/2006/table">
            <a:tbl>
              <a:tblPr/>
              <a:tblGrid>
                <a:gridCol w="5095800"/>
                <a:gridCol w="1224000"/>
                <a:gridCol w="129528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ción del 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a la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de Precios e Intercambi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 Niveles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tría en Co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Multi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Elasticidad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 Monopsó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structurales entre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s de Coop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 de una Empresa Mav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Grem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a Cre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ctuaciones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</a:tbl>
          </a:graphicData>
        </a:graphic>
      </p:graphicFrame>
      <p:pic>
        <p:nvPicPr>
          <p:cNvPr id="123" name="9 Imagen" descr="click.png"/>
          <p:cNvPicPr/>
          <p:nvPr/>
        </p:nvPicPr>
        <p:blipFill>
          <a:blip r:embed="rId1"/>
          <a:stretch/>
        </p:blipFill>
        <p:spPr>
          <a:xfrm>
            <a:off x="6448320" y="122544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4" name="10 Imagen" descr="click.png"/>
          <p:cNvPicPr/>
          <p:nvPr/>
        </p:nvPicPr>
        <p:blipFill>
          <a:blip r:embed="rId2"/>
          <a:stretch/>
        </p:blipFill>
        <p:spPr>
          <a:xfrm>
            <a:off x="6448320" y="154296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click.png"/>
          <p:cNvPicPr/>
          <p:nvPr/>
        </p:nvPicPr>
        <p:blipFill>
          <a:blip r:embed="rId3"/>
          <a:stretch/>
        </p:blipFill>
        <p:spPr>
          <a:xfrm>
            <a:off x="6448320" y="1952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click.png"/>
          <p:cNvPicPr/>
          <p:nvPr/>
        </p:nvPicPr>
        <p:blipFill>
          <a:blip r:embed="rId4"/>
          <a:stretch/>
        </p:blipFill>
        <p:spPr>
          <a:xfrm>
            <a:off x="7812000" y="23050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27" name="13 Imagen" descr="click.png"/>
          <p:cNvPicPr/>
          <p:nvPr/>
        </p:nvPicPr>
        <p:blipFill>
          <a:blip r:embed="rId5"/>
          <a:stretch/>
        </p:blipFill>
        <p:spPr>
          <a:xfrm>
            <a:off x="6448320" y="26989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8" name="14 Imagen" descr="click.png"/>
          <p:cNvPicPr/>
          <p:nvPr/>
        </p:nvPicPr>
        <p:blipFill>
          <a:blip r:embed="rId6"/>
          <a:stretch/>
        </p:blipFill>
        <p:spPr>
          <a:xfrm>
            <a:off x="6448320" y="305928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9" name="15 Imagen" descr="click.png"/>
          <p:cNvPicPr/>
          <p:nvPr/>
        </p:nvPicPr>
        <p:blipFill>
          <a:blip r:embed="rId7"/>
          <a:stretch/>
        </p:blipFill>
        <p:spPr>
          <a:xfrm>
            <a:off x="6448320" y="3419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0" name="16 Imagen" descr="click.png"/>
          <p:cNvPicPr/>
          <p:nvPr/>
        </p:nvPicPr>
        <p:blipFill>
          <a:blip r:embed="rId8"/>
          <a:stretch/>
        </p:blipFill>
        <p:spPr>
          <a:xfrm>
            <a:off x="7812000" y="3780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1" name="17 Imagen" descr="click.png"/>
          <p:cNvPicPr/>
          <p:nvPr/>
        </p:nvPicPr>
        <p:blipFill>
          <a:blip r:embed="rId9"/>
          <a:stretch/>
        </p:blipFill>
        <p:spPr>
          <a:xfrm>
            <a:off x="6448320" y="414036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2" name="18 Imagen" descr="click.png"/>
          <p:cNvPicPr/>
          <p:nvPr/>
        </p:nvPicPr>
        <p:blipFill>
          <a:blip r:embed="rId10"/>
          <a:stretch/>
        </p:blipFill>
        <p:spPr>
          <a:xfrm>
            <a:off x="6496200" y="56516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19 Imagen" descr="click.png"/>
          <p:cNvPicPr/>
          <p:nvPr/>
        </p:nvPicPr>
        <p:blipFill>
          <a:blip r:embed="rId11"/>
          <a:stretch/>
        </p:blipFill>
        <p:spPr>
          <a:xfrm>
            <a:off x="6496200" y="52912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4" name="20 Imagen" descr="click.png"/>
          <p:cNvPicPr/>
          <p:nvPr/>
        </p:nvPicPr>
        <p:blipFill>
          <a:blip r:embed="rId12"/>
          <a:stretch/>
        </p:blipFill>
        <p:spPr>
          <a:xfrm>
            <a:off x="7812000" y="48974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5" name="21 Imagen" descr="click.png"/>
          <p:cNvPicPr/>
          <p:nvPr/>
        </p:nvPicPr>
        <p:blipFill>
          <a:blip r:embed="rId13"/>
          <a:stretch/>
        </p:blipFill>
        <p:spPr>
          <a:xfrm>
            <a:off x="6462720" y="45054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6" name="22 Imagen" descr="click.png"/>
          <p:cNvPicPr/>
          <p:nvPr/>
        </p:nvPicPr>
        <p:blipFill>
          <a:blip r:embed="rId14"/>
          <a:stretch/>
        </p:blipFill>
        <p:spPr>
          <a:xfrm>
            <a:off x="7859880" y="59961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click.png"/>
          <p:cNvPicPr/>
          <p:nvPr/>
        </p:nvPicPr>
        <p:blipFill>
          <a:blip r:embed="rId15"/>
          <a:stretch/>
        </p:blipFill>
        <p:spPr>
          <a:xfrm>
            <a:off x="6448320" y="826920"/>
            <a:ext cx="211320" cy="2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69DE7F6-0685-41D7-B6BB-0608AEF943D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3200" spc="-1" strike="noStrike">
                <a:solidFill>
                  <a:srgbClr val="617a8a"/>
                </a:solidFill>
                <a:latin typeface="Arial"/>
              </a:rPr>
              <a:t>Análisis condu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F2B11B6-E032-463A-8AA5-CB8E3D2B933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4 Imagen" descr="bigger profits.jpg"/>
          <p:cNvPicPr/>
          <p:nvPr/>
        </p:nvPicPr>
        <p:blipFill>
          <a:blip r:embed="rId1"/>
          <a:stretch/>
        </p:blipFill>
        <p:spPr>
          <a:xfrm>
            <a:off x="528480" y="204300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142" name="5 Imagen" descr="financial_stability1.jpg"/>
          <p:cNvPicPr/>
          <p:nvPr/>
        </p:nvPicPr>
        <p:blipFill>
          <a:blip r:embed="rId2"/>
          <a:stretch/>
        </p:blipFill>
        <p:spPr>
          <a:xfrm>
            <a:off x="1978200" y="2341440"/>
            <a:ext cx="1306440" cy="68292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395280" y="32670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s ele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1835280" y="326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ja var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Imagen" descr="greedy CEOs.png"/>
          <p:cNvPicPr/>
          <p:nvPr/>
        </p:nvPicPr>
        <p:blipFill>
          <a:blip r:embed="rId3"/>
          <a:stretch/>
        </p:blipFill>
        <p:spPr>
          <a:xfrm>
            <a:off x="3851280" y="1792440"/>
            <a:ext cx="1636560" cy="1212840"/>
          </a:xfrm>
          <a:prstGeom prst="rect">
            <a:avLst/>
          </a:prstGeom>
          <a:ln w="0">
            <a:noFill/>
          </a:ln>
        </p:spPr>
      </p:pic>
      <p:sp>
        <p:nvSpPr>
          <p:cNvPr id="146" name="9 CuadroTexto"/>
          <p:cNvSpPr/>
          <p:nvPr/>
        </p:nvSpPr>
        <p:spPr>
          <a:xfrm>
            <a:off x="3284640" y="2806560"/>
            <a:ext cx="2448000" cy="8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¡¿</a:t>
            </a:r>
            <a:r>
              <a:rPr b="0" lang="es-CL" sz="1200" spc="-1" strike="noStrike">
                <a:solidFill>
                  <a:srgbClr val="000000"/>
                </a:solidFill>
                <a:latin typeface="Bodoni MT Poster Compressed"/>
              </a:rPr>
              <a:t>YQUIÉN DICE QUE TENGO QUE BAJAR LOS PRECIOS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3284640" y="3267000"/>
            <a:ext cx="30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nor relación con c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dollar.gif"/>
          <p:cNvPicPr/>
          <p:nvPr/>
        </p:nvPicPr>
        <p:blipFill>
          <a:blip r:embed="rId4"/>
          <a:stretch/>
        </p:blipFill>
        <p:spPr>
          <a:xfrm>
            <a:off x="7095960" y="2062080"/>
            <a:ext cx="508320" cy="962280"/>
          </a:xfrm>
          <a:prstGeom prst="rect">
            <a:avLst/>
          </a:prstGeom>
          <a:ln w="0">
            <a:noFill/>
          </a:ln>
        </p:spPr>
      </p:pic>
      <p:sp>
        <p:nvSpPr>
          <p:cNvPr id="149" name="12 CuadroTexto"/>
          <p:cNvSpPr/>
          <p:nvPr/>
        </p:nvSpPr>
        <p:spPr>
          <a:xfrm>
            <a:off x="6083280" y="3267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rgenes más ele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54200" y="1251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CuadroTexto"/>
          <p:cNvSpPr/>
          <p:nvPr/>
        </p:nvSpPr>
        <p:spPr>
          <a:xfrm>
            <a:off x="698400" y="3851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Rectángulo"/>
          <p:cNvSpPr/>
          <p:nvPr/>
        </p:nvSpPr>
        <p:spPr>
          <a:xfrm>
            <a:off x="754200" y="4394160"/>
            <a:ext cx="449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ones de mercado altamente estables en el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ción de las ofertas y de los o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24" descr=""/>
          <p:cNvPicPr/>
          <p:nvPr/>
        </p:nvPicPr>
        <p:blipFill>
          <a:blip r:embed="rId5"/>
          <a:stretch/>
        </p:blipFill>
        <p:spPr>
          <a:xfrm>
            <a:off x="5724360" y="4059360"/>
            <a:ext cx="2926080" cy="185400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  <a:ea typeface="Arial"/>
              </a:rPr>
              <a:t>Uso de facultades duras para la recopilación de pruebas e indicios del actual coordin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ble tramitación: TDLC y Corte de Apel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lanificación diligencia: simultanea y sigil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 de antecedentes, entrevistas con autoridades, envíos de oficios, declaración de los investigados, declaración de ex-funcionarios, declaraciones de personas que pudiera presentar nuevos antece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de jurisprudenci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fusión entre los investigados de los beneficios de la suscripción a la Delación Compen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CFFF61E-DB82-4A1B-9F88-41B26BA4195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uadroTexto 3"/>
          <p:cNvSpPr/>
          <p:nvPr/>
        </p:nvSpPr>
        <p:spPr>
          <a:xfrm>
            <a:off x="974880" y="760320"/>
            <a:ext cx="7700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RESULTADOS POSI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Texto 3"/>
          <p:cNvSpPr/>
          <p:nvPr/>
        </p:nvSpPr>
        <p:spPr>
          <a:xfrm>
            <a:off x="65232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7AF496B-D031-4A5C-9D26-0AA8D495BE0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6040" y="13237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RCHIVO/ REQUERIMIENTO ANTE EL TDL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ses (Terminales y Curaca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NTENCIA TDLC/C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adios, Sentencia N°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- varios por acuerdos de precio/reparto de mercado/ exclusión de competidores, Sentencias N°102, 94, 8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igeno, Sentencia N°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sapre, Sentencia N°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sma, Sentencia N°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sfalto, Sentencia N°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466560"/>
            <a:ext cx="80229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000" spc="-1" strike="noStrike">
                <a:solidFill>
                  <a:srgbClr val="617a8a"/>
                </a:solidFill>
                <a:latin typeface="Arial"/>
                <a:ea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 infracción a la libre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NE y el combate a los car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Investig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Disua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étodos de Det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DD29BD8-7F64-4F41-8E78-6C15F061933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3"/>
          <p:cNvSpPr/>
          <p:nvPr/>
        </p:nvSpPr>
        <p:spPr>
          <a:xfrm>
            <a:off x="96984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adroTexto 3"/>
          <p:cNvSpPr/>
          <p:nvPr/>
        </p:nvSpPr>
        <p:spPr>
          <a:xfrm>
            <a:off x="130320" y="3441600"/>
            <a:ext cx="63068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4000" spc="-1" strike="noStrike">
                <a:solidFill>
                  <a:srgbClr val="617a8a"/>
                </a:solidFill>
                <a:latin typeface="Arial"/>
              </a:rPr>
              <a:t>¿Qué son los acuerdos o carteles en materia de libre competenci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4" descr="logo.jpg"/>
          <p:cNvPicPr/>
          <p:nvPr/>
        </p:nvPicPr>
        <p:blipFill>
          <a:blip r:embed="rId1"/>
          <a:stretch/>
        </p:blipFill>
        <p:spPr>
          <a:xfrm>
            <a:off x="6437160" y="1255680"/>
            <a:ext cx="256068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3"/>
          <p:cNvSpPr/>
          <p:nvPr/>
        </p:nvSpPr>
        <p:spPr>
          <a:xfrm>
            <a:off x="847800" y="500040"/>
            <a:ext cx="77007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DEFIN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AE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“Convenio entr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arias empresas simila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ar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itar la mutua competenci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egular la produc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ent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reci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en determinado campo industrial”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Coloma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“La colusión puede definirse como una situación en la cual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rie de empresas acuerdan no competir entre ellas con el objetivo de incrementar los beneficios conjuntos de todo el grup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rt. 3 DL. 211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“…Se considerarán, entre otros, como hechos, actos o convenciones que impiden, restringen o entorpecen la libre competencia o que tienden a producir dichos efectos, lo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Los acuerdos expresos o tácitos entre competidore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, o las prácticas concertadas entre ello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que les confieran poder de mercad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y que consisten en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ijar precios de venta, de compra u otras condiciones de comercialización, limitar la producción, asignarse zonas o cuotas de mercado, excluir competidores o afectar el resultado de procesos de licitación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”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00F7862-1AE6-40DC-BC50-D9B50C488B8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B63EAC8-6DDE-4AEC-9B62-CDCE8B396C1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192240"/>
            <a:ext cx="71960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POR LO 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NCIA DE UN ACUERDO– NO NECESARIAMENTE EXP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CUERDO TIENE QUE SER ENTRE COMPET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NE QUE CONFERIR PODER DE MERCADO A SUS PARTÍ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 TIENE QUE TENER POR OBJETO (aptitu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precios de vent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de comp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otras condiciones de comercializa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 la produc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zon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cuot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luir competidores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ectar el resultado de procesos de licitación – “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d rigging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tabLst>
                <a:tab algn="l" pos="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3"/>
          <p:cNvSpPr/>
          <p:nvPr/>
        </p:nvSpPr>
        <p:spPr>
          <a:xfrm>
            <a:off x="974880" y="760320"/>
            <a:ext cx="770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Afectar el resultado de procesos de li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02DCB6A-4D98-4720-BE0C-469F3D41BE9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960" y="1186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90640" y="1187280"/>
            <a:ext cx="7216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resión o limitación de 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uestas de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tación del 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ntratación de un compe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 Flecha abajo"/>
          <p:cNvSpPr/>
          <p:nvPr/>
        </p:nvSpPr>
        <p:spPr>
          <a:xfrm>
            <a:off x="3851280" y="3203640"/>
            <a:ext cx="1008000" cy="12240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5b7b90"/>
              </a:gs>
              <a:gs pos="100000">
                <a:srgbClr val="b8cddc"/>
              </a:gs>
            </a:gsLst>
            <a:lin ang="16200000"/>
          </a:gradFill>
          <a:ln w="9360">
            <a:solidFill>
              <a:srgbClr val="5e778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uadroTexto"/>
          <p:cNvSpPr/>
          <p:nvPr/>
        </p:nvSpPr>
        <p:spPr>
          <a:xfrm>
            <a:off x="466560" y="3851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el objetiv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EVAR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395280" y="55404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¿POR QUÉ ES TEMA “ALTERAR EL RESULTADO DEL PROCESO DE LICITACIÓN”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to volumen de recursos involucr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a través del mercado público: USD$ 6.500 millones aprox. anu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tras operaciones vía licitación al margen de mercado público: USD$ 2.000 millones aprox. Anu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vía licitaciones de empresas públic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j. Codelco: USD$ 10.000 millones aprox. anuales (incluye gastos e invers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as compras anteriores representan aprox. entre el 8% y el 10% del PIB de Ch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Estim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 15.000 millones apr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xiste colusión en licitaciones que representan un 0,5% de dicho mo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(USD$ 750 millones aprox. Pag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os sobreprecios pagados son de un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 que lo que debió pagarse fue USD$ 750 –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68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=        USD$ 6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C2FA617-5F0E-426F-BE51-3B29BE0CEB8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adroTexto 3"/>
          <p:cNvSpPr/>
          <p:nvPr/>
        </p:nvSpPr>
        <p:spPr>
          <a:xfrm>
            <a:off x="974880" y="760320"/>
            <a:ext cx="7700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GRAVE INFRACCIÓN A LA LIBRE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D29D917-3991-41F1-B93F-F41D62EDF93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611280" y="1116000"/>
            <a:ext cx="8242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JUICI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ERNICIOSOS SOBRE LOS CONSUMIDORES Y EL ESTAD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L PRECIO (en promedio de un 10%-20%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r sobre el preci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etitivo, según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CCIÓN DE LA OFERTA (en  promedio de un 20%,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ún la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 GASTOS DEL GOBIERNO; distribución ineficiente de recursos públ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OR CALIDAD, MENOR VARIEDAD DE PRODUCTOS Y DESINCENTIVO A LA INO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 síntesis: Reducción del bienestar del consumidor y transferencia de renta desde los consumidores hacia a las empresas carte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42920"/>
            <a:ext cx="7029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800" spc="-1" strike="noStrike">
                <a:solidFill>
                  <a:srgbClr val="617a8a"/>
                </a:solidFill>
                <a:latin typeface="Arial"/>
              </a:rPr>
              <a:t>ESTUDIO SOBRE ESTIMACIONES DE SOBRE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25360" y="1424160"/>
          <a:ext cx="6890040" cy="4894200"/>
        </p:xfrm>
        <a:graphic>
          <a:graphicData uri="http://schemas.openxmlformats.org/drawingml/2006/table">
            <a:tbl>
              <a:tblPr/>
              <a:tblGrid>
                <a:gridCol w="2024280"/>
                <a:gridCol w="1701720"/>
                <a:gridCol w="1616040"/>
                <a:gridCol w="1548000"/>
              </a:tblGrid>
              <a:tr h="100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est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° de carte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promedio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median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en y Scheffma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 – 1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 –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 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er (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stein y Suslow 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ffi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E (2003), excluyendo los más al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</a:tbl>
          </a:graphicData>
        </a:graphic>
      </p:graphicFrame>
      <p:sp>
        <p:nvSpPr>
          <p:cNvPr id="83" name="4 Rectángulo"/>
          <p:cNvSpPr/>
          <p:nvPr/>
        </p:nvSpPr>
        <p:spPr>
          <a:xfrm>
            <a:off x="1127880" y="6176880"/>
            <a:ext cx="2216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(Connor y Bolotova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1-17T20:17:04Z</dcterms:modified>
  <cp:revision>94</cp:revision>
  <dc:subject/>
  <dc:title>Diapositiva 1</dc:title>
</cp:coreProperties>
</file>