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E72-840F-4F19-85D1-77D171FC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7B8-9579-459B-A69D-4CE8D745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557-F6FE-4A27-9DA3-351B7647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D9B-D58F-40C1-91B9-B61EE17D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9125-1A59-4107-B73A-5F1D4F65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CF22-9BC7-4B5F-8A31-E6E87C0A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62EB-F487-4A40-A853-DE23D7F1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3A3A-A2C3-46E1-BBCE-707CB893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B719-382E-47EA-AF26-21C286E8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0B33-C0B1-4BB2-AEF4-29CE3876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E2C4-897D-492E-B1D0-9D58189C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16D-5C3D-45F4-8F84-5EACF34A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8AE4-B5BE-43F0-B9F0-E8F23D6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B701-03E5-4487-A683-55190810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B56A-CEF3-4A7E-BF30-2F8406E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3BE8-C5FE-4728-A489-5B079E23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656E-9750-4DF9-9A7B-03AAFD5F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384-787A-4345-A8AC-3450B0CD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C30-5AAD-4463-A336-2501A8C1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54C-BC32-4802-847C-785B71A9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1D9-346A-4B3C-B709-70216C14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5EB-1FC6-484E-8BA1-2094335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B7E-250F-4A56-9DB5-C0972B19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77B-C8BE-457D-B2C4-2C9E3D8C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E4524-B0DA-4F4B-9A3F-A517BF958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F9789-9F42-41E1-8BE8-06C153AB7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ción gráfica: 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ecas relacion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núcleo Open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básica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primitivas básicas, atributos, transformaciones geométricas y de visualización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 OpenGl utility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)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ón de matrices  de visualización y proyección, aproximación de objetos completos mediante líneas,  polígonos,  y splines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penGl utility toolkit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 proporciona funciones para interactuar con cualquier sistema de ventanas (nos permite que nuestros programas seaa independientes del dispositiv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95008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74680"/>
            <a:ext cx="8686800" cy="70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(&amp;argc, argv): inicializa la  Glut. Podemos obtener valores que ingresa el usu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Window(“Un programa de ejemplo con OpenGl”): títul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layFunc(lineSegment): ejecuta el procedimiento llamado line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o aun no se muestra nada hasta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Loop(): esta debe ser la última en el progra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quí ventana de visualización tiene parámetros predefini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especificar la posición de la ventana de visualiz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Position(50,100):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en pixeles!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ción inicial de la esquina superior izquierda (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coordenadas enteras de la pantall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Size(400,300): 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ancho y alto en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45943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color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DisplayMode(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SINGLE |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RGB):  buffers a usar (SINGLE o DOUBLE), modo de color RGB en este cas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os son los valores predefin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Color(1.0,1.0,1.0,0.0) : asigna color de fondo pero no lo muest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GB:   (0,0,0) es negro, (1,0,0) es rojo, (0,1,0) es verde y (0,0,1)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rto parámetro?  Valor Alpha es blending: 1.0 objeto opaco y 0.0 objeto transpa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(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COLOR_BIT): muestra  el color asignado como fond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Color3f(1.0,0.0,0.0): asigna color a la primitiva que se dibujará (3f valores de punto flota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oyecció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caso particular de 3D (se debe igual especificar tipo de proye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Mode(GL_PROY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2D(0.0, 200.0, 0.0, 150.0):  mapea el contenido de la zona [0..200,0..150]  a la pantalla de visualización. El sistema de coordenadas es W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que no se genere distorsión mantenemos la misma relación  de aspecto (aspect ratio) que en la pantalla de vis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imitiva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una línea desde (180,15) a (10,1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80,1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0,14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: esto queda obsoleto en la últimas versiones y se  usando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 sha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la especificacion del objeto a dibu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rend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 Dibujando una línea 2D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o completo de visualización de una es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ación del objeto (ej: mallas de polígon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aciones geométricas y de proy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os de iluminación y shading (pint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rasterización (clase anteri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eliminación de superfices ocultas, clipping (recor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3657600"/>
            <a:ext cx="5654520" cy="3606840"/>
            <a:chOff x="1828800" y="3657600"/>
            <a:chExt cx="5654520" cy="36068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28800" y="3657600"/>
              <a:ext cx="565452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828800" y="3657600"/>
              <a:ext cx="56545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usan varios sistemas de coordenad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local de coordenadas de modelación (M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global de coordenadas del mundo (W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coordenadas de visualización (V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normalizado de coordenadas del dispositivo (ND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 cilindro y un cubo definido en coordenadas de modelado, cada uno con su propio sistema,  es transformado a coordenadas del mundo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allí se especifica una vista y poryección y los objetos son representados en coordenadas normaliz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enadas normalizadas o coordenadas normalizadas del dispositivo. Rango de valores entre 0 y 1.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presentación que hace el paquete gráfico para ser independiente del rango de coordenadas del disposi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sum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7200" y="3200400"/>
                <a:ext cx="9144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pipeline (co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(elementos a dibujar)se definen en WCS y se transforman al sistema de coordenadas del dispositivo  donde se convierten en pixeles (rasterizació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 representan las transformaciones entre sistemas de coordenadas?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atrices  (composición de matri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contienen información de su iluminación y pin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odas las primitivas se dibujan: sólo las que son visibles (clipp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modelos (simples o complejos) se componen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mentos de línea  rectas y cur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ígonos (en general convexos, triángulos) y patches cur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ributos (propiedades de las primitivas de salida): color, estilo de línea y  relleno  de á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OpenGL 3.0 (3.1 deprecated): gl_points, gl_lines, gl_line_strips, gl_line_loop,  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2724120"/>
            <a:ext cx="7620120" cy="390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9:18:20Z</dcterms:created>
  <dc:creator/>
  <dc:description/>
  <dc:language>en-US</dc:language>
  <cp:lastModifiedBy/>
  <dcterms:modified xsi:type="dcterms:W3CDTF">2012-04-03T15:30:39Z</dcterms:modified>
  <cp:revision>9</cp:revision>
  <dc:subject/>
  <dc:title/>
</cp:coreProperties>
</file>