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4D5-2DF4-4E27-8623-2E4DA236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8D6-4B98-4EA4-846C-F61397D7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996-2659-4877-8986-74F46CF5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8BD-AB5A-4CC0-9850-399B66F3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DE4B-6ECF-4FE4-A358-DA096461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8B3C-71DA-4CF0-B621-9AA7A2D4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0B38-7CEB-4915-AD7E-359C661A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2231-EC12-4462-A758-BEABC12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2BBE-0D89-44A1-AA7E-EF513594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304F-D314-41E0-8C2E-48A028D5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0043-D749-43BD-A75B-D4C24633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50B-A431-4658-947C-280E74D9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71A0-EC47-4003-A3CA-CB3CB46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95BD-1E55-4232-A9C0-4D8E947A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D8F4-C2DB-4606-9DD9-D0EFC9C1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2A4B-6B6C-4415-A517-C9C1F38F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1189-FCA9-41BC-A989-B4854C89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CDE-15D5-42CA-977F-93391A0C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807-8246-4153-B19F-4BCDFDE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777-638B-438C-8B08-2131F0A5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544-3B61-4615-892C-4C425D34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E49-D0E3-4599-A317-7B759020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4D7-C494-47E3-9F0A-29F4EA58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ADC-141D-4A30-A9B1-7F5C0650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5B0A1-A0B1-498E-968A-96A26D04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995B2-39F3-4760-9280-A25CAB562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compuestas bidimension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 mostrar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2414520"/>
                <a:ext cx="5372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4343400"/>
                <a:ext cx="3592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71600" y="3328920"/>
                <a:ext cx="5486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ombinan las matrices elementales para producir el efecto des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gana eficiencia usando la matriz resul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Rotación alrededor de punto arbitrario P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(x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e alrededor de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ara que el punto en el origen vuelva a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745240"/>
            <a:ext cx="657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T (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-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=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Matriz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3º          2º              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Arial"/>
              </a:rPr>
              <a:t>Expresar como una composición de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otación en torno a un punto distinto del orige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scalamiento en torno a un punto distinto del 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79280" y="2743200"/>
            <a:ext cx="1679400" cy="1523880"/>
            <a:chOff x="1979280" y="2743200"/>
            <a:chExt cx="1679400" cy="1523880"/>
          </a:xfrm>
        </p:grpSpPr>
        <p:grpSp>
          <p:nvGrpSpPr>
            <p:cNvPr id="139" name=""/>
            <p:cNvGrpSpPr/>
            <p:nvPr/>
          </p:nvGrpSpPr>
          <p:grpSpPr>
            <a:xfrm>
              <a:off x="1979280" y="2743200"/>
              <a:ext cx="1679400" cy="1523880"/>
              <a:chOff x="1979280" y="2743200"/>
              <a:chExt cx="167940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12840" y="2743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97928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90920" y="28954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256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56000" y="2743200"/>
            <a:ext cx="1679400" cy="1523880"/>
            <a:chOff x="5256000" y="2743200"/>
            <a:chExt cx="1679400" cy="1523880"/>
          </a:xfrm>
        </p:grpSpPr>
        <p:grpSp>
          <p:nvGrpSpPr>
            <p:cNvPr id="145" name=""/>
            <p:cNvGrpSpPr/>
            <p:nvPr/>
          </p:nvGrpSpPr>
          <p:grpSpPr>
            <a:xfrm>
              <a:off x="5256000" y="2743200"/>
              <a:ext cx="1679400" cy="1523880"/>
              <a:chOff x="5256000" y="2743200"/>
              <a:chExt cx="1679400" cy="1523880"/>
            </a:xfrm>
          </p:grpSpPr>
          <p:sp>
            <p:nvSpPr>
              <p:cNvPr id="146" name=""/>
              <p:cNvSpPr/>
              <p:nvPr/>
            </p:nvSpPr>
            <p:spPr>
              <a:xfrm>
                <a:off x="5389560" y="2743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25600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6200000">
              <a:off x="5713560" y="304812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928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280" y="5486400"/>
            <a:ext cx="1679400" cy="1523880"/>
            <a:chOff x="1979280" y="5486400"/>
            <a:chExt cx="1679400" cy="1523880"/>
          </a:xfrm>
        </p:grpSpPr>
        <p:grpSp>
          <p:nvGrpSpPr>
            <p:cNvPr id="151" name=""/>
            <p:cNvGrpSpPr/>
            <p:nvPr/>
          </p:nvGrpSpPr>
          <p:grpSpPr>
            <a:xfrm>
              <a:off x="1979280" y="5486400"/>
              <a:ext cx="1679400" cy="1523880"/>
              <a:chOff x="1979280" y="5486400"/>
              <a:chExt cx="1679400" cy="152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112840" y="54864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7928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90920" y="56386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256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6000" y="5486400"/>
            <a:ext cx="1679400" cy="1523880"/>
            <a:chOff x="5256000" y="5486400"/>
            <a:chExt cx="1679400" cy="1523880"/>
          </a:xfrm>
        </p:grpSpPr>
        <p:grpSp>
          <p:nvGrpSpPr>
            <p:cNvPr id="157" name=""/>
            <p:cNvGrpSpPr/>
            <p:nvPr/>
          </p:nvGrpSpPr>
          <p:grpSpPr>
            <a:xfrm>
              <a:off x="5256000" y="5486400"/>
              <a:ext cx="1679400" cy="1523880"/>
              <a:chOff x="5256000" y="5486400"/>
              <a:chExt cx="1679400" cy="15238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89560" y="54864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25600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006960" y="5969160"/>
              <a:ext cx="15264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928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4800" y="2171880"/>
            <a:ext cx="2673000" cy="3840120"/>
            <a:chOff x="604800" y="2171880"/>
            <a:chExt cx="2673000" cy="3840120"/>
          </a:xfrm>
        </p:grpSpPr>
        <p:sp>
          <p:nvSpPr>
            <p:cNvPr id="164" name=""/>
            <p:cNvSpPr/>
            <p:nvPr/>
          </p:nvSpPr>
          <p:spPr>
            <a:xfrm>
              <a:off x="1676520" y="217188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98400" y="3525840"/>
              <a:ext cx="167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2324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209680" y="38098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04800" y="4876920"/>
                  <a:ext cx="1236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4707000" y="1066680"/>
            <a:ext cx="3698640" cy="5105520"/>
            <a:chOff x="4707000" y="1066680"/>
            <a:chExt cx="3698640" cy="5105520"/>
          </a:xfrm>
        </p:grpSpPr>
        <p:sp>
          <p:nvSpPr>
            <p:cNvPr id="170" name=""/>
            <p:cNvSpPr/>
            <p:nvPr/>
          </p:nvSpPr>
          <p:spPr>
            <a:xfrm>
              <a:off x="5618160" y="15238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22840" y="2878200"/>
              <a:ext cx="244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57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7040" y="3886200"/>
              <a:ext cx="18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707000" y="6019920"/>
              <a:ext cx="236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8040000">
              <a:off x="5317920" y="4495320"/>
              <a:ext cx="304560" cy="609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84760" y="4189320"/>
              <a:ext cx="2057400" cy="195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9680" y="5726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60000">
              <a:off x="6016320" y="5219280"/>
              <a:ext cx="304920" cy="60984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2120" y="487692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(propuest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700680" y="1066680"/>
                  <a:ext cx="1236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60400" y="1600200"/>
            <a:ext cx="1562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s Transformaciones 2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772400" y="2743200"/>
                <a:ext cx="1482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5" name=""/>
          <p:cNvGrpSpPr/>
          <p:nvPr/>
        </p:nvGrpSpPr>
        <p:grpSpPr>
          <a:xfrm>
            <a:off x="1064880" y="3886200"/>
            <a:ext cx="7391520" cy="2135880"/>
            <a:chOff x="1064880" y="3886200"/>
            <a:chExt cx="7391520" cy="2135880"/>
          </a:xfrm>
        </p:grpSpPr>
        <p:sp>
          <p:nvSpPr>
            <p:cNvPr id="186" name=""/>
            <p:cNvSpPr/>
            <p:nvPr/>
          </p:nvSpPr>
          <p:spPr>
            <a:xfrm>
              <a:off x="3429000" y="571500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6640" y="5715000"/>
              <a:ext cx="212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064880" y="3886200"/>
              <a:ext cx="1679400" cy="1523880"/>
              <a:chOff x="1064880" y="3886200"/>
              <a:chExt cx="167940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1198440" y="3886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06488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655800" y="3886200"/>
              <a:ext cx="1679400" cy="1523880"/>
              <a:chOff x="3655800" y="3886200"/>
              <a:chExt cx="1679400" cy="1523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78936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65580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75320" y="3886200"/>
              <a:ext cx="1679760" cy="1523880"/>
              <a:chOff x="6475320" y="3886200"/>
              <a:chExt cx="1679760" cy="1523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61032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475320" y="5241960"/>
                <a:ext cx="167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219320" y="4495680"/>
              <a:ext cx="990360" cy="736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4680" y="4546440"/>
              <a:ext cx="1295280" cy="685800"/>
            </a:xfrm>
            <a:prstGeom prst="parallelogram">
              <a:avLst>
                <a:gd name="adj" fmla="val 472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6703200" y="4177800"/>
              <a:ext cx="978120" cy="1155960"/>
            </a:xfrm>
            <a:prstGeom prst="parallelogram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hearing: </a:t>
            </a: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Esta transformación cambia el valor de las coordenadas sumándole un valor lineal de la otra coordenada. La matriz general cor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óxima clase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áles son commutativas y cuales no, cómo especificarlas en OpenGl y transformacione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ción  (2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sformaciones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00200" y="2286000"/>
            <a:ext cx="6335280" cy="3723480"/>
            <a:chOff x="1600200" y="2286000"/>
            <a:chExt cx="6335280" cy="3723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267080" y="2286000"/>
              <a:ext cx="14479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886200" y="379728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24480" y="3808440"/>
              <a:ext cx="13716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600200" y="38005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54200" y="5092560"/>
              <a:ext cx="62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scalamiento               Rotación                                      Tras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50%)                        (45º)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39800" y="1398600"/>
            <a:ext cx="451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y Importante en ani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ción: Visualizar y animar modelos 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visualización de modelos bidimensionales requiere la capacidad de </a:t>
            </a: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crear y manipula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cambiar tamaño, posición u orientación) de entidades como líneas, triángulos, punto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presentación de geometrías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coordenadas cartesiano 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Punto como elemento bás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or ejemplo, un segmento de línea se representa por sus puntos extremos, un triángulo por tres pun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502920"/>
            <a:ext cx="856764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28480"/>
            <a:ext cx="4535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’ = x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 y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’ = x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y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tación matr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679400"/>
            <a:ext cx="1440" cy="302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40040" y="4367160"/>
            <a:ext cx="31957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96000" y="3525840"/>
            <a:ext cx="1847880" cy="84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96000" y="2685600"/>
            <a:ext cx="109224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3880" y="3527280"/>
            <a:ext cx="14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88240" y="268776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2600" y="3863880"/>
            <a:ext cx="252360" cy="2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3160" y="4116240"/>
            <a:ext cx="84240" cy="2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33400" y="3651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8880" y="3975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836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76800" y="2351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’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49200" y="5257800"/>
                <a:ext cx="3780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3200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Esca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DejaVu Sans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x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y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6309"/>
                </a:solidFill>
                <a:latin typeface="Arial"/>
                <a:ea typeface="DejaVu Sans"/>
              </a:rPr>
              <a:t>¿Notación matr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matriz T) No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684520"/>
                <a:ext cx="222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4033800"/>
            <a:ext cx="441936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Es deseable una representación matricial uniforme para las transformaciones geométr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Arial"/>
              </a:rPr>
              <a:t>Coordenadas homogénea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ada punto tiene muchas represent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ordenadas homogéneas. (0, 0, 0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no está permi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3200400"/>
                <a:ext cx="4284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y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46080"/>
            <a:ext cx="9070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ropiedades / restric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jemplo de infinitas representaciones para un mismo pu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2,3,6) = (4,6,12) = (1/3, 1/2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on frecuencia se normaliza w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l punto (x, y, 0) representa punto en el infinito en la dirección 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as coordenadas “homogeinizan” el tratamiento  del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Si especificamos las transformaciones anteriores en coordenadas homogénea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é se logra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14400" y="3657600"/>
                <a:ext cx="2982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73360" y="5418000"/>
                <a:ext cx="34988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99200" y="3657600"/>
                <a:ext cx="29304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54040" y="2400480"/>
                <a:ext cx="1974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14720" y="2417760"/>
                <a:ext cx="147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81880" y="2386080"/>
                <a:ext cx="1876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/>
  <dcterms:modified xsi:type="dcterms:W3CDTF">2012-04-03T15:00:15Z</dcterms:modified>
  <cp:revision>11</cp:revision>
  <dc:subject/>
  <dc:title/>
</cp:coreProperties>
</file>