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4.wmf" ContentType="image/x-wmf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1D3-C9AB-43FD-92D9-1CA36AAA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29D-AF4F-4CCB-9F43-C57FE476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1BC-3161-42A2-AB97-7B08C1F6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5B8-EFAE-4665-8DBB-032454BB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D926-6DD6-4881-9D4D-86E2C6F8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7040-0F5E-40D8-B16C-45878EBD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6378-71B8-4C8D-9BDE-360AFE63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3FFB-C9BE-4D60-9C26-DF8C3801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D9D9-28F5-4662-A478-CDC5DD2A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B617-D1E7-4B3A-BEC1-B591A60E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EB5C-1271-4CA2-AA49-BBF305A7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A31-DDB0-49E5-8863-ACE0165E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81D9-BDDC-455E-BB0F-0BC17E7A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E1EE-402D-437E-B664-BC1E0C7B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DB49-DD8E-4626-A57C-7C612F77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1C67-6A1D-4A3A-B897-885D4F14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5ECF-D51B-468B-B170-8BF40D09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E05-4CFD-4A42-9472-F1572206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310-F9F9-4B5D-9B5E-511813C5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6756-3817-4CA6-8BA7-19622ABA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896-2EBC-4FC0-97BC-6E782ECF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C04-FA88-4295-A58E-0883A514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6005-50CC-4EC9-B982-9D2DDFFB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8E4-B323-4AC5-BFF9-EFE40CC3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E99BB-0D80-4C80-A7C5-35EF794F9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9ACDD-EC23-4C20-AD25-9D0E1B977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ciones geomé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2D 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arte 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en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cal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09680" y="2743200"/>
                <a:ext cx="334008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72200" y="1290600"/>
            <a:ext cx="1627200" cy="602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ras transformaciones 3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:             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828800" y="2489040"/>
                <a:ext cx="252720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57360" y="4873680"/>
                <a:ext cx="743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657600" y="4873680"/>
                <a:ext cx="72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72200" y="25146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ras transformaciones 3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85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:             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743200" y="5330880"/>
                <a:ext cx="677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38560" y="5330880"/>
                <a:ext cx="662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00200" y="2489040"/>
                <a:ext cx="234648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270400" y="2041560"/>
            <a:ext cx="4330800" cy="435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76400" y="4572000"/>
                <a:ext cx="1828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=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=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ón con respecto a un eje arbitrar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429000" y="2514600"/>
            <a:ext cx="61722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8600" y="1371600"/>
            <a:ext cx="891540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2323dc"/>
                </a:solidFill>
                <a:latin typeface="Arial"/>
              </a:rPr>
              <a:t>Problema: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dado un eje arbitrario representado por          determine la matriz de transformación  que rota un punto R alrededor de            en un ángulo </a:t>
            </a:r>
            <a:r>
              <a:rPr b="0" lang="es-ES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θ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772400" y="137160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001000" y="137160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286000" y="213048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14600" y="213048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ón con respecto a un eje arbitrario 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031840" y="2286000"/>
                <a:ext cx="4550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=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coordenadas del eje de rotación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vector unitario u 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o 1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057400" y="4114800"/>
                <a:ext cx="5602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,c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81200" y="5715000"/>
                <a:ext cx="23097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ón con respecto a un eje arbitrario (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o 2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3159000"/>
            <a:ext cx="9372600" cy="415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286000" y="1706400"/>
                <a:ext cx="16430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'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rPr>
                            <m:lit/>
                            <m:nor/>
                          </m:rPr>
                          <m:t xml:space="preserve">b,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429000" y="2349360"/>
                <a:ext cx="1463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677000" y="1557360"/>
                <a:ext cx="1467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72000" y="1469880"/>
                <a:ext cx="1512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ón con respecto a un eje arbitrario 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5680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o 2: propues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z resulta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a: </a:t>
            </a:r>
            <a:r>
              <a:rPr b="0" lang="en-US" sz="2600" spc="-1" strike="noStrike">
                <a:solidFill>
                  <a:srgbClr val="94476b"/>
                </a:solidFill>
                <a:latin typeface="Arial"/>
              </a:rPr>
              <a:t>En las matrices de rotación               dado que solo la función seno cambia de sig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43000" y="2514600"/>
                <a:ext cx="13762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257800" y="1630440"/>
            <a:ext cx="4114800" cy="362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754520" y="3630600"/>
                <a:ext cx="7164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43000" y="5568840"/>
                <a:ext cx="81010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β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989680" y="6172200"/>
                <a:ext cx="10969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=R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*(tx,ty,tz)  (matriz de traslación 4x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f(tx,ty,tz)  (f = flo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d(tx,ty,tz)  (f = dou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e*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DejaVu Sans"/>
                <a:ea typeface="DejaVu Sans"/>
              </a:rPr>
              <a:t>θ,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,vy,vz)   (vx,vy,vz) define un eje de rotación que pasa por el or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*(sx,sy,s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93726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ar que hemos v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Mod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GL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O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te caso nos debemos referir a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MODEL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o designa que la matriz actual es de tipo modelview. Esta se usa para aplicar transformaciones a los puntos de la esce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llamada a una función de transformación genera una matrix que es multiplicada por la matriz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asignar valores a la matriz actual usa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dentit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Matrix*(elements16) (arreglo elements[16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93726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xMode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_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VIEW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 elems[16]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k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(k=0; k&lt;16, k++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ems[k] = (float) 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Matrixf(elem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mutatividad en transformaciones geométr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formaciones básicas en 3D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rotación, traslación y escalami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ras tranformaciones 3D: reflexión y shea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ción con respecto a un eje arbitr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Qué provee  OpenG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93726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atenación de la matriz actual con una específ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Matrix*(otherElements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 M es la matrix actual,  la nueva M 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 = M * M'(otherElements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xMode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_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VIEW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adIdentity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Matrixf(elemsM2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Matrixf(elemsM1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 = M2*M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278000"/>
            <a:ext cx="96012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é pasa si necesitamos mantener más de una matriz de transformaciones para modelar distintas escen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cada modo 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PROJECTION,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MODELVIEW,etc) que seleccionamos,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OpenGl mantiene un “stack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En el tope esta la matriz actu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tamaño predefinido es 3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 determinar el tamaño máxi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Integerv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MAX_MODELVIEW_STACK_DEPTH,                            stackSize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Integerv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MODELVIEW_STACK_DEPTH,                                      numMats);  // número de matr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278000"/>
            <a:ext cx="96012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shMatrix(): se copia la matriz actual en el tope del satck activo  y deja la que estaba antes en el tope en la segunda posición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(dos matrices iguales en las primeras dos posiciones del Stac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Matrix():  elimina la que está en el tope. (Error si no hay menos de dos matri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s programación de transformaciones geométr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277640"/>
            <a:ext cx="9601200" cy="5730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rixMode(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MODELVIEW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or3f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0.0, 0.0, 1.0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Dibuja en az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or3f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1.0, 0.0, 0.0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latef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-200.0, -50.0, -0.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tras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Identity()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tatef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90, 0.0, 0.0, 1.0)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// Ro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Identity()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ef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-0.5, 1.0, 1.0)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//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172200" y="1371600"/>
            <a:ext cx="3657600" cy="56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s programación de transformaciones geométricas (con stac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277640"/>
            <a:ext cx="960120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rixMode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MODELVIEW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3f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0.0, 0.0, 1.0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ibuja en 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Matrix(); // Copia identidad en el t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3f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1.0, 0.0, 0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f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-200.0, -50.0, -0.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tras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Matrix(); // elimina matriz de rot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Matrix();// copia identidad en el t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f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90, 0.0, 0.0, 10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/ R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Matrix(); //elimina matriz de rot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f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-0.5, 1.0, 10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/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172200" y="1371600"/>
            <a:ext cx="3657600" cy="56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Gl Transformaciones geométr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é transformaciones no son conmutativas en 3D que si lo eran en 2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uesto: Programar una rotación en torno a un eje arbitr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33720" y="2286000"/>
            <a:ext cx="475308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óxima cla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-D y 3D vi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Desde donde  miro la esce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Cómo la proye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667560" y="914400"/>
            <a:ext cx="3162240" cy="2971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28600" y="3705120"/>
            <a:ext cx="4600440" cy="3381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067440" y="4286160"/>
            <a:ext cx="376236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Serán conmutativas las transformacion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57400" y="2324160"/>
            <a:ext cx="5724360" cy="2247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 P' =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' 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 =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 T'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 = reflexion y T' = rotacion no son conmutati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Serán conmutativas las transformacion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919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conmutativas en dos dimension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slaciones entre 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alamiento entre 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taciones entre 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alamiento (            ) y ro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 (demostrarl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sición arbitraria de transformaciones (escalamiento, rotación y traslació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taciones preservan ángulos y longit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secuencia arbitraria de transformaciones preserva el paralelismo de las líneas, pero no longitudes ni ángu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200400" y="3657600"/>
                <a:ext cx="914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ones entre sistemas de coordenadas en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s etapas del proceso de  visualización necesitamos cambiar el sistema de coordenadas. Ejemplo: MCS--&gt;W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: Sistema de coordenada x'y' con origen en             y orientación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en el sistema de referencia x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Cómo transformar un objeto en coordenadas del sistema xy al sistema x'y'?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835760" y="2624040"/>
                <a:ext cx="914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00400" y="457200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ones entre sistemas de coordenadas en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Pasos a segui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Trasladar el origen del sistema x'y'              de tal manera que coincida en (0,0) en el sistema x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Rotar de tal manera que los ejes coincid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Transformación resultante 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715000" y="2286000"/>
                <a:ext cx="914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54520" y="3630600"/>
            <a:ext cx="719280" cy="36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743200" y="5586480"/>
                <a:ext cx="35672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,x'y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705720" y="2743200"/>
            <a:ext cx="31240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en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rasl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943600" y="1839960"/>
            <a:ext cx="3591000" cy="273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114800"/>
                <a:ext cx="3733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t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en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Ro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486080" y="2260440"/>
                <a:ext cx="354312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371600" y="5029200"/>
                <a:ext cx="354348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943600" y="5029200"/>
                <a:ext cx="352116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837400" y="2057400"/>
            <a:ext cx="28494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en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t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itiva es ccw (counter clock wise) mirand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de la parte positiva del eje hacia el orig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57600" y="2286000"/>
            <a:ext cx="2314440" cy="4916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1:08:54Z</dcterms:created>
  <dc:creator>Nancy Hitschfeld</dc:creator>
  <dc:description/>
  <dc:language>en-US</dc:language>
  <cp:lastModifiedBy>Nancy Hitschfeld</cp:lastModifiedBy>
  <dcterms:modified xsi:type="dcterms:W3CDTF">2012-04-10T13:27:20Z</dcterms:modified>
  <cp:revision>27</cp:revision>
  <dc:subject/>
  <dc:title/>
</cp:coreProperties>
</file>