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092-4855-4EC2-9968-EA86FD7B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5439-9436-4B90-9E31-8CA7F5B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6D1D-8D9E-446B-8D47-EC4D0AC9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62A0-6693-41BB-9D45-6A79B6080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2F816-D883-4CE6-B8EB-C310099E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173F-D2B5-4853-B34C-84F8C9AB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5A9C-0EDB-4EA2-96F4-88092DA3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C9551-B41F-42FE-AE9A-78487646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A4FFF-FCE2-47FF-BC02-6507DCB6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67458-ABE4-42AA-B331-4322D0B7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EB1-8326-4F6E-972B-1E7F7E7A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43BC-B679-476B-9A4B-7321783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85ED-C29F-447C-81A4-A3661BE6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EA81-728B-420D-BF57-FDF35676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543C-DEAD-496A-AA61-D9BFBBA2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CA48-F769-4473-8218-32E22B02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19F8-5EFC-4213-A71A-FACC79D73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C15-3D15-412B-B34A-139B8E9DA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B156-BA34-426A-8543-AEB1D3D2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6EA2-C065-4D8C-8CB8-907415D3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E9E-EEA7-4FB4-B778-5169CD15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35C-B910-42B5-9D34-4C72CF43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D51-7CB5-4D0F-9BD2-0B7E11DE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D632-5038-4475-94FB-3CC6462A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D9193-8E78-43B0-9E21-DB0576129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5313E1-1D24-4CF7-907B-DB25D3490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4754520" y="3068640"/>
                <a:ext cx="71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ciones de Vie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y 3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ro forma de viewing pipeline 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Construir la matriz result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923760" y="2514600"/>
            <a:ext cx="890604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2D 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realidad, OpenGl no provee funciones especiales para 2D viewing pipeli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se especifica la ventana de clipp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rixMode(GL_PROJECTIO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Identity(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tho2D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wmin,xwmax, ywmin,ywma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no se especifica una ventana de clipping, los valores usado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371600" y="6400800"/>
                <a:ext cx="73152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,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nGL 2D view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29920" y="1501560"/>
            <a:ext cx="90709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se especifica viewpo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g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port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(xvmin,xvmax,vpWidth,vpHeight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ámetros son coordenadas ent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vmin,yvmin) esquina  inferior izquierda relativa a la esquina interior izquierda de la ventana de dis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crear múltiples vis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GetIntegerv(GL_VIEWPORT, vparra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28440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tiene los parámetros del viewport act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 en OpenG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903240" y="1393920"/>
            <a:ext cx="8315280" cy="47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sualización de un triángulo en dos viewpor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971640" y="1995480"/>
            <a:ext cx="8058240" cy="43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7040" y="2057400"/>
            <a:ext cx="9572760" cy="51436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343080"/>
            <a:ext cx="3057480" cy="1714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icializ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specificación del triángu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914400" y="1428840"/>
            <a:ext cx="7800840" cy="314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unción que dibuj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06320" y="1285920"/>
            <a:ext cx="8894880" cy="60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s de clipping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eliminar las porciones de la escena que estan fuer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pu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lí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polígon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curv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pping de un pun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na de clipping definida po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pping de un pu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3200400" y="4114800"/>
                <a:ext cx="256068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54320" y="4572000"/>
                <a:ext cx="25606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y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343400" y="3429000"/>
                <a:ext cx="132084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x,y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627280" y="2286000"/>
                <a:ext cx="491652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ing en OpenG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mos de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pping de una líne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ómo chequear si un segmento está dentro, fuera o intersecta el borde de la venta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944880" cy="308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da  punto extremo de un segmento se clasifica con un número binario de 4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1:  Left (lado izquierdo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2: Right (lado derecho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3: Bottom (bajo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4: Top (arriba de la vent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un punto extremo está fuera de la ventana se asigna al (o los) bit(s) correspondiente(s) u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" y="1828800"/>
            <a:ext cx="4754520" cy="530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ómo clasificar P(x,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1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2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3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 4: bit de signo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403960" y="2070000"/>
            <a:ext cx="4425840" cy="387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057400" y="3200400"/>
                <a:ext cx="1371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057400" y="4370400"/>
                <a:ext cx="13986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00160" y="6716880"/>
                <a:ext cx="144648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7400" y="5715000"/>
                <a:ext cx="142416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1828800"/>
            <a:ext cx="475452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o de operaciones lógicas la secuencia de bits de cada punto extremo para decidi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la operación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a  0 =&gt;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egmento “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se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operación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AND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 != 0 =&gt;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segmento “ou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l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r inter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403960" y="2351160"/>
            <a:ext cx="4425840" cy="382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lgoritmo Cohen-Sutherlan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50292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ciones para el cálculo de las intersec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representación con la pendiente del seg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ndo la representación paramétrica (Liang-Bars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3456000" indent="0">
              <a:lnSpc>
                <a:spcPct val="93000"/>
              </a:lnSpc>
              <a:spcAft>
                <a:spcPts val="575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172200" y="4219560"/>
            <a:ext cx="3429000" cy="30956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172200" y="1600200"/>
            <a:ext cx="3429000" cy="2514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1994040" y="3886200"/>
                <a:ext cx="14349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=mx+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57200" y="5321160"/>
                <a:ext cx="5775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=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=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+u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2481120" y="5823000"/>
                <a:ext cx="117648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u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325520" y="2743200"/>
                <a:ext cx="25606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,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d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d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nd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 polígon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249120" y="3429000"/>
            <a:ext cx="9352080" cy="27496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therland-Hodge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ta el polígono contra los cuatro ar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pping polígono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3400" y="1321920"/>
            <a:ext cx="9071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therland-Hodgema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re polígonos conv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vértices del polígonos. Output: vértices del polígono recor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nalizan 4 ca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85800" y="4114800"/>
            <a:ext cx="868680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orte de text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50192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bounding-box que rodea el tex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ar bounding-box de cada caract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tar cada caracter si es neces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3200400"/>
            <a:ext cx="8001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 importan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ransformaciones de viewing 2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peo from WC a 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43000" y="2971800"/>
            <a:ext cx="8458200" cy="4114800"/>
            <a:chOff x="1143000" y="2971800"/>
            <a:chExt cx="8458200" cy="411480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143000" y="2971800"/>
              <a:ext cx="84582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143000" y="2971800"/>
              <a:ext cx="84582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ana de clipping y   view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85960" y="2619360"/>
            <a:ext cx="87152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ceptos important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tana de clipping (WC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lecciona las partes de la escena a mostrar en la pantalla (u otro dispositivo de sali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Ventana Viewport (VC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specifica en qué parte de la ventana de display  se mostrará la parte de la escena seleccionada en la ventana de clip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últiples viewports pueden ser usados para mostrar mútiples vistas de la esc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iando el tamaño de los viewports se puede mostrar los objetos de diferentes tama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uesto: Cómo lograr zoom in y zoom 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entana de Clipping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: polígono convexo, círculo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90920" indent="-430200">
              <a:lnSpc>
                <a:spcPct val="93000"/>
              </a:lnSpc>
              <a:spcAft>
                <a:spcPts val="850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s lento de proces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 rectangular:  inclinada o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n general los paquetes gráficos solo se proveen ventanas de forma rectangular y con arcos paralelos a los eje x e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eo Ventana de clipping- ventana viewport norm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ómo calcular la transformación asociad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143000" y="2552760"/>
            <a:ext cx="8115480" cy="29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600200" y="1371600"/>
            <a:ext cx="7086600" cy="228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108240" y="3886200"/>
                <a:ext cx="3475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x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971800" y="4800600"/>
                <a:ext cx="35575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v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600200" y="6702480"/>
                <a:ext cx="182880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v=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xw+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5184720" y="6702480"/>
                <a:ext cx="1901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v=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yw+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6141960"/>
            <a:ext cx="79423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viendo la expresión anterior se obtien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D viewing pipelin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3280" y="1768320"/>
            <a:ext cx="907092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3040" bIns="0" anchor="t">
            <a:no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d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obtener la transformación aplicando las transformaciones vistas las clases anteri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033720" y="2193840"/>
                <a:ext cx="2224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71800" y="4572000"/>
                <a:ext cx="35290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6234120" y="2193840"/>
                <a:ext cx="228132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971800" y="3657600"/>
                <a:ext cx="3429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23:13:24Z</dcterms:created>
  <dc:creator>Nancy Hitschfeld</dc:creator>
  <dc:description/>
  <dc:language>en-US</dc:language>
  <cp:lastModifiedBy/>
  <dcterms:modified xsi:type="dcterms:W3CDTF">2012-04-12T15:14:10Z</dcterms:modified>
  <cp:revision>18</cp:revision>
  <dc:subject/>
  <dc:title/>
</cp:coreProperties>
</file>