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5AB-FE2C-4383-B16F-0B8410CA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CBD-9329-417F-8596-ECF7976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AD3-84B5-465B-9049-D09D7E08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D46-E0D4-4111-880E-9470AF74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8BF-6DA8-4212-84CE-2B649989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AEAE-DB40-461C-85CE-B048AD9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7AB-7568-44DF-8A06-402A6858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32F6-0DE0-4C43-9BF9-9C3F5E7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FA8A-50F0-4EEF-9586-B8186BD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992C-E7A4-4A17-9859-B0DD29CB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D3E3-792D-42C4-BEF3-E8DCB74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1AF-8614-4CBC-B456-CD6D37E4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3CF-9DDC-4033-A846-0303DBB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5C5-1AA2-40FF-AA43-F2B2950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A8D-EE7F-4A36-850A-04A7D94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9578-8255-41A3-AF99-AA77F498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D9B-EC76-42E9-A071-D723EDA5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BE8-5F64-4DBC-B39D-377DC78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975-AE3B-4113-B3C3-8EF55042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C81-10A5-4E7C-81AE-E20C6A0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529-5E83-4CBC-B0B5-4EB9C768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05A-A698-4AD9-B902-26EF078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092-3B99-47FA-A6D4-86D72E0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49D-1986-4BB4-82CE-BF0EC1E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D1404-9AEF-49F5-8B3E-B666DE527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954F8-1C9C-4D0B-84C1-507F90946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interacción de entrada e interfaces 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261936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600200"/>
            <a:ext cx="8929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da nueva posición seleccionada con el botón izquierdo dibu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a nueva línea entre la posición anterior y  la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90774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960" y="5029200"/>
            <a:ext cx="6362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95360" y="1330200"/>
            <a:ext cx="683424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457280"/>
            <a:ext cx="6629400" cy="380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943600"/>
            <a:ext cx="7518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winReshapeFcn se llama cada vez que un usuario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 el tamaño de la 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 lógica de los dispositiv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 de una aplicación interactiva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ar input interac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a posición de un objeto apuntando la nueva posición con 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os parámetros de una simulación seleccionando el menú aprop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ción de dibujos ejecutada de manera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lasificación lógica estándar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una 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que especifica mútiple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strings (secuencias de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luator</a:t>
            </a:r>
            <a:r>
              <a:rPr b="0" lang="en-US" sz="2800" spc="-1" strike="noStrike">
                <a:solidFill>
                  <a:srgbClr val="314004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un dispositivo para especificar un valor e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oice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seleccionar una opción de me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k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un dispositivo para seleccionar un objeto de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tinas  de OpenGl para input-devices interac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Glut para 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Func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 que el procedimie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ncargado de actuar cuando el mouse es presionado o so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Fcn debe tener 4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Fc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utt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tion,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Mous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mou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EFT_BUTTON,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MIDDLE_BUTTON,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RIGHT_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DOWN 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la posición del mouse, cada vez que se presiona el botón izquierdo, se dibuja un punto rojo de tamaño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86000" y="2286000"/>
            <a:ext cx="77580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82011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6:47Z</dcterms:created>
  <dc:creator/>
  <dc:description/>
  <dc:language>en-US</dc:language>
  <cp:lastModifiedBy/>
  <dcterms:modified xsi:type="dcterms:W3CDTF">2012-04-12T14:53:53Z</dcterms:modified>
  <cp:revision>4</cp:revision>
  <dc:subject/>
  <dc:title/>
</cp:coreProperties>
</file>