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16D40-E8BF-4B81-ABEC-AB4790435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F3456-28EE-4025-82A5-C5D73B1D8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4E05A-F08E-4461-81B0-EDAA7853E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86012-69F6-46EC-997C-DDD4C99BE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60F07-2D76-4C5D-9260-8538BDCC3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AF8B1-B9F0-472C-8005-D53E769D7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0B284-9F99-4E1A-9C2E-3BDC39857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5E536-46D0-4929-9670-21557CF23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620D9-BDA6-45E6-84E6-D9C3EE408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CC9F7-13A1-4719-BDF1-5C8F59542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1240F-EA76-4916-8F55-E2FFB0C60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9540B-2645-4468-BA67-FB63B9B68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20005-5553-4DBA-8E39-DBFA52B09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3F5FE-FE6E-4173-8A4C-C44BE05C3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1C1C9-896F-4AC4-A8B4-2D03B2A13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A58BD-BE92-48A9-BDC8-4D3D854A8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0BE97-E129-4D83-BAC3-25A9D003F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302D7-9E39-4D03-BCDE-4ACAD710B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E4276-585E-4926-94FF-9B1A243ED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1D35C-DDAF-46FC-B1B7-FE18D84EE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22CFF-B1A9-42FC-97D5-B2CE32EE2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2E992-F356-4B61-8215-E3ABE4681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7ADE5-454B-4D75-B6A7-E5D2C6F14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479EF-9560-4728-8BEB-B591452FA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6324480"/>
            <a:ext cx="8610480" cy="533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7582320" y="637848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. Pizarro – F. Ramír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6308640"/>
            <a:ext cx="20732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-4680" y="6184800"/>
            <a:ext cx="9129600" cy="673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28"/>
          <p:cNvSpPr/>
          <p:nvPr/>
        </p:nvSpPr>
        <p:spPr>
          <a:xfrm>
            <a:off x="160920" y="638964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6571440" y="6357960"/>
            <a:ext cx="25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J. Pizarro - F. Ramí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30" descr="LOGO DII bco"/>
          <p:cNvPicPr/>
          <p:nvPr/>
        </p:nvPicPr>
        <p:blipFill>
          <a:blip r:embed="rId2"/>
          <a:stretch/>
        </p:blipFill>
        <p:spPr>
          <a:xfrm>
            <a:off x="2664000" y="476280"/>
            <a:ext cx="3803400" cy="1393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2. Teoría de Carteras Revisitada y Administración de Renta Vari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53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nanza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raficando Retorno y Riesgo para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523880" y="1371600"/>
            <a:ext cx="6097680" cy="4076640"/>
            <a:chOff x="1523880" y="1371600"/>
            <a:chExt cx="6097680" cy="4076640"/>
          </a:xfrm>
        </p:grpSpPr>
        <p:graphicFrame>
          <p:nvGraphicFramePr>
            <p:cNvPr id="120" name="Object 5"/>
            <p:cNvGraphicFramePr/>
            <p:nvPr/>
          </p:nvGraphicFramePr>
          <p:xfrm>
            <a:off x="1523880" y="1371600"/>
            <a:ext cx="6097680" cy="407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Object 5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1523880" y="1371600"/>
                      <a:ext cx="6097680" cy="40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2" name="Group 6"/>
            <p:cNvGrpSpPr/>
            <p:nvPr/>
          </p:nvGrpSpPr>
          <p:grpSpPr>
            <a:xfrm>
              <a:off x="2743200" y="2209320"/>
              <a:ext cx="2286000" cy="1219680"/>
              <a:chOff x="2743200" y="2209320"/>
              <a:chExt cx="2286000" cy="1219680"/>
            </a:xfrm>
          </p:grpSpPr>
          <p:sp>
            <p:nvSpPr>
              <p:cNvPr id="123" name="Freeform 7"/>
              <p:cNvSpPr/>
              <p:nvPr/>
            </p:nvSpPr>
            <p:spPr>
              <a:xfrm>
                <a:off x="4191120" y="2209680"/>
                <a:ext cx="761760" cy="1219320"/>
              </a:xfrm>
              <a:prstGeom prst="pie">
                <a:avLst/>
              </a:prstGeom>
              <a:solidFill>
                <a:srgbClr val="ccecff">
                  <a:alpha val="50000"/>
                </a:srgbClr>
              </a:solidFill>
              <a:ln w="1260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8"/>
              <p:cNvSpPr/>
              <p:nvPr/>
            </p:nvSpPr>
            <p:spPr>
              <a:xfrm flipV="1">
                <a:off x="4648320" y="2209320"/>
                <a:ext cx="304560" cy="12193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9"/>
              <p:cNvSpPr/>
              <p:nvPr/>
            </p:nvSpPr>
            <p:spPr>
              <a:xfrm flipH="1">
                <a:off x="2743200" y="2209680"/>
                <a:ext cx="2286000" cy="5335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0"/>
              <p:cNvSpPr/>
              <p:nvPr/>
            </p:nvSpPr>
            <p:spPr>
              <a:xfrm>
                <a:off x="2743200" y="2743200"/>
                <a:ext cx="1905120" cy="68580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arteras posibles con 2 ac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5156280"/>
            <a:ext cx="37195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strumentos con correlación positiva moder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685800" y="44388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V="1">
            <a:off x="685800" y="1447920"/>
            <a:ext cx="0" cy="299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rc 6"/>
          <p:cNvSpPr/>
          <p:nvPr/>
        </p:nvSpPr>
        <p:spPr>
          <a:xfrm rot="16459800">
            <a:off x="1504800" y="1942560"/>
            <a:ext cx="1809720" cy="1619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504800" y="3543480"/>
            <a:ext cx="88920" cy="8856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219480" y="188604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343320" y="172404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09760" y="366696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3990960" y="440064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33360" y="131436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4924440" y="44766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924440" y="1485720"/>
            <a:ext cx="0" cy="29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5743440" y="358128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6"/>
          <p:cNvSpPr/>
          <p:nvPr/>
        </p:nvSpPr>
        <p:spPr>
          <a:xfrm>
            <a:off x="7458120" y="192420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7581960" y="176220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648400" y="370512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8229600" y="443880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4572000" y="135252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5791320" y="1961640"/>
            <a:ext cx="1714320" cy="163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 flipH="1">
            <a:off x="4915080" y="1962000"/>
            <a:ext cx="2590560" cy="457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3"/>
          <p:cNvSpPr/>
          <p:nvPr/>
        </p:nvSpPr>
        <p:spPr>
          <a:xfrm flipH="1" flipV="1">
            <a:off x="4915080" y="2419200"/>
            <a:ext cx="876240" cy="12002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915240" y="284940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6610320" y="2990880"/>
            <a:ext cx="28584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H="1">
            <a:off x="5924520" y="1809720"/>
            <a:ext cx="1713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5753160" y="117324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4952880" y="5156280"/>
            <a:ext cx="3753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relación perfecta (positiva y neg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 riesg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adecuada selección del peso en cada uno de los activos permite una disminución del riesgo de la carter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menor riesgo implica siempre una mayor rentabilida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posible encontrar una cartera con riesgo cer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é pasa para más de dos activo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Varianza de un portafolio de N instrumen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511360"/>
            <a:ext cx="845820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upongamos que el peso de cada instrumento es igual a 1/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n la varianza del portafolio, existen N varianzas ponderadas por 1/N y N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N covarianzas. Podemos decir entonces que la varianza del portafolio 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572000" y="1386000"/>
                <a:ext cx="3124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Rectangle 5"/>
          <p:cNvSpPr/>
          <p:nvPr/>
        </p:nvSpPr>
        <p:spPr>
          <a:xfrm>
            <a:off x="324000" y="11556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rianza del Portafol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073160" y="4022640"/>
                <a:ext cx="782316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Rectangle 7"/>
          <p:cNvSpPr/>
          <p:nvPr/>
        </p:nvSpPr>
        <p:spPr>
          <a:xfrm>
            <a:off x="324000" y="55944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N es muy grande, la varianza del portafolio tiende a la covarianza promedio de los instr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varianza del portafolio descende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á hasta un nivel donde no será posible reducir más su varianz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5745240"/>
            <a:ext cx="8458200" cy="35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1409760" y="527688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V="1">
            <a:off x="1409760" y="1638000"/>
            <a:ext cx="0" cy="363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409760" y="3695760"/>
            <a:ext cx="598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rc 7"/>
          <p:cNvSpPr/>
          <p:nvPr/>
        </p:nvSpPr>
        <p:spPr>
          <a:xfrm flipV="1" rot="3121200">
            <a:off x="3197160" y="-1146240"/>
            <a:ext cx="1228680" cy="4724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rc 8"/>
          <p:cNvSpPr/>
          <p:nvPr/>
        </p:nvSpPr>
        <p:spPr>
          <a:xfrm rot="9434400">
            <a:off x="2307600" y="1041120"/>
            <a:ext cx="4492440" cy="163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rc 9"/>
          <p:cNvSpPr/>
          <p:nvPr/>
        </p:nvSpPr>
        <p:spPr>
          <a:xfrm rot="11058600">
            <a:off x="3326760" y="1712880"/>
            <a:ext cx="4133880" cy="1758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409760" y="2171880"/>
            <a:ext cx="6134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2266920" y="2171520"/>
            <a:ext cx="0" cy="310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6153120" y="3695400"/>
            <a:ext cx="0" cy="15620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4286160" y="2171880"/>
            <a:ext cx="0" cy="11808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562040" y="1467000"/>
            <a:ext cx="20764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atilidad (desviaci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stándar del retor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629400" y="531504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úmero de instrumentos en 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362480" y="236232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eliminado por divers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029200" y="310500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324160" y="3981600"/>
            <a:ext cx="2076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 un instrumento tipo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6172200" y="417204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no diversif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pende de la correlació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685800" y="1447920"/>
          <a:ext cx="8001000" cy="47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010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ibución al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2268360" y="1844640"/>
                <a:ext cx="54406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855720" y="4005360"/>
                <a:ext cx="768996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rontera de mínima varianza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2143080" y="1971720"/>
                <a:ext cx="51436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w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Text Box 5"/>
          <p:cNvSpPr/>
          <p:nvPr/>
        </p:nvSpPr>
        <p:spPr>
          <a:xfrm>
            <a:off x="1474200" y="1339920"/>
            <a:ext cx="604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demos resolver el siguiente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necesarias y suficientes para carteras en la frontera de mínima varianz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36400" y="1676520"/>
                <a:ext cx="807120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…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48040" y="3046320"/>
                <a:ext cx="29559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3344760" y="4724280"/>
                <a:ext cx="24465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icialment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solución par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despeja 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ción es de la forma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ctores que dependen de la matriz varianza covarianza y el vector de retornos espe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733920" y="1268280"/>
                <a:ext cx="445608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4067280" y="4076640"/>
                <a:ext cx="24858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643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ctores g y h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definim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3230640" y="1197000"/>
                <a:ext cx="2681280" cy="26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</m:nary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3132000" y="4140360"/>
                <a:ext cx="4322880" cy="20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lación entre el retorno esperado y la varianza de las carteras de la fronter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varianza de la cartera 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 que equivale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928800" y="2143080"/>
                <a:ext cx="72784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2050920" y="4149720"/>
                <a:ext cx="554220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 dos soluciones conocidas del problema para r distintos, ento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(1 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también una solución par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3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1 + (1 -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r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mostración: en cl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decir, para construir toda la frontera de mínima varianza bastan dos carteras diferentes que pertenezcan a la fronte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7200" y="2378160"/>
            <a:ext cx="84582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116000" y="1523880"/>
            <a:ext cx="714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5838840" cy="1905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1714680" y="3786120"/>
            <a:ext cx="5209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4582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rteras de mínima varianza definen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parábola en el espacio r-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1476360" y="981000"/>
          <a:ext cx="712800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1000"/>
                    <a:ext cx="712800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Line 7"/>
          <p:cNvSpPr/>
          <p:nvPr/>
        </p:nvSpPr>
        <p:spPr>
          <a:xfrm>
            <a:off x="3203640" y="364500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 flipH="1">
            <a:off x="1042920" y="364500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2"/>
              <p:cNvSpPr txBox="1"/>
              <p:nvPr/>
            </p:nvSpPr>
            <p:spPr>
              <a:xfrm>
                <a:off x="2749680" y="5373720"/>
                <a:ext cx="8856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179280" y="3141720"/>
                <a:ext cx="833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o de frontera eficiente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762120" y="1484280"/>
          <a:ext cx="652140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84280"/>
                    <a:ext cx="65214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14"/>
          <p:cNvSpPr/>
          <p:nvPr/>
        </p:nvSpPr>
        <p:spPr>
          <a:xfrm>
            <a:off x="3809880" y="3429000"/>
            <a:ext cx="152640" cy="11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4038480" y="4343400"/>
            <a:ext cx="15264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4800600" y="3048120"/>
            <a:ext cx="152280" cy="152280"/>
          </a:xfrm>
          <a:prstGeom prst="rect">
            <a:avLst/>
          </a:prstGeom>
          <a:solidFill>
            <a:srgbClr val="66ff33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52680" y="3429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4920" y="1569960"/>
            <a:ext cx="642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es prefieren al mismo nivel de volatilidad cart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ayor retorno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133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14600" y="3809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181120" y="312408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4265280" y="42670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960720" y="33526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1:  Covarianza entre un portfolio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frontera de mínima varianza, y el portfolio de mínima varianza mv</a:t>
            </a:r>
            <a:r>
              <a:rPr b="1" lang="es-MX" sz="2000" spc="-1" strike="noStrike">
                <a:solidFill>
                  <a:srgbClr val="000000"/>
                </a:solidFill>
                <a:latin typeface="TECHMath"/>
                <a:ea typeface="TECHMath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igual a la varianza de éste últi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2: Para todo porfolio p en la frontera de mínima varianza, excepto para el portfolio mv, existe un portfolio q único en la frontera tal que la covarianza entre p y q sea cero. (llamaremos a q zc(p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se da 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32000" y="2306520"/>
                <a:ext cx="2880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425680" y="4581360"/>
                <a:ext cx="4292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3278160" y="5410080"/>
                <a:ext cx="2586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23520"/>
            <a:ext cx="845820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riesgo de una cartera se estima a partir de la desviación estándar que es la raíz cuadrada de la varianza: Var(Rp)=E(Rp-E(Rp))^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714240" y="3000240"/>
            <a:ext cx="742968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857160" y="4572000"/>
            <a:ext cx="6610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i portfolio p es eficiente, entonces zc(p) no lo 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demás, se puede mostrar que p y zc(p) son tales q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"/>
          <p:cNvSpPr/>
          <p:nvPr/>
        </p:nvSpPr>
        <p:spPr>
          <a:xfrm>
            <a:off x="3335400" y="2924280"/>
            <a:ext cx="1741320" cy="2089080"/>
          </a:xfrm>
          <a:prstGeom prst="pie">
            <a:avLst/>
          </a:pr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6"/>
          <p:cNvSpPr/>
          <p:nvPr/>
        </p:nvSpPr>
        <p:spPr>
          <a:xfrm flipH="1">
            <a:off x="1763280" y="3213000"/>
            <a:ext cx="2303640" cy="1584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1763640" y="2997360"/>
            <a:ext cx="0" cy="244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763640" y="4797360"/>
            <a:ext cx="28083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3227400" y="26370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1763640" y="54450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115280" y="270828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011640" y="5584680"/>
            <a:ext cx="36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13"/>
          <p:cNvCxnSpPr>
            <a:stCxn id="246" idx="0"/>
            <a:endCxn id="246" idx="0"/>
          </p:cNvCxnSpPr>
          <p:nvPr/>
        </p:nvCxnSpPr>
        <p:spPr>
          <a:xfrm>
            <a:off x="4068360" y="32126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54" name="Line 14"/>
          <p:cNvSpPr/>
          <p:nvPr/>
        </p:nvSpPr>
        <p:spPr>
          <a:xfrm>
            <a:off x="3492360" y="3068640"/>
            <a:ext cx="14292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858920" y="4149720"/>
            <a:ext cx="86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6"/>
          <p:cNvSpPr/>
          <p:nvPr/>
        </p:nvSpPr>
        <p:spPr>
          <a:xfrm flipH="1">
            <a:off x="4571640" y="4508640"/>
            <a:ext cx="360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258920" y="3429000"/>
            <a:ext cx="398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0"/>
          <p:cNvSpPr/>
          <p:nvPr/>
        </p:nvSpPr>
        <p:spPr>
          <a:xfrm>
            <a:off x="1619280" y="3645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971640" y="4484520"/>
            <a:ext cx="758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2"/>
          <p:cNvSpPr/>
          <p:nvPr/>
        </p:nvSpPr>
        <p:spPr>
          <a:xfrm>
            <a:off x="1692360" y="479736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inalmente podemos mostrar CAPM sin activo libre de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i p es un portfolio de la frontera otro que el mv, y q es cualquier portfolio (en particular un activo individual), 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uego podemos escribir 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finiendo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2583000" y="2565360"/>
                <a:ext cx="43830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2603520" y="4076640"/>
                <a:ext cx="3935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3708360" y="5013360"/>
                <a:ext cx="2444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713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retorno de la cartera q se puede descomponer en riesgo sistemático y riesgo específic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retorno aleatorio se puede descomponer entonces co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2444760" y="2349360"/>
                <a:ext cx="4591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3319560" y="3933720"/>
                <a:ext cx="250488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62160" y="1562040"/>
            <a:ext cx="6848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109520" y="1547640"/>
            <a:ext cx="7153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071720" y="2714760"/>
            <a:ext cx="72151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jando el horizonte de análisis, nos concentramos en N activos riesgos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aleatoria es el retorno entre t y t+1 de los diferentes activ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el vector de retornos esperados 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la matriz varianza covarianz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vector de retornos aleatorios se define co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676520" y="4114800"/>
                <a:ext cx="57117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3809880" y="2209680"/>
                <a:ext cx="23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mos una cartera o portafolio como una selección de activo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cartera es un ve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porcentajes invertidos en cada uno de los acti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artera tiene un retorno esperad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una varianza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676520" y="2133720"/>
                <a:ext cx="51814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4267080" y="4191120"/>
                <a:ext cx="3276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447920" y="5181480"/>
                <a:ext cx="5006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28600" y="1600200"/>
            <a:ext cx="9144000" cy="40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íamos visto que para una cartera, la volatilidad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volatilidad del activo 1 es 10% y del activo 2 es 12%, y su correlación es -0.5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357120" y="2514600"/>
                <a:ext cx="85726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ρ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olatilidad de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133720" y="4648320"/>
            <a:ext cx="4473360" cy="118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acción w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Vol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2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5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0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2:23:33Z</dcterms:created>
  <dc:creator>Miguel Cruz</dc:creator>
  <dc:description/>
  <dc:language>en-US</dc:language>
  <cp:lastModifiedBy>Felipe</cp:lastModifiedBy>
  <cp:lastPrinted>2002-04-25T02:11:35Z</cp:lastPrinted>
  <dcterms:modified xsi:type="dcterms:W3CDTF">2012-04-02T02:45:34Z</dcterms:modified>
  <cp:revision>124</cp:revision>
  <dc:subject/>
  <dc:title>Tipo de Cambio</dc:title>
</cp:coreProperties>
</file>