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7.wmf" ContentType="image/x-wmf"/>
  <Override PartName="/ppt/media/image15.png" ContentType="image/png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15B5F-FBDF-48DF-A259-DA516CDE3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CA6223-9D63-4FB6-9877-71ACF1DCF6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DB73EF-98BC-44EF-B01A-DE413FA23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D5F3E5-06A4-4040-B0AF-FAFBEDEEE4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32375F-17EC-4EC7-8DB6-8DD11626B2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DC1A7-00D7-4CA4-AC03-39FAB68A4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62B48-E06F-45FA-BEB7-0C31BA216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59A9E-5D3C-426A-A705-2634C79161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1D6FD7-ACFF-43A3-9184-540F8CC8F0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30276-2804-4687-8174-7AD808CFA2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25456-EB76-4684-A3A5-4C6E531BB2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E8880-7EF9-4078-AFB0-BB086FE279D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AB9B50-4BEF-4FB8-ADAD-45FBFECEC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CF2F4-2016-4A2D-A378-8E4B0B0CE5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73DD5-3BAF-4619-A9E4-B7D847785E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BB571-8D16-4295-A312-14A58F2123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D5A3C-1515-456F-86D6-FF1824015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1E8CE-6D63-453E-81EF-682E8BDDE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41E85-B615-405A-A5C9-F0C5BC490E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09635-60FE-4E10-92D0-CABE0D6366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4063E-E77D-4D42-B570-AF6E190417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E2ABC-63FC-4992-9729-D05067110F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5B1D9B-368B-4206-87A3-F0F16FFF78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CC1C2-4611-447E-89E9-1CEB47A60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66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76880" y="152388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66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76880" y="3912120"/>
            <a:ext cx="2723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07696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91212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199080"/>
            <a:ext cx="8076960" cy="57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523880"/>
            <a:ext cx="4127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12120"/>
            <a:ext cx="84582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533520" y="6324480"/>
            <a:ext cx="8610480" cy="533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>
            <a:off x="7582320" y="6378480"/>
            <a:ext cx="152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. Pizarro – F. Ramí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0" descr=""/>
          <p:cNvPicPr/>
          <p:nvPr/>
        </p:nvPicPr>
        <p:blipFill>
          <a:blip r:embed="rId2"/>
          <a:stretch/>
        </p:blipFill>
        <p:spPr>
          <a:xfrm>
            <a:off x="0" y="6308640"/>
            <a:ext cx="2073240" cy="57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026"/>
          <p:cNvSpPr/>
          <p:nvPr/>
        </p:nvSpPr>
        <p:spPr>
          <a:xfrm>
            <a:off x="-4680" y="6184800"/>
            <a:ext cx="9129600" cy="67320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160920" y="6389640"/>
            <a:ext cx="690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6571440" y="6357960"/>
            <a:ext cx="257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J. Pizarro - F. Ramíre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1030" descr="LOGO DII bco"/>
          <p:cNvPicPr/>
          <p:nvPr/>
        </p:nvPicPr>
        <p:blipFill>
          <a:blip r:embed="rId2"/>
          <a:stretch/>
        </p:blipFill>
        <p:spPr>
          <a:xfrm>
            <a:off x="2664000" y="476280"/>
            <a:ext cx="3803400" cy="1393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2. Teoría de Carteras Revisitada y Administración de Renta Vari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5303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inanzas I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Graficando Retorno y Riesgo para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523880" y="1371600"/>
            <a:ext cx="6097680" cy="4076640"/>
            <a:chOff x="1523880" y="1371600"/>
            <a:chExt cx="6097680" cy="4076640"/>
          </a:xfrm>
        </p:grpSpPr>
        <p:graphicFrame>
          <p:nvGraphicFramePr>
            <p:cNvPr id="120" name="Object 5"/>
            <p:cNvGraphicFramePr/>
            <p:nvPr/>
          </p:nvGraphicFramePr>
          <p:xfrm>
            <a:off x="1523880" y="1371600"/>
            <a:ext cx="6097680" cy="407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Object 5" descr=""/>
                    <p:cNvPicPr/>
                    <p:nvPr/>
                  </p:nvPicPr>
                  <p:blipFill>
                    <a:blip r:embed="rId2">
                      <a:alphaModFix amt="50000"/>
                    </a:blip>
                    <a:stretch/>
                  </p:blipFill>
                  <p:spPr>
                    <a:xfrm>
                      <a:off x="1523880" y="1371600"/>
                      <a:ext cx="6097680" cy="407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2" name="Group 6"/>
            <p:cNvGrpSpPr/>
            <p:nvPr/>
          </p:nvGrpSpPr>
          <p:grpSpPr>
            <a:xfrm>
              <a:off x="2743200" y="2209320"/>
              <a:ext cx="2286000" cy="1219680"/>
              <a:chOff x="2743200" y="2209320"/>
              <a:chExt cx="2286000" cy="1219680"/>
            </a:xfrm>
          </p:grpSpPr>
          <p:sp>
            <p:nvSpPr>
              <p:cNvPr id="123" name="Freeform 7"/>
              <p:cNvSpPr/>
              <p:nvPr/>
            </p:nvSpPr>
            <p:spPr>
              <a:xfrm>
                <a:off x="4191120" y="2209680"/>
                <a:ext cx="761760" cy="1219320"/>
              </a:xfrm>
              <a:prstGeom prst="pie">
                <a:avLst/>
              </a:prstGeom>
              <a:solidFill>
                <a:srgbClr val="ccecff">
                  <a:alpha val="50000"/>
                </a:srgbClr>
              </a:solidFill>
              <a:ln w="12600">
                <a:solidFill>
                  <a:srgbClr val="66ff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8"/>
              <p:cNvSpPr/>
              <p:nvPr/>
            </p:nvSpPr>
            <p:spPr>
              <a:xfrm flipV="1">
                <a:off x="4648320" y="2209320"/>
                <a:ext cx="304560" cy="12193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9"/>
              <p:cNvSpPr/>
              <p:nvPr/>
            </p:nvSpPr>
            <p:spPr>
              <a:xfrm flipH="1">
                <a:off x="2743200" y="2209680"/>
                <a:ext cx="2286000" cy="53352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0"/>
              <p:cNvSpPr/>
              <p:nvPr/>
            </p:nvSpPr>
            <p:spPr>
              <a:xfrm>
                <a:off x="2743200" y="2743200"/>
                <a:ext cx="1905120" cy="685800"/>
              </a:xfrm>
              <a:prstGeom prst="line">
                <a:avLst/>
              </a:prstGeom>
              <a:ln w="1260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171000"/>
            <a:ext cx="85341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Carteras posibles con 2 activ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5156280"/>
            <a:ext cx="371952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nstrumentos con correlación positiva moder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4"/>
          <p:cNvSpPr/>
          <p:nvPr/>
        </p:nvSpPr>
        <p:spPr>
          <a:xfrm>
            <a:off x="685800" y="44388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5"/>
          <p:cNvSpPr/>
          <p:nvPr/>
        </p:nvSpPr>
        <p:spPr>
          <a:xfrm flipV="1">
            <a:off x="685800" y="1447920"/>
            <a:ext cx="0" cy="299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rc 6"/>
          <p:cNvSpPr/>
          <p:nvPr/>
        </p:nvSpPr>
        <p:spPr>
          <a:xfrm rot="16459800">
            <a:off x="1504800" y="1942560"/>
            <a:ext cx="1809720" cy="1619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1504800" y="3543480"/>
            <a:ext cx="88920" cy="8856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1080" bIns="-1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219480" y="188604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3343320" y="172404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1409760" y="366696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3990960" y="440064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333360" y="131436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924440" y="4476600"/>
            <a:ext cx="361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4"/>
          <p:cNvSpPr/>
          <p:nvPr/>
        </p:nvSpPr>
        <p:spPr>
          <a:xfrm flipV="1">
            <a:off x="4924440" y="1485720"/>
            <a:ext cx="0" cy="2990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5"/>
          <p:cNvSpPr/>
          <p:nvPr/>
        </p:nvSpPr>
        <p:spPr>
          <a:xfrm>
            <a:off x="5743440" y="358128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6"/>
          <p:cNvSpPr/>
          <p:nvPr/>
        </p:nvSpPr>
        <p:spPr>
          <a:xfrm>
            <a:off x="7458120" y="1924200"/>
            <a:ext cx="88920" cy="8892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7581960" y="176220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5648400" y="3705120"/>
            <a:ext cx="149544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(w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8229600" y="4438800"/>
            <a:ext cx="50472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i="1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4572000" y="1352520"/>
            <a:ext cx="59040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1"/>
          <p:cNvSpPr/>
          <p:nvPr/>
        </p:nvSpPr>
        <p:spPr>
          <a:xfrm flipV="1">
            <a:off x="5791320" y="1961640"/>
            <a:ext cx="1714320" cy="163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22"/>
          <p:cNvSpPr/>
          <p:nvPr/>
        </p:nvSpPr>
        <p:spPr>
          <a:xfrm flipH="1">
            <a:off x="4915080" y="1962000"/>
            <a:ext cx="2590560" cy="45720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3"/>
          <p:cNvSpPr/>
          <p:nvPr/>
        </p:nvSpPr>
        <p:spPr>
          <a:xfrm flipH="1" flipV="1">
            <a:off x="4915080" y="2419200"/>
            <a:ext cx="876240" cy="120024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6915240" y="284940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25"/>
          <p:cNvSpPr/>
          <p:nvPr/>
        </p:nvSpPr>
        <p:spPr>
          <a:xfrm flipH="1" flipV="1">
            <a:off x="6610320" y="2990880"/>
            <a:ext cx="285840" cy="20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6"/>
          <p:cNvSpPr/>
          <p:nvPr/>
        </p:nvSpPr>
        <p:spPr>
          <a:xfrm flipH="1">
            <a:off x="5924520" y="1809720"/>
            <a:ext cx="171360" cy="3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5753160" y="1173240"/>
            <a:ext cx="179064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s-CL" sz="32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i="1" lang="es-CL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28"/>
          <p:cNvSpPr/>
          <p:nvPr/>
        </p:nvSpPr>
        <p:spPr>
          <a:xfrm>
            <a:off x="4952880" y="5156280"/>
            <a:ext cx="37530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orrelación perfecta (positiva y negativ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 riesg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a adecuada selección del peso en cada uno de los activos permite una disminución del riesgo de la carter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menor riesgo implica siempre una mayor rentabilidad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 posible encontrar una cartera con riesgo cer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é pasa para más de dos activo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Varianza de un portafolio de N instrument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511360"/>
            <a:ext cx="8458200" cy="160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pongamos que el peso de cada instrumento es igual a 1/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n la varianza del portafolio, existen N varianzas ponderadas por 1/N y N</a:t>
            </a:r>
            <a:r>
              <a:rPr b="1" lang="es-CL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-N covarianzas. Podemos decir entonces que la varianza del portafolio 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4"/>
              <p:cNvSpPr txBox="1"/>
              <p:nvPr/>
            </p:nvSpPr>
            <p:spPr>
              <a:xfrm>
                <a:off x="4572000" y="1386000"/>
                <a:ext cx="31240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e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9" name="Rectangle 5"/>
          <p:cNvSpPr/>
          <p:nvPr/>
        </p:nvSpPr>
        <p:spPr>
          <a:xfrm>
            <a:off x="324000" y="11556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Varianza del Portafol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6"/>
              <p:cNvSpPr txBox="1"/>
              <p:nvPr/>
            </p:nvSpPr>
            <p:spPr>
              <a:xfrm>
                <a:off x="1073160" y="4022640"/>
                <a:ext cx="7823160" cy="14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ianza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rPr>
                            <m:lit/>
                            <m:nor/>
                          </m:rPr>
                          <m:t xml:space="preserve">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rPr>
                            <m:lit/>
                            <m:nor/>
                          </m:rPr>
                          <m:t xml:space="preserve">arianz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romedio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1" name="Rectangle 7"/>
          <p:cNvSpPr/>
          <p:nvPr/>
        </p:nvSpPr>
        <p:spPr>
          <a:xfrm>
            <a:off x="324000" y="5594400"/>
            <a:ext cx="85341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i N es muy grande, la varianza del portafolio tiende a la covarianza promedio de los instrume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32840"/>
            <a:ext cx="9144000" cy="10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 varianza del portafolio descender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á hasta un nivel donde no será posible reducir más su varianz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5745240"/>
            <a:ext cx="8458200" cy="35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_tradnl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"/>
          <p:cNvSpPr/>
          <p:nvPr/>
        </p:nvSpPr>
        <p:spPr>
          <a:xfrm>
            <a:off x="1409760" y="5276880"/>
            <a:ext cx="621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V="1">
            <a:off x="1409760" y="1638000"/>
            <a:ext cx="0" cy="363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1409760" y="3695760"/>
            <a:ext cx="598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rc 7"/>
          <p:cNvSpPr/>
          <p:nvPr/>
        </p:nvSpPr>
        <p:spPr>
          <a:xfrm flipV="1" rot="3121200">
            <a:off x="3197160" y="-1146240"/>
            <a:ext cx="1228680" cy="472428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rc 8"/>
          <p:cNvSpPr/>
          <p:nvPr/>
        </p:nvSpPr>
        <p:spPr>
          <a:xfrm rot="9434400">
            <a:off x="2307600" y="1041120"/>
            <a:ext cx="4492440" cy="16383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rc 9"/>
          <p:cNvSpPr/>
          <p:nvPr/>
        </p:nvSpPr>
        <p:spPr>
          <a:xfrm rot="11058600">
            <a:off x="3326760" y="1712880"/>
            <a:ext cx="4133880" cy="1758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"/>
          <p:cNvSpPr/>
          <p:nvPr/>
        </p:nvSpPr>
        <p:spPr>
          <a:xfrm>
            <a:off x="1409760" y="2171880"/>
            <a:ext cx="61340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1"/>
          <p:cNvSpPr/>
          <p:nvPr/>
        </p:nvSpPr>
        <p:spPr>
          <a:xfrm flipV="1">
            <a:off x="2266920" y="2171520"/>
            <a:ext cx="0" cy="3105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2"/>
          <p:cNvSpPr/>
          <p:nvPr/>
        </p:nvSpPr>
        <p:spPr>
          <a:xfrm flipV="1">
            <a:off x="6153120" y="3695400"/>
            <a:ext cx="0" cy="156204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4286160" y="2171880"/>
            <a:ext cx="0" cy="1180800"/>
          </a:xfrm>
          <a:prstGeom prst="line">
            <a:avLst/>
          </a:prstGeom>
          <a:ln w="5724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1562040" y="1467000"/>
            <a:ext cx="20764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olatilidad (desviaci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estándar del retorn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6629400" y="531504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Número de instrumentos en 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4362480" y="2362320"/>
            <a:ext cx="2076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eliminado por diversif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029200" y="310500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2324160" y="3981600"/>
            <a:ext cx="2076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total de un instrumento tipo del porta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6172200" y="4172040"/>
            <a:ext cx="2076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Riesgo no diversifi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versificación depende de la correlación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Object 4"/>
          <p:cNvGraphicFramePr/>
          <p:nvPr/>
        </p:nvGraphicFramePr>
        <p:xfrm>
          <a:off x="685800" y="1447920"/>
          <a:ext cx="800100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0100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ntribución al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m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2268360" y="1844640"/>
                <a:ext cx="544068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5"/>
              <p:cNvSpPr txBox="1"/>
              <p:nvPr/>
            </p:nvSpPr>
            <p:spPr>
              <a:xfrm>
                <a:off x="855720" y="4005360"/>
                <a:ext cx="7689960" cy="12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</m:e>
                        </m:nary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Mg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Frontera de mínima varianza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4"/>
              <p:cNvSpPr txBox="1"/>
              <p:nvPr/>
            </p:nvSpPr>
            <p:spPr>
              <a:xfrm>
                <a:off x="2143080" y="1971720"/>
                <a:ext cx="514368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lim>
                            <m:r>
                              <m:t xml:space="preserve">w</m:t>
                            </m:r>
                          </m:lim>
                        </m:limLow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0" name="Text Box 5"/>
          <p:cNvSpPr/>
          <p:nvPr/>
        </p:nvSpPr>
        <p:spPr>
          <a:xfrm>
            <a:off x="1474200" y="1339920"/>
            <a:ext cx="604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odemos resolver el siguiente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1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ciones necesarias y suficientes para carteras en la frontera de mínima varianz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"/>
              <p:cNvSpPr txBox="1"/>
              <p:nvPr/>
            </p:nvSpPr>
            <p:spPr>
              <a:xfrm>
                <a:off x="536400" y="1676520"/>
                <a:ext cx="807120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ra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…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Object 4"/>
              <p:cNvSpPr txBox="1"/>
              <p:nvPr/>
            </p:nvSpPr>
            <p:spPr>
              <a:xfrm>
                <a:off x="2948040" y="3046320"/>
                <a:ext cx="29559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Object 5"/>
              <p:cNvSpPr txBox="1"/>
              <p:nvPr/>
            </p:nvSpPr>
            <p:spPr>
              <a:xfrm>
                <a:off x="3344760" y="4724280"/>
                <a:ext cx="2446560" cy="13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ricialmente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solución par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 despeja 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ción es de la forma,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vectores que dependen de la matriz varianza covarianza y el vector de retornos esper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4"/>
              <p:cNvSpPr txBox="1"/>
              <p:nvPr/>
            </p:nvSpPr>
            <p:spPr>
              <a:xfrm>
                <a:off x="3733920" y="1268280"/>
                <a:ext cx="4456080" cy="236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Σ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μ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r>
                          <m:t xml:space="preserve">⋅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5"/>
              <p:cNvSpPr txBox="1"/>
              <p:nvPr/>
            </p:nvSpPr>
            <p:spPr>
              <a:xfrm>
                <a:off x="4067280" y="4076640"/>
                <a:ext cx="2485800" cy="74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w</m:t>
                        </m:r>
                      </m:e>
                      <m:sup/>
                    </m:sSup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85880" y="2286000"/>
            <a:ext cx="764388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es g y h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definim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230640" y="1197000"/>
                <a:ext cx="2681280" cy="262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1</m:t>
                            </m:r>
                          </m:e>
                        </m:acc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sub>
                        </m:sSub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nary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1</m:t>
                                </m:r>
                              </m:e>
                            </m:acc>
                          </m:e>
                        </m:nary>
                      </m:e>
                      <m:e>
                        <m:r>
                          <m:t xml:space="preserve">d</m:t>
                        </m:r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5"/>
              <p:cNvSpPr txBox="1"/>
              <p:nvPr/>
            </p:nvSpPr>
            <p:spPr>
              <a:xfrm>
                <a:off x="3132000" y="4140360"/>
                <a:ext cx="4322880" cy="20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b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⋅</m:t>
                            </m:r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acc>
                                  <m:accPr>
                                    <m:chr m:val="⃗"/>
                                  </m:accPr>
                                  <m:e>
                                    <m:r>
                                      <m:t xml:space="preserve">1</m:t>
                                    </m:r>
                                  </m:e>
                                </m:acc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elación entre el retorno esperado y la varianza de las carteras de la fronter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a varianza de la cartera 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o que equivale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928800" y="2143080"/>
                <a:ext cx="7278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+</m:t>
                    </m:r>
                    <m:r>
                      <m:t xml:space="preserve">h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2050920" y="4149720"/>
                <a:ext cx="5542200" cy="124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σ</m:t>
                    </m:r>
                    <m:sSup>
                      <m:e>
                        <m:r>
                          <m:t xml:space="preserve"> 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c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orema de dos fon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04640" y="1218960"/>
            <a:ext cx="8358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 dos soluciones conocidas del problema para r distintos, enton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=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(1 -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también una solución par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3=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1 + (1 -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r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mostración: en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decir, para construir toda la frontera de mínima varianza bastan dos carteras diferentes que pertenezcan a la fronter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4582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116000" y="1523880"/>
            <a:ext cx="7140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5838840" cy="1905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" descr=""/>
          <p:cNvPicPr/>
          <p:nvPr/>
        </p:nvPicPr>
        <p:blipFill>
          <a:blip r:embed="rId2"/>
          <a:stretch/>
        </p:blipFill>
        <p:spPr>
          <a:xfrm>
            <a:off x="1714680" y="3786120"/>
            <a:ext cx="52099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28760" y="2286000"/>
            <a:ext cx="8458200" cy="20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arteras de mínima varianza definen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una parábola en el espacio r-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1476360" y="981000"/>
          <a:ext cx="7128000" cy="468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1000"/>
                    <a:ext cx="712800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Line 7"/>
          <p:cNvSpPr/>
          <p:nvPr/>
        </p:nvSpPr>
        <p:spPr>
          <a:xfrm>
            <a:off x="3203640" y="364500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8"/>
          <p:cNvSpPr/>
          <p:nvPr/>
        </p:nvSpPr>
        <p:spPr>
          <a:xfrm flipH="1">
            <a:off x="1042920" y="3645000"/>
            <a:ext cx="216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12"/>
              <p:cNvSpPr txBox="1"/>
              <p:nvPr/>
            </p:nvSpPr>
            <p:spPr>
              <a:xfrm>
                <a:off x="2749680" y="5373720"/>
                <a:ext cx="8856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13"/>
              <p:cNvSpPr txBox="1"/>
              <p:nvPr/>
            </p:nvSpPr>
            <p:spPr>
              <a:xfrm>
                <a:off x="179280" y="3141720"/>
                <a:ext cx="833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o de frontera eficiente de cartera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762120" y="1484280"/>
          <a:ext cx="652140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484280"/>
                    <a:ext cx="65214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14"/>
          <p:cNvSpPr/>
          <p:nvPr/>
        </p:nvSpPr>
        <p:spPr>
          <a:xfrm>
            <a:off x="3809880" y="3429000"/>
            <a:ext cx="152640" cy="117360"/>
          </a:xfrm>
          <a:prstGeom prst="rect">
            <a:avLst/>
          </a:prstGeom>
          <a:solidFill>
            <a:srgbClr val="ffffff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4038480" y="4343400"/>
            <a:ext cx="152640" cy="152280"/>
          </a:xfrm>
          <a:prstGeom prst="rect">
            <a:avLst/>
          </a:prstGeom>
          <a:solidFill>
            <a:srgbClr val="ff0000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4800600" y="3048120"/>
            <a:ext cx="152280" cy="152280"/>
          </a:xfrm>
          <a:prstGeom prst="rect">
            <a:avLst/>
          </a:prstGeom>
          <a:solidFill>
            <a:srgbClr val="66ff33"/>
          </a:solidFill>
          <a:ln w="12600">
            <a:solidFill>
              <a:srgbClr val="a2c1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>
            <a:off x="3352680" y="34290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4920" y="1569960"/>
            <a:ext cx="642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es prefieren al mismo nivel de volatilidad cart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mayor retorno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133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14600" y="38098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3"/>
          <p:cNvSpPr/>
          <p:nvPr/>
        </p:nvSpPr>
        <p:spPr>
          <a:xfrm>
            <a:off x="5181120" y="312408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24"/>
          <p:cNvSpPr/>
          <p:nvPr/>
        </p:nvSpPr>
        <p:spPr>
          <a:xfrm>
            <a:off x="4265280" y="42670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25"/>
          <p:cNvSpPr/>
          <p:nvPr/>
        </p:nvSpPr>
        <p:spPr>
          <a:xfrm>
            <a:off x="3960720" y="3352680"/>
            <a:ext cx="99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roposicion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1:  Covarianza entre un portfolio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la frontera de mínima varianza, y el portfolio de mínima varianza mv</a:t>
            </a:r>
            <a:r>
              <a:rPr b="1" lang="es-MX" sz="2000" spc="-1" strike="noStrike">
                <a:solidFill>
                  <a:srgbClr val="000000"/>
                </a:solidFill>
                <a:latin typeface="TECHMath"/>
                <a:ea typeface="TECHMath"/>
              </a:rPr>
              <a:t>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igual a la varianza de éste últim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p2: Para todo porfolio p en la frontera de mínima varianza, excepto para el portfolio mv, existe un portfolio q único en la frontera tal que la covarianza entre p y q sea cero. (llamaremos a q zc(p)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se da q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Object 4"/>
              <p:cNvSpPr txBox="1"/>
              <p:nvPr/>
            </p:nvSpPr>
            <p:spPr>
              <a:xfrm>
                <a:off x="3132000" y="2306520"/>
                <a:ext cx="28800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Object 5"/>
              <p:cNvSpPr txBox="1"/>
              <p:nvPr/>
            </p:nvSpPr>
            <p:spPr>
              <a:xfrm>
                <a:off x="2425680" y="4581360"/>
                <a:ext cx="42926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Object 7"/>
              <p:cNvSpPr txBox="1"/>
              <p:nvPr/>
            </p:nvSpPr>
            <p:spPr>
              <a:xfrm>
                <a:off x="3278160" y="5410080"/>
                <a:ext cx="258624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f>
                          <m:fPr>
                            <m:type m:val="lin"/>
                          </m:fPr>
                          <m:num>
                            <m:r>
                              <m:t xml:space="preserve">d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1523520"/>
            <a:ext cx="8458200" cy="133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l riesgo de una cartera se estima a partir de la desviación estándar que es la raíz cuadrada de la varianza: Var(Rp)=E(Rp-E(Rp))^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"/>
          <p:cNvPicPr/>
          <p:nvPr/>
        </p:nvPicPr>
        <p:blipFill>
          <a:blip r:embed="rId1"/>
          <a:stretch/>
        </p:blipFill>
        <p:spPr>
          <a:xfrm>
            <a:off x="714240" y="3000240"/>
            <a:ext cx="7429680" cy="1571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857160" y="4572000"/>
            <a:ext cx="661032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Si portfolio p es eficiente, entonces zc(p) no lo 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demás, se puede mostrar que p y zc(p) son tales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4"/>
          <p:cNvSpPr/>
          <p:nvPr/>
        </p:nvSpPr>
        <p:spPr>
          <a:xfrm>
            <a:off x="3335400" y="2924280"/>
            <a:ext cx="1741320" cy="2089080"/>
          </a:xfrm>
          <a:prstGeom prst="pie">
            <a:avLst/>
          </a:prstGeom>
          <a:noFill/>
          <a:ln w="381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6"/>
          <p:cNvSpPr/>
          <p:nvPr/>
        </p:nvSpPr>
        <p:spPr>
          <a:xfrm flipH="1">
            <a:off x="1763280" y="3213000"/>
            <a:ext cx="2303640" cy="158436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7"/>
          <p:cNvSpPr/>
          <p:nvPr/>
        </p:nvSpPr>
        <p:spPr>
          <a:xfrm>
            <a:off x="1763640" y="2997360"/>
            <a:ext cx="0" cy="24476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763640" y="4797360"/>
            <a:ext cx="280836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227400" y="263700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0"/>
          <p:cNvSpPr/>
          <p:nvPr/>
        </p:nvSpPr>
        <p:spPr>
          <a:xfrm>
            <a:off x="1763640" y="54450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1115280" y="2708280"/>
            <a:ext cx="287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011640" y="5584680"/>
            <a:ext cx="36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AutoShape 13"/>
          <p:cNvCxnSpPr>
            <a:stCxn id="246" idx="0"/>
            <a:endCxn id="246" idx="0"/>
          </p:cNvCxnSpPr>
          <p:nvPr/>
        </p:nvCxnSpPr>
        <p:spPr>
          <a:xfrm>
            <a:off x="4068360" y="3212640"/>
            <a:ext cx="1080" cy="108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54" name="Line 14"/>
          <p:cNvSpPr/>
          <p:nvPr/>
        </p:nvSpPr>
        <p:spPr>
          <a:xfrm>
            <a:off x="3492360" y="3068640"/>
            <a:ext cx="142920" cy="431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858920" y="4149720"/>
            <a:ext cx="86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16"/>
          <p:cNvSpPr/>
          <p:nvPr/>
        </p:nvSpPr>
        <p:spPr>
          <a:xfrm flipH="1">
            <a:off x="4571640" y="4508640"/>
            <a:ext cx="36036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258920" y="3429000"/>
            <a:ext cx="3985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20"/>
          <p:cNvSpPr/>
          <p:nvPr/>
        </p:nvSpPr>
        <p:spPr>
          <a:xfrm>
            <a:off x="1619280" y="3645000"/>
            <a:ext cx="21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971640" y="4484520"/>
            <a:ext cx="7588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Arial"/>
              </a:rPr>
              <a:t>z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22"/>
          <p:cNvSpPr/>
          <p:nvPr/>
        </p:nvSpPr>
        <p:spPr>
          <a:xfrm>
            <a:off x="1692360" y="4797360"/>
            <a:ext cx="21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inalmente podemos mostrar CAPM sin activo libre de ries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Si p es un portfolio de la frontera otro que el mv, y q es cualquier portfolio (en particular un activo individual), entonces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uego podemos escribir qu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finiendo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4"/>
              <p:cNvSpPr txBox="1"/>
              <p:nvPr/>
            </p:nvSpPr>
            <p:spPr>
              <a:xfrm>
                <a:off x="2583000" y="2565360"/>
                <a:ext cx="438300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Σw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λ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5"/>
              <p:cNvSpPr txBox="1"/>
              <p:nvPr/>
            </p:nvSpPr>
            <p:spPr>
              <a:xfrm>
                <a:off x="2603520" y="4076640"/>
                <a:ext cx="393552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6"/>
              <p:cNvSpPr txBox="1"/>
              <p:nvPr/>
            </p:nvSpPr>
            <p:spPr>
              <a:xfrm>
                <a:off x="3708360" y="5013360"/>
                <a:ext cx="244476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8920" y="228600"/>
            <a:ext cx="871380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l retorno de la cartera q se puede descomponer en riesgo sistemático y riesgo específic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retorno aleatorio se puede descomponer entonces com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Object 2"/>
              <p:cNvSpPr txBox="1"/>
              <p:nvPr/>
            </p:nvSpPr>
            <p:spPr>
              <a:xfrm>
                <a:off x="2444760" y="2349360"/>
                <a:ext cx="45910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zc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ε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Object 3"/>
              <p:cNvSpPr txBox="1"/>
              <p:nvPr/>
            </p:nvSpPr>
            <p:spPr>
              <a:xfrm>
                <a:off x="3319560" y="3933720"/>
                <a:ext cx="2504880" cy="17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zc</m:t>
                            </m:r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ε</m:t>
                                </m:r>
                              </m:e>
                            </m:acc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262160" y="1562040"/>
            <a:ext cx="684828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109520" y="1547640"/>
            <a:ext cx="71535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Recordatori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1071720" y="2714760"/>
            <a:ext cx="72151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jando el horizonte de análisis, nos concentramos en N activos riesgos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aleatoria es el retorno entre t y t+1 de los diferente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d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el vector de retornos esperados y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s la matriz varianza covarianza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 vector de retornos aleatorios se define com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1676520" y="4114800"/>
                <a:ext cx="571176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num>
                            <m:sSub>
                              <m:e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P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n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</m:sSub>
                          </m:e>
                        </m:d>
                        <m:sSub>
                          <m:e>
                            <m:r>
                              <m:t xml:space="preserve"> 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y</m:t>
                        </m:r>
                        <m:r>
                          <m:t xml:space="preserve"> </m:t>
                        </m:r>
                        <m:sSub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Σ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3809880" y="2209680"/>
                <a:ext cx="23986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R</m:t>
                        </m:r>
                      </m:e>
                    </m:acc>
                    <m:r>
                      <m:t xml:space="preserve">→</m:t>
                    </m:r>
                    <m:r>
                      <m:t xml:space="preserve">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Σ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mos una cartera o portafolio como una selección de activo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cartera es un vect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porcentajes invertidos en cada uno de l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cartera tiene un retorno esperad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una varianza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1676520" y="2133720"/>
                <a:ext cx="5181480" cy="16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⋮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w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1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267080" y="4191120"/>
                <a:ext cx="3276720" cy="8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r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r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1447920" y="5181480"/>
                <a:ext cx="50068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Σ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/>
                        </m:nary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σ</m:t>
                        </m:r>
                        <m:sSup>
                          <m:e>
                            <m:r>
                              <m:t xml:space="preserve"> 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228600" y="1600200"/>
            <a:ext cx="9144000" cy="400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íamos visto que para una cartera, la volatilidad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 volatilidad del activo 1 es 10% y del activo 2 es 12%, y su correlación es -0.5 ento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2"/>
              <p:cNvSpPr txBox="1"/>
              <p:nvPr/>
            </p:nvSpPr>
            <p:spPr>
              <a:xfrm>
                <a:off x="357120" y="2514600"/>
                <a:ext cx="85726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ρ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5335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Volatilidad de una carter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133720" y="4648320"/>
            <a:ext cx="4473360" cy="1180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racción w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Vol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2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0.5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 5.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1.0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    10.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02:23:33Z</dcterms:created>
  <dc:creator>Miguel Cruz</dc:creator>
  <dc:description/>
  <dc:language>en-US</dc:language>
  <cp:lastModifiedBy>Felipe</cp:lastModifiedBy>
  <cp:lastPrinted>2002-04-25T02:11:35Z</cp:lastPrinted>
  <dcterms:modified xsi:type="dcterms:W3CDTF">2012-04-02T02:45:34Z</dcterms:modified>
  <cp:revision>124</cp:revision>
  <dc:subject/>
  <dc:title>Tipo de Cambio</dc:title>
</cp:coreProperties>
</file>