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C41A-E09F-4E6C-9777-EFD9A692307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36C0-D0C2-4720-9F6D-6CF3407C99A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3DE4-D398-429D-89CD-8F8703CB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62F-3712-492A-AA87-95673E36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46B8-2DD7-4D94-86FF-DFB76BB6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B03E-688E-41EB-A1F1-E65A5BAF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E2D7-2E7B-43F1-991A-327918DC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3FBE-1696-411B-B6AE-884B5FE9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5C1-9546-4C3A-B8B8-E8D123CD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7CB6-2875-416E-8499-B7A6C86E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FFC5-E2B5-4379-B0DD-FE5D8AB1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81DB-48BC-45EA-AF3D-B370EFF0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9877-0D32-44FE-A521-171DADCE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F7AF-F5C9-47A5-B501-F52562D7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6443-FC74-4A38-A7F3-211D5E6C8F1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rpino@novos.cl" TargetMode="External"/><Relationship Id="rId3" Type="http://schemas.openxmlformats.org/officeDocument/2006/relationships/hyperlink" Target="http://twitter.com/rpino" TargetMode="External"/><Relationship Id="rId4" Type="http://schemas.openxmlformats.org/officeDocument/2006/relationships/hyperlink" Target="http://www.novos.cl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INGRESO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a “caja” que una compañía genera a partir de cada client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Por qué valor nuestros clientes desean paga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Cómo están pagando actualmente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Venta de activos/cosas (auto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or uso (telefonia celular pre y post pago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Suscripción (diarios, revistas, gimnasio)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rriendo/Leasing (rent a car - Suipi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Licenciamiento (software a la antigu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Intermediación (transbank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RECURSO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os “activos” más importantes que se requieren para hacer funcionar el Modelo de Negocio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recursos requiere nuestra propuesta de valor, clientes y canales para poder funcionar de forma armónic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S DE RECURS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ísicos  (bodegas, servidor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Intelectuales (marcas, patente, derecho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Humanos (laboratorios farmaceuticos 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inancieros (Microcrédito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CTIVIDADE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os “activos” más importantes que se requieren para hacer funcionar el Modelo de Negocio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requiere nuestra propuesta de valor, clientes y canales para poder funcionar de forma armónic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entury Gothic"/>
              </a:rPr>
              <a:t>ACTIVIDADES TÍP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esarrollo y Producción (empresas de manufactur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Resolver problemas (Consultoría - Hospital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Gestión de Plataformas (ebay – Microsof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LIADO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Es la red proveedores y aliados que hacen funcionar el modelo de negoci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clave desarrollan nuestros proveedor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recursos clave estamos adquiriendo de nuestros proveedor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OTIVACIONES PARA CREAR ALIANZA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Optimización y Economías de Escala (Pay Ro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Reducir el riesgo (desarrollo del Blu-Ray - itun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dquisición de recursos especiales (OS de celular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STRCUTURA DE COSTO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Son todos los costos “importantes” en los que se incurre para operar el modelo de negoci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y recursos claves son los más car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Cuáles son los costos más importantes de nuestro modelo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MULLINS - KOMIS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Getting to Plan B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UADRO DE MANDO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4200" y="1428840"/>
          <a:ext cx="8715600" cy="407196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1743120"/>
                <a:gridCol w="1743120"/>
                <a:gridCol w="174312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LEMENTO DEL MODELO DE NEGO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MULAR (IMIT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VI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CTOS DE FE (SUPUEST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IPOTESIS PARA TESTEAR ACTOS DE 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Ingr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l  margen br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Cos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liquide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SPECTOS A EMUL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mpañías, productos, servicios con exitosos de los cuales adoptar, adaptar para entender los aspectos relevantes del negoci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SPECTOS A EVIT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mpañías, productos, servicios sin éxito de los cuales aprender para cambiar y diferenciar los diversos aspectos del modelo de negocio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CTOS DE F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Respuestas a  las preguntas que surgen y que no tienen respuesta sobre la base de aspectos a evitar y emular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nvicciones sin evidencias reales, sobre las cuales se plantean hipótesi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MX" sz="4000" spc="-1" strike="noStrike">
                <a:solidFill>
                  <a:srgbClr val="ffffff"/>
                </a:solidFill>
                <a:latin typeface="Century Gothic"/>
              </a:rPr>
              <a:t>EL MODELO DE NEGOCIO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Es un modelo que describe la razón de ser de cómo una organización (empresa, proyecto, ONG, etc.)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ffffff"/>
                </a:solidFill>
                <a:uFillTx/>
                <a:latin typeface="Century Gothic"/>
              </a:rPr>
              <a:t>Crea, distribuye y captura valor*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l patrón (esquema, modelo) de la actividad económica que determina la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Century Gothic"/>
              </a:rPr>
              <a:t>liquidez y atractivo 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de un negocio*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INGRESO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ién comprará? ¿Cuándo y con qué frecuencia? ¿A que precio? ¿Cuánto dinero recibo efectivamente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MARGEN BRUTO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é parte de los ingresos quedará después de haber pagado los costos directos de lo que se vendió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GASTO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é otros costos de venta se tiene además de los costos directos de los bienes y servicios vendido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LIQUIDEZ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Cuál es el plazo de pago que tengo con mis clientes? ¿Es necesario reservar recursos para ventas posteriores? ¿Qué frecuencia y desfase de pago tengo con mis proveedore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INVERSIÓN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Cuánto dinero se requiere invertir inicialmente hasta que los clientes proporcionen suficientes recursos para cubrir los gastos de explotación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JEMPLO: iPod/iTunes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4920" y="1285920"/>
            <a:ext cx="85532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JEMPLO: iPod/iTunes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14200" y="1285920"/>
          <a:ext cx="8715600" cy="534672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MULAR (IMIT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VI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CTOS DE FE (SUPUEST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Napster: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Descarga de Música a través de la web y canciones individuales, a gusto person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usicNet – PressPlay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Descaragas pagadas por suscripción y solo descargables en UN computador y el no pago de la suscripción eliminaba las can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dos los jóvenes de menos de 25 años descargan mú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Walkman de Sony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La gente escucha música en dispositivos portátiles y pers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mpañías Discográficas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ólo presentan catálogos web de sus artistas y venden discos comple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 existen dispositivos  bien diseñados para reproducir música dig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Modelo de Negocios Gillette: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La máquina de afeitar es el iPod y las hojas de afeitar la música (o contenido). Pero finalmente el tema fue al revés, se vendieron más iPods que can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Rio: primer reproductor de MP3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ra dificil de usar, tenia poca capacidad y el proceson de sincronización era muy l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 está claro que la gente pague por las canciones descargad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isponer música sin licencias o piratas como </a:t>
                      </a: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Nap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s usuarios están dispuestos a pagar, pero quieren reproducirlos en más dispositiv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2 Marcador de contenido"/>
          <p:cNvSpPr/>
          <p:nvPr/>
        </p:nvSpPr>
        <p:spPr>
          <a:xfrm>
            <a:off x="357120" y="4029120"/>
            <a:ext cx="86439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Roberto Pi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E-mail: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Century Gothic"/>
                <a:ea typeface="Arial"/>
                <a:hlinkClick r:id="rId2"/>
              </a:rPr>
              <a:t>rpino@novos.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Twitter: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Century Gothic"/>
                <a:ea typeface="Arial"/>
                <a:hlinkClick r:id="rId3"/>
              </a:rPr>
              <a:t>http://twitter.com/rpi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Twitter corporativo: http://twitter.com/nov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Web: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Century Gothic"/>
                <a:ea typeface="Arial"/>
                <a:hlinkClick r:id="rId4"/>
              </a:rPr>
              <a:t>www.novos.cl</a:t>
            </a:r>
            <a:r>
              <a:rPr b="0" lang="es-CL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Fono: 978493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ÓMO DEFINIRLO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No hay mejor manera que definirlo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Century Gothic"/>
              </a:rPr>
              <a:t>“en terreno”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 y probándolo en el mercad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Pero hay que partir de algo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 Gothic"/>
              </a:rPr>
              <a:t>Modelo de Osterwald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 Gothic"/>
              </a:rPr>
              <a:t>Metodología Mullins – Komisa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OSTERWALDE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The Business Modelo Generation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THE BUSINESS MODEL CANVA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00040" y="1176480"/>
            <a:ext cx="8215200" cy="553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SEGMENTOS DE CLIENT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Grupos de personas u organizaciones a quienes se desea alcanzar y servi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Para quienes estamos creando valo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iénes son nuestros clientes más importa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S DE SEGMENTOS DE CLIENTES: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ercado Masivo (retai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ercado Nicho (tunning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Segmentado (telecomunicacion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iversificado (amazon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ultiplataforma (googl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PROPUESTA DE VALOR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El paquete de productos y servicios que crean valor a un segmento de clientes específic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valor entregamos a nuestros clie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problemas estamos ayudando a resolve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9728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ATRONES DE VALOR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Novedad (iphon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esempeño (inte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Exclusividad y Hecho a la Medida (aston martin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iseño (appl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Estatus (rolex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recio / Costo (ryanair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ccesibilidad (ERP Pym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nveniencia (ok marke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ANAL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 Gothic"/>
              </a:rPr>
              <a:t>Mecanismos mediante los cuales una empresa se comunica y llega a sus segmentos de clientes para entregar su propuesta de valo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A través de qué canales llegarem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canales prefieren nuestros clie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ATRONES OBSERVAD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anales Propi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end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Web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uerza de Vent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anales Extern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RELACIÓN CON CLIENT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Tipologías de interacción, contacto y comunicación con cada uno de los segmentos de client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tipo de relación esperan nuestros clientes mantengamos con ell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tipo de relación tenemos y cuanto cuest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LOGÍA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sistencia Personal (banca Corporativ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utoservicio (Yogurt Lif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munidad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-Creación (Youtub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3:55:26Z</dcterms:created>
  <dc:creator>Roberto Pino</dc:creator>
  <dc:description/>
  <dc:language>en-US</dc:language>
  <cp:lastModifiedBy>............</cp:lastModifiedBy>
  <dcterms:modified xsi:type="dcterms:W3CDTF">2012-03-19T14:31:17Z</dcterms:modified>
  <cp:revision>479</cp:revision>
  <dc:subject/>
  <dc:title>PROYECTO FORTALECIMIENTO CAPACIDADES DE INCUBACIÓN DII</dc:title>
</cp:coreProperties>
</file>