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05E1-5899-41C7-8A72-B198BAF58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A950-0301-4F38-AC56-EEEDE3310F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7EB1-8D21-48A9-AA9F-E01AD1502C9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85DB-2171-4089-9929-78AC186838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49E2-F2C6-4687-81E2-0AE3148C4B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0732-39C6-447E-8BA9-D3E23018EC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6D9D-7E1F-409C-BCAD-84FC775193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DEC8-79D2-43DB-BDBD-C5562E7BA2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4CF1-8969-4FDF-A0B1-E982E7BC3C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8A13-04D5-4978-8395-F308F438DEE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E581-335B-4A8B-B870-6988D55AA7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3C33-63B1-48C4-AAF7-0958249008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0F37-0B2F-4502-895D-11437AE825A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DF39-B763-46AA-BD6C-41C6797D15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D353-DD5A-4E30-A083-2B583B45BC6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C64B-0A42-4099-B521-A9E3241D34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F8EF-F4DD-4383-AE19-ED042B1D87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CA98-B606-465D-836D-321918F176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DF6B-5135-4574-AB4B-3E5C6390228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74C9-D8BF-4CCF-A90E-8BC10FD2EA3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DD73-2E19-4C5A-B528-364CD1FCDD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DF2A-6D10-4576-9AB1-AFC033E937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B06A-B33F-4C9D-8D75-6098E2A165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44BF-441D-44C6-96C7-3CFD8B14F8B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285-C012-405F-BA3C-297FBB58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1C8-3959-40CE-859F-90C5D4B7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CFE-D55B-4D90-87F9-BA8A041B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8CD-3663-45DE-B6FC-D1D755D7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4DB1-963E-4A20-93A3-33CE81B3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19F1-FFB0-4FB6-A3C4-0017FDD5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685B-04F2-40A2-9CCD-68AC8976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7F41-90F8-4A50-90FD-1E18F548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4A51-ED5F-425C-B539-434861DF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3B8C-148B-4A97-BFD7-2653111B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F25C-DFC0-467E-81A5-41087268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274-BC0B-4EC6-9878-DBF259D4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C836-7D88-4480-A952-92C7CF4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25C8-0D98-4E3C-8A6B-69FA6AEE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0072-B8A5-4450-819D-4B33E81F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BB89-0386-411A-AB48-7D28BAC8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F981-C191-4340-921A-66103883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C0E3B-88A5-48FA-B084-BFFE4429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531B8-BF01-4F8B-A8D8-4BBA717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3D8E8-F9EF-4F96-B42C-54427682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DB94B-F575-4B98-A159-9AA3AF01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C243C-9DEE-4037-AB0C-29C9A64A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07E-FDA6-400D-BCF4-83E3E35B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91389-E44C-4385-9540-2C2100CC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47388-6EB2-4351-9284-40E3A79B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41350-FEB3-4D62-B841-BDE4EF88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CFDA3-9790-4C5E-9062-16D3E9BD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B3A35-53EB-4D7C-848B-2A769D8C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75F2D-D688-49E1-9B0D-BD48B487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33EA8-94FD-433F-9222-2341C0BD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B8A5-FED2-4461-81E9-A6427816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3E4ED-4344-42E8-AB1C-7244C6D2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18BB-081E-4800-8DD8-51FD552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04C-C626-4E2C-BBCA-CF8D1D89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8853-61BD-48FF-BFE1-B8ACF009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715D-9EDA-4D05-AE8C-6982B8F3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4398C-D720-40EB-B71C-36E5C90C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4EA78-BF76-4964-86A0-49AB4AC5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4C30-37D4-4C7D-B98D-83B2004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4E463-2B36-4400-B35A-0CCF295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D1B4-3D36-45FC-A886-1874CCAF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A12D-3177-4A35-9ACA-3DD15703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6C92-4C6E-4124-9F74-B227CA48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1CF36-7961-4CAC-82EA-91546E43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EFF-7845-4F9E-92B4-A2C0DF5A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87720-40A5-4CA3-9265-449F6BB8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DEC41-F7AD-499F-A61B-8F3A3A24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07D3D-ECBC-4A98-A627-AF65E13E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C0635-9625-413F-ADD5-F1F0DD38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8BABD-D296-4FF4-A9A5-8C577294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1961B-E597-4806-B36B-AB2C5257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6720E-AD37-4DBF-BDB5-1464C3DF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F99AE-E183-4F4C-BFCB-49D42C8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28067-7264-4EA5-99F1-A57488D1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88368-468C-47C5-A4F0-139260FF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A1A-FCB0-4A4A-9221-034E0F3A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7838E-01E5-47B7-A13D-A804F1E3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D9845-1016-4A5A-8F51-E17704A6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A5AE6-C58E-4B4F-827B-58C86F61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23810-FC71-42ED-9F27-173BD9ED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2B5246-B0DF-486D-B83D-E36A6802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B47D7-B561-4D2E-87BB-341CBE9F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68575-2461-43B0-B1E5-CC4ECA8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17FE1-038E-49F6-BC62-6609C331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F3197-1A88-4015-BFCA-D2A4FB8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750CC-C742-4CCB-B538-EB56AE36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B08-266E-4CA2-B464-7135D4D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B3D5C-10A1-49ED-9E6E-B5B92DF0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67129-53F5-43FB-9879-C3C39913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228EE-B305-46B2-9693-B7054871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B7CF7-BA87-4658-ADB8-EB35B309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64593-8481-4B2D-8A14-2C5696F1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79853-3A15-4609-B88C-399A071F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5F5D6-D557-4A3E-830B-CD5E5245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E4053-5235-460D-9B90-438DD2BD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F903C-60D1-4FB2-918A-FEB6AF2D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AB8D9-C8D6-4C20-8B30-9E4D4A5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5C2-D3DA-4EEE-B51F-2764A53C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CDA37-B009-4258-9AD0-5100FF9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146CE-1BB7-40E1-9CD0-BD12253D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F3D76-2B90-4E17-98D9-2BF86C5D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6EE79-1102-4024-BAC3-2BBF1934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2BDEC-101B-4587-87BA-13923D58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439-0BC1-4BAA-927E-69266327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EEAB-0CAF-4FFB-AAAE-0A0ACECB63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202B-D42F-423C-8806-BA61C251297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6D3-1B01-4EC5-A193-239D08B55D4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1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2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3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4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917A-8AB2-46B6-9045-47798FE8EBB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A87D-EADA-47B9-B7E9-425926FE219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6346-083D-47E8-A9E2-5A2D4856018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04DE-A043-4EBC-A560-60E94F4689D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7 Rectángulo" descr=""/>
          <p:cNvPicPr/>
          <p:nvPr/>
        </p:nvPicPr>
        <p:blipFill>
          <a:blip r:embed="rId1"/>
          <a:stretch/>
        </p:blipFill>
        <p:spPr>
          <a:xfrm>
            <a:off x="2382840" y="1951200"/>
            <a:ext cx="2854440" cy="1103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815760" y="214200"/>
            <a:ext cx="42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usando Can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581640" y="35712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500880" y="4786200"/>
            <a:ext cx="21826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2521440" y="3571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4. 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838760" cy="277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2600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143840" y="5072040"/>
            <a:ext cx="1311120" cy="1419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2644200" y="3571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4410360" cy="1733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2772360" y="42876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5. 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4829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2681640" y="35712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429680" y="3786120"/>
            <a:ext cx="1466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2857680"/>
            <a:ext cx="1742760" cy="1657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2698920" y="28584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6. 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3905280" y="16430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964960" y="3571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757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1714680" cy="1590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2744640" y="4287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7. 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905280" y="14288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2670120" y="428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143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2517840" y="28584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8. 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2523960" cy="2638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1476360" cy="120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1643040" y="2500200"/>
            <a:ext cx="1714680" cy="159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789840" y="28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2443320" y="3571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6808680" y="4786200"/>
            <a:ext cx="179712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2618280" y="28584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9. 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25000" cy="4038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305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169560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527920" y="28584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501040" cy="395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176560" y="2142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282680" cy="153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6286680" y="2357280"/>
            <a:ext cx="1168200" cy="124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1857240" y="1143000"/>
            <a:ext cx="1447920" cy="1117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4929120" y="5000760"/>
            <a:ext cx="1612800" cy="1358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4786200" y="1285920"/>
            <a:ext cx="1041480" cy="132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7343640" y="988920"/>
            <a:ext cx="1409760" cy="127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8"/>
          <a:stretch/>
        </p:blipFill>
        <p:spPr>
          <a:xfrm>
            <a:off x="4214880" y="3214800"/>
            <a:ext cx="1612800" cy="1257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9"/>
          <a:stretch/>
        </p:blipFill>
        <p:spPr>
          <a:xfrm>
            <a:off x="7500960" y="3929040"/>
            <a:ext cx="965160" cy="1003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1685880" y="28584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: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2300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2314080" y="28584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6 Rectángulo"/>
          <p:cNvSpPr/>
          <p:nvPr/>
        </p:nvSpPr>
        <p:spPr>
          <a:xfrm>
            <a:off x="6300720" y="126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Segmentos de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10 Conector recto de flecha"/>
          <p:cNvCxnSpPr/>
          <p:nvPr/>
        </p:nvCxnSpPr>
        <p:spPr>
          <a:xfrm flipV="1">
            <a:off x="7450560" y="1557000"/>
            <a:ext cx="73800" cy="4132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42" name="11 Rectángulo"/>
          <p:cNvSpPr/>
          <p:nvPr/>
        </p:nvSpPr>
        <p:spPr>
          <a:xfrm>
            <a:off x="214200" y="1428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socia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Rectángulo"/>
          <p:cNvSpPr/>
          <p:nvPr/>
        </p:nvSpPr>
        <p:spPr>
          <a:xfrm>
            <a:off x="628668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Ingreso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3 Rectángulo"/>
          <p:cNvSpPr/>
          <p:nvPr/>
        </p:nvSpPr>
        <p:spPr>
          <a:xfrm>
            <a:off x="2357280" y="928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c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4 Rectángulo"/>
          <p:cNvSpPr/>
          <p:nvPr/>
        </p:nvSpPr>
        <p:spPr>
          <a:xfrm>
            <a:off x="4643280" y="836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lación con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5 Rectángulo"/>
          <p:cNvSpPr/>
          <p:nvPr/>
        </p:nvSpPr>
        <p:spPr>
          <a:xfrm>
            <a:off x="2143080" y="6143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Estructura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19 Conector recto de flecha"/>
          <p:cNvCxnSpPr>
            <a:endCxn id="344" idx="2"/>
          </p:cNvCxnSpPr>
          <p:nvPr/>
        </p:nvCxnSpPr>
        <p:spPr>
          <a:xfrm flipH="1" flipV="1">
            <a:off x="3357360" y="1297800"/>
            <a:ext cx="72000" cy="702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8" name="22 Conector recto de flecha"/>
          <p:cNvCxnSpPr/>
          <p:nvPr/>
        </p:nvCxnSpPr>
        <p:spPr>
          <a:xfrm flipH="1" flipV="1">
            <a:off x="1428480" y="1785240"/>
            <a:ext cx="357840" cy="786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9" name="26 Conector recto de flecha"/>
          <p:cNvCxnSpPr>
            <a:endCxn id="345" idx="2"/>
          </p:cNvCxnSpPr>
          <p:nvPr/>
        </p:nvCxnSpPr>
        <p:spPr>
          <a:xfrm flipV="1">
            <a:off x="6000840" y="1206000"/>
            <a:ext cx="72000" cy="5090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0" name="29 Conector recto de flecha"/>
          <p:cNvCxnSpPr>
            <a:endCxn id="343" idx="0"/>
          </p:cNvCxnSpPr>
          <p:nvPr/>
        </p:nvCxnSpPr>
        <p:spPr>
          <a:xfrm>
            <a:off x="6999840" y="5143680"/>
            <a:ext cx="251640" cy="1000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1" name="33 Conector recto de flecha"/>
          <p:cNvCxnSpPr>
            <a:endCxn id="346" idx="0"/>
          </p:cNvCxnSpPr>
          <p:nvPr/>
        </p:nvCxnSpPr>
        <p:spPr>
          <a:xfrm>
            <a:off x="2642040" y="5071680"/>
            <a:ext cx="678600" cy="1072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2" name="42 Rectángulo"/>
          <p:cNvSpPr/>
          <p:nvPr/>
        </p:nvSpPr>
        <p:spPr>
          <a:xfrm>
            <a:off x="5572080" y="5572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44 Conector recto de flecha"/>
          <p:cNvCxnSpPr>
            <a:endCxn id="352" idx="0"/>
          </p:cNvCxnSpPr>
          <p:nvPr/>
        </p:nvCxnSpPr>
        <p:spPr>
          <a:xfrm>
            <a:off x="5929200" y="4000320"/>
            <a:ext cx="215280" cy="15721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4" name="46 Rectángulo"/>
          <p:cNvSpPr/>
          <p:nvPr/>
        </p:nvSpPr>
        <p:spPr>
          <a:xfrm>
            <a:off x="3286080" y="5572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Propuest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51 Conector recto de flecha"/>
          <p:cNvCxnSpPr>
            <a:endCxn id="354" idx="0"/>
          </p:cNvCxnSpPr>
          <p:nvPr/>
        </p:nvCxnSpPr>
        <p:spPr>
          <a:xfrm flipH="1">
            <a:off x="4463640" y="3286080"/>
            <a:ext cx="37440" cy="2286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6" name="53 Rectángulo"/>
          <p:cNvSpPr/>
          <p:nvPr/>
        </p:nvSpPr>
        <p:spPr>
          <a:xfrm>
            <a:off x="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cur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55 Conector recto de flecha"/>
          <p:cNvCxnSpPr>
            <a:endCxn id="356" idx="2"/>
          </p:cNvCxnSpPr>
          <p:nvPr/>
        </p:nvCxnSpPr>
        <p:spPr>
          <a:xfrm flipH="1">
            <a:off x="999720" y="3359160"/>
            <a:ext cx="2286720" cy="154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2266920" cy="2685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2627640" y="28584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1. 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2552760" y="28584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215120" y="4630680"/>
            <a:ext cx="1424160" cy="1816200"/>
          </a:xfrm>
          <a:prstGeom prst="rect">
            <a:avLst/>
          </a:prstGeom>
          <a:ln w="0">
            <a:noFill/>
          </a:ln>
        </p:spPr>
      </p:pic>
      <p:sp>
        <p:nvSpPr>
          <p:cNvPr id="363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1676520" cy="261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357880" y="2500200"/>
            <a:ext cx="2257200" cy="2600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740320" y="57168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2. 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2736360" y="4287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861240" y="3214800"/>
            <a:ext cx="2282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44000" y="4287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3. 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714760" y="2071800"/>
            <a:ext cx="16380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5500800" y="2000160"/>
            <a:ext cx="2257200" cy="260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643200" y="3286080"/>
            <a:ext cx="3214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5:08:44Z</dcterms:created>
  <dc:creator>...</dc:creator>
  <dc:description/>
  <dc:language>en-US</dc:language>
  <cp:lastModifiedBy>............</cp:lastModifiedBy>
  <dcterms:modified xsi:type="dcterms:W3CDTF">2012-03-19T14:32:03Z</dcterms:modified>
  <cp:revision>171</cp:revision>
  <dc:subject/>
  <dc:title>Diapositiva 1</dc:title>
</cp:coreProperties>
</file>