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C8C7D-0336-404F-BC29-9435E6150C8E}"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sldImg"/>
          </p:nvPr>
        </p:nvSpPr>
        <p:spPr>
          <a:xfrm>
            <a:off x="1143000" y="685800"/>
            <a:ext cx="4572000" cy="3429000"/>
          </a:xfrm>
          <a:prstGeom prst="rect">
            <a:avLst/>
          </a:prstGeom>
          <a:ln w="0">
            <a:noFill/>
          </a:ln>
        </p:spPr>
      </p:sp>
      <p:sp>
        <p:nvSpPr>
          <p:cNvPr id="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1F2C5-7DC1-42B2-82D0-2BCE3C1F58C9}"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767B48-E100-460C-A159-756ABB7B0C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4002BA-A9E2-4EF1-95F7-3C17C428CE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5E3CA9-9F31-4984-8A62-37520DA732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37D2D2-5588-41A7-A7C6-8F434DEBB1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DA1580-7468-4660-8697-D545EC6AE1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990D19-59BD-44B0-9923-08E995EB22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BBFAD6-69A4-4236-9D6B-DD684BC60F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D9BE20-8E7F-4416-9729-A948DCF84D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7AFEA3-8D89-49F2-8C95-96A63ACC51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F51DEA-CF30-436D-959C-990E457BA7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9EFF27-A40C-4C74-B828-D9647FB2D7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AA1D6-B5FD-4ADB-B79B-FDDF6800C6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1D37F-E978-4A7A-91B7-9160576CECFB}"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8" name=""/>
          <p:cNvGraphicFramePr/>
          <p:nvPr/>
        </p:nvGraphicFramePr>
        <p:xfrm>
          <a:off x="196920" y="123840"/>
          <a:ext cx="8748720" cy="6568920"/>
        </p:xfrm>
        <a:graphic>
          <a:graphicData uri="http://schemas.openxmlformats.org/drawingml/2006/table">
            <a:tbl>
              <a:tblPr/>
              <a:tblGrid>
                <a:gridCol w="1566720"/>
                <a:gridCol w="1728720"/>
                <a:gridCol w="792360"/>
                <a:gridCol w="1079280"/>
                <a:gridCol w="1944720"/>
                <a:gridCol w="1636920"/>
              </a:tblGrid>
              <a:tr h="517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Partner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claves</a:t>
                      </a:r>
                      <a:endParaRPr b="0" lang="en-US" sz="1400" spc="-1" strike="noStrike">
                        <a:solidFill>
                          <a:srgbClr val="000000"/>
                        </a:solidFill>
                        <a:latin typeface="Arial"/>
                      </a:endParaRPr>
                    </a:p>
                  </a:txBody>
                  <a:tcPr anchor="t" marL="90000" marR="90000">
                    <a:lnL w="18720">
                      <a:solidFill>
                        <a:srgbClr val="000000"/>
                      </a:solidFill>
                    </a:lnL>
                    <a:lnR w="5760">
                      <a:solidFill>
                        <a:srgbClr val="000000"/>
                      </a:solidFill>
                    </a:lnR>
                    <a:lnT w="18720">
                      <a:solidFill>
                        <a:srgbClr val="00000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Actividades clav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a:noFill/>
                    </a:lnB>
                    <a:no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Propuest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de valo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Relaciones co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los client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Segmento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de clientes</a:t>
                      </a:r>
                      <a:endParaRPr b="0" lang="en-US" sz="1400" spc="-1" strike="noStrike">
                        <a:solidFill>
                          <a:srgbClr val="000000"/>
                        </a:solidFill>
                        <a:latin typeface="Arial"/>
                      </a:endParaRPr>
                    </a:p>
                  </a:txBody>
                  <a:tcPr anchor="t" marL="90000" marR="90000">
                    <a:lnL w="5760">
                      <a:solidFill>
                        <a:srgbClr val="000000"/>
                      </a:solidFill>
                    </a:lnL>
                    <a:lnR w="18720">
                      <a:solidFill>
                        <a:srgbClr val="000000"/>
                      </a:solidFill>
                    </a:lnR>
                    <a:lnT w="18720">
                      <a:solidFill>
                        <a:srgbClr val="000000"/>
                      </a:solidFill>
                    </a:lnT>
                    <a:lnB>
                      <a:noFill/>
                    </a:lnB>
                    <a:noFill/>
                  </a:tcPr>
                </a:tc>
              </a:tr>
              <a:tr h="2185920">
                <a:tc rowSpan="2">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Quiénes son nuestros partners clave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Quiénes son nuestros proveedores clave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Qué recursos claves adquirimos de los partner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Cuáles de las actividades claves son realizadas por los partner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92d050"/>
                          </a:solidFill>
                          <a:latin typeface="Arial"/>
                        </a:rPr>
                        <a:t>-detallar</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1872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Qué actividades clave requiere nuestra propuesta de valor?</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canales de distribución?</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Las relaciones con los cliente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Los flujos de ingreso?</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ffc000"/>
                          </a:solidFill>
                          <a:latin typeface="Arial"/>
                        </a:rPr>
                        <a:t>- detallar</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gridSpan="2" rowSpan="2">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Qué valor le entregamos al cliente?</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Cuál de los problemas del cliente le ayudamos a resolver?</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Qué paquetes de productos o servicios le estamos ofreciendo a cada segmento de cliente?</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Qué necesidades del consumidor estamos satisfaciendo?</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70c0"/>
                          </a:solidFill>
                          <a:latin typeface="Arial"/>
                        </a:rPr>
                        <a:t>- </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Qué tipo de relacionamiento con cada segmento de cliente esperamos establecer y mantener?¿Cuáles hemos establecido?¿Cómo se integran con el resto del modelo de negocio?¿Cuán costosos son?</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ff0000"/>
                          </a:solidFill>
                          <a:latin typeface="Arial"/>
                        </a:rPr>
                        <a:t>-detallar</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rowSpan="2">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Para quienes estamos creando valor?</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Quiénes son nuestros más importantes cliente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c00000"/>
                          </a:solidFill>
                          <a:latin typeface="Arial"/>
                        </a:rPr>
                        <a:t>- detallar</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18720">
                      <a:solidFill>
                        <a:srgbClr val="000000"/>
                      </a:solidFill>
                    </a:lnR>
                    <a:lnT>
                      <a:noFill/>
                    </a:lnT>
                    <a:lnB w="5760">
                      <a:solidFill>
                        <a:srgbClr val="000000"/>
                      </a:solidFill>
                    </a:lnB>
                    <a:noFill/>
                  </a:tcPr>
                </a:tc>
              </a:tr>
              <a:tr h="2835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Recursos claves</a:t>
                      </a:r>
                      <a:endParaRPr b="0" lang="en-US" sz="14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Qué recursos claves requiere nuestra propuesta de valor? ¿Nuestros canales de distribución?</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Las relaciones con los cliente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Los flujos de ingreso?</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b0f0"/>
                          </a:solidFill>
                          <a:latin typeface="Arial"/>
                        </a:rPr>
                        <a:t>-detallar</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Canales</a:t>
                      </a:r>
                      <a:endParaRPr b="0" lang="en-US" sz="14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A través de qué canales desean los clientes ser contactados?¿Cómo los estamos alcanzando ahora?¿Cómo se integran nuestros canales? ¿Cuáles trabajan mejor?¿Cuáles son más eficientes en costos? ¿Cuáles estamos integrando con las rutinas de los cliente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b050"/>
                          </a:solidFill>
                          <a:latin typeface="Arial"/>
                        </a:rPr>
                        <a:t>-detallar</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30320">
                <a:tc gridSpan="3">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Estructura de Costos</a:t>
                      </a:r>
                      <a:endParaRPr b="0" lang="en-US" sz="14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Cuáles son los costos más importantes en relación a nuestro modelo de negocio? Cuáles recursos claves son más caros? ¿Cuáles actividades claves son más caras? </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a:t>
                      </a:r>
                      <a:r>
                        <a:rPr b="0" lang="es-CL" sz="900" spc="-1" strike="noStrike">
                          <a:solidFill>
                            <a:srgbClr val="002060"/>
                          </a:solidFill>
                          <a:latin typeface="Arial"/>
                        </a:rPr>
                        <a:t> Detallar</a:t>
                      </a:r>
                      <a:endParaRPr b="0" lang="en-US" sz="9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1872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Flujos de ingreso</a:t>
                      </a:r>
                      <a:endParaRPr b="0" lang="en-US" sz="14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Por cuál valor están dispuestos a pagar nuestros cliente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Por cual valor pagan actualmente? ¿Cómo pagan actualmente?¿Cómo preferirían pagar? ¿Cómo cada flujo de ingreso contribuye al flujo de ingreso general?</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 </a:t>
                      </a:r>
                      <a:r>
                        <a:rPr b="0" lang="es-CL" sz="900" spc="-1" strike="noStrike">
                          <a:solidFill>
                            <a:srgbClr val="7030a0"/>
                          </a:solidFill>
                          <a:latin typeface="Arial"/>
                        </a:rPr>
                        <a:t>detallar</a:t>
                      </a:r>
                      <a:endParaRPr b="0" lang="en-US" sz="9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1872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7T18:28:49Z</dcterms:created>
  <dc:creator>jaime.villarreal</dc:creator>
  <dc:description/>
  <dc:language>en-US</dc:language>
  <cp:lastModifiedBy>............</cp:lastModifiedBy>
  <dcterms:modified xsi:type="dcterms:W3CDTF">2012-03-19T14:32:17Z</dcterms:modified>
  <cp:revision>16</cp:revision>
  <dc:subject/>
  <dc:title>Diapositiva 1</dc:title>
</cp:coreProperties>
</file>