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93A46-ED2F-477E-A43E-FD8C27B160E2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174D3-012E-41DC-92C3-D1E98A043217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BB7C5-8D1E-4D2C-AED8-CDB8C5295D1E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D5B8E-7C62-491F-9BE6-DFB209E4C94B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90AAF-021F-432B-BBB2-5FCEB0D33B63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2479D5-6AC4-49D4-B105-B4DE077EF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B703D2-483B-4E14-BD49-B9E1AD937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4C7206-778D-4059-A7A8-99EDA4A48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276AC9-1B1C-4522-9AFC-112B1DE75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18E370-2CC6-4E04-9DED-C7874708C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6FAFC3-1AA5-441A-B838-4FFD8C1EB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3CA8FD-BF07-452D-A19D-4C635AFC2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F336A6-964F-4C94-AE76-7E9790F70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3C7DB1-073D-4652-ADD4-9CFD5FFDD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474F17-2E44-4B5D-B245-B17357089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87871E-4522-4AFE-9A03-DEE828E8F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38C78C-F9C7-4C03-ABAB-F6DA587B1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5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>
              <a:gd name="textAreaLeft" fmla="*/ 0 w 7958160"/>
              <a:gd name="textAreaRight" fmla="*/ 7958520 w 795816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11280" y="6244920"/>
            <a:ext cx="792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IN69B, Diseño y evaluación de Negocios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"/>
          <p:cNvPicPr/>
          <p:nvPr/>
        </p:nvPicPr>
        <p:blipFill>
          <a:blip r:embed="rId3"/>
          <a:stretch/>
        </p:blipFill>
        <p:spPr>
          <a:xfrm>
            <a:off x="6300720" y="6237360"/>
            <a:ext cx="2262240" cy="49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>
              <a:gd name="textAreaLeft" fmla="*/ 0 w 7772400"/>
              <a:gd name="textAreaRight" fmla="*/ 7772760 w 777240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8" descr=""/>
          <p:cNvPicPr/>
          <p:nvPr/>
        </p:nvPicPr>
        <p:blipFill>
          <a:blip r:embed="rId3"/>
          <a:stretch/>
        </p:blipFill>
        <p:spPr>
          <a:xfrm>
            <a:off x="1979640" y="3573360"/>
            <a:ext cx="4638600" cy="1022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5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7D4B1-86F0-48E2-BF8A-5C596078A746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1134720"/>
            <a:ext cx="79898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Fuentes de oportunidades de negocio</a:t>
            </a:r>
            <a:br>
              <a:rPr sz="3600"/>
            </a:b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y factores para evaluarl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3 Marcador de pie de página"/>
          <p:cNvSpPr/>
          <p:nvPr/>
        </p:nvSpPr>
        <p:spPr>
          <a:xfrm>
            <a:off x="611280" y="6245280"/>
            <a:ext cx="792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IN69B, Diseño y evaluación de Negocios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4920" y="549360"/>
            <a:ext cx="8001000" cy="736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Fuentes de ideas de negoci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9640" y="2060640"/>
            <a:ext cx="7772400" cy="389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Quiebres o Necesida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Medios de Comunicación (ej. Diarios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Entretenimiento (ocio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Redes (ej. Compañeros-Socializar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Ferias y viaj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Fondos de Fomento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Cambio de Paradigma (¿Qué no se puede hacer hoy pero si se hiciera cambiaría el mundo?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Agregar valor al client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Agregar valor a la empresa (+valor, -costo, mejor adm.  activos, mayor valor de la empresa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Hacer sudar los activo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Segmentos en crecimiento (ej: Grupo D, tercera edad, etc.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Arbitraje (dif. Costos mano obra, monedas, etc.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3 Marcador de pie de página"/>
          <p:cNvSpPr/>
          <p:nvPr/>
        </p:nvSpPr>
        <p:spPr>
          <a:xfrm>
            <a:off x="611280" y="6245280"/>
            <a:ext cx="792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IN69B, Diseño y evaluación de Negocios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índices de interés del negocio</a:t>
            </a:r>
            <a:br>
              <a:rPr sz="3200"/>
            </a:b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Dependientes de quien evalúa)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84360" y="1989000"/>
          <a:ext cx="7848360" cy="397080"/>
        </p:xfrm>
        <a:graphic>
          <a:graphicData uri="http://schemas.openxmlformats.org/drawingml/2006/table">
            <a:tbl>
              <a:tblPr/>
              <a:tblGrid>
                <a:gridCol w="2965320"/>
                <a:gridCol w="3154320"/>
                <a:gridCol w="358920"/>
                <a:gridCol w="136980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Fact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Val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Text Box 140"/>
          <p:cNvSpPr/>
          <p:nvPr/>
        </p:nvSpPr>
        <p:spPr>
          <a:xfrm>
            <a:off x="196920" y="2583000"/>
            <a:ext cx="7875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Mérito Innova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Tamaño del negocio (p*q) ho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Potencial de crec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Riesgo tecnológ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Riesgo de cultura/costumbre/paradig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Riesgo comercial (competidores, et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Potencial de internacional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Inversión (monto, dificultad de obtención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Capacidad del equipo emprende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Evaluación (económica, operacional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3 Marcador de pie de página"/>
          <p:cNvSpPr/>
          <p:nvPr/>
        </p:nvSpPr>
        <p:spPr>
          <a:xfrm>
            <a:off x="611280" y="6245280"/>
            <a:ext cx="792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IN69B, Diseño y evaluación de Negocios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ipos y fuentes de Innovació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Text Box 140"/>
          <p:cNvSpPr/>
          <p:nvPr/>
        </p:nvSpPr>
        <p:spPr>
          <a:xfrm>
            <a:off x="357120" y="2000160"/>
            <a:ext cx="81025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Innovación Tecnológ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Innovación en el Producto (bien o servici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Innovación en Modelos de Nego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Innovación en Procesos de Nego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Innovación en Procesos Produc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Innovación en Polític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La innovación (los cambios) genera negocios al crear valor para el cliente (stakeholders) y/o para la empres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0T00:32:30Z</dcterms:created>
  <dc:creator>Antonio Holgado</dc:creator>
  <dc:description/>
  <dc:language>en-US</dc:language>
  <cp:lastModifiedBy>............</cp:lastModifiedBy>
  <dcterms:modified xsi:type="dcterms:W3CDTF">2012-03-19T14:33:58Z</dcterms:modified>
  <cp:revision>9</cp:revision>
  <dc:subject/>
  <dc:title>Fuentes de Oportunidades</dc:title>
</cp:coreProperties>
</file>