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F1441E-BD03-4DDC-AF76-37BA9452F7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DEDDCE-50FF-4DA4-A60E-45D3B8E611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2927F1-FF21-49F8-881A-DB8E99DF77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83D838-C463-4773-92CF-14FC0514A2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533606-D3B3-447A-85C4-8FE47D488B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BD9FC4-4F31-49D0-8B66-83E56DDD4A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6BA5E2-7A3B-4C23-A56C-1975CD105A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2C9CD5-C3A1-41A1-A71E-FB5B9F8091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FC225F-7EDF-4777-8BFC-877AE0B500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BD2726-74CD-4BB2-A991-F02211A183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3CDDB5-EA17-4648-85C7-ADAEEA6CDA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D237F5-829C-46A2-AA1A-E50789B673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F99DC8-2F29-4220-A435-5D7399BB5D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66BBA7-38E1-4E2C-AC40-3EF2ACE5CA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9FC5C5-BF18-429E-921E-0CE72922C6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C3774C-2C89-485A-AF97-CBF76D880C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8DB16A-A6CD-4FA8-86FB-9EBBE47E55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F61B17-CB36-4637-A246-FBE25C4EC0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F15ED4-2081-4376-90FF-E677734380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A70A13-F58C-4051-99B9-5AF230BB3F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100C75-C298-461A-A8D7-2AEDEB420A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AAF6D4-6A43-425B-A4A4-4F37F96C87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888C17-AA8A-4BDE-90F9-ED4D1A68DC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6B19FF-7D7C-4C71-B744-669D96CE2E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AED1E-FD66-46AF-A73C-E54F8B1102C1}"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32493-F1A1-4C31-B3FD-B73ACC4ABF32}"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A0277A3-FE2D-4501-8CD7-888C02BDB1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B4A63C6-51C4-4823-A030-F7065C4659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5302E86-6507-4413-8618-66AD2F09DF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75AA19F-A566-41AC-B324-9EA2D9F606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B8B6768-589F-4B47-B76B-F5BC20A84A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1A0E4A0-9566-4852-BF7B-6A98473955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BDDED22-DA21-48D5-BBBA-CF92DB0CF0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68437D36-8860-481E-84EA-7EAC53BB30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6EC6C28-5FC8-4132-BF83-F7A9E21D23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6787EB1-BE79-47C2-B400-4E0228FB38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FD0C47E-5908-4246-B320-ABD357F43C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9F03D35-DE11-44EE-B0E5-DD6A9B0E4D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79BA4E8-28CA-4FA7-960A-F09080B153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078FBC1-37EF-4A46-B598-D9F26182E0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3B9D986-AD1E-4CEC-9427-EA5B865A79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969B3BD-D958-4979-9D83-E3A351B475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C1B8D17-F1DA-426F-B117-9D0A50033C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BA56CCD-12E5-4E98-A6CC-775EAEB732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B273E85-7A25-4896-BCB5-821256DA43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61DFF6F-E710-493A-9521-2429801C72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F718244-2FB7-4B07-AACF-7EF0F6CB9F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AF9D604-6DEA-45FB-A78A-8976029990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04B356B-5A3E-41CE-B6FF-ADA3DBB428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CD3F90B-D321-4BB9-953A-1003CC7AEC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BB9A8C1-0DED-45D0-8C96-F2B961E81A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C564B50-B084-40DB-863B-3F91625735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DAFD3C8-6BB7-4F7B-AF3C-2D9877CEFF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4283610-1CF6-42ED-81D7-1F31CC98A9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422E7C2-8EBD-4269-8ECD-974176C51B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563F9A2-9826-42D4-8A91-9A09D3E6DC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313D54C-0DED-476C-BD1C-6FC9099746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A218DE0-27EE-49F5-837C-30DA655BCB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4878F87-A6A0-4765-9EE7-9887866230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BD99F2F-AE12-47A8-8DEA-6CF1F51229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3F36DBE-C5CE-4E33-A6CF-3412E5C53A4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60ADAC8-3D58-4A86-B70C-1782324D28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4B8D901-D9EF-4B64-9D4E-A3DD1FB23C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2639663-DC7C-4854-A905-C260D87FCB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E30C18C-F9CD-4E2C-84EE-C500F86ADC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F146949-2AD2-45AB-952E-CB435A4286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C68953C-BF68-4456-8A62-0938DE4E66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2411906-9585-4154-9775-8A1E8346E4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CD0CD30-0DB9-457D-A91D-B22DC47A72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A8BCBBB-0705-4EB6-A2C9-FE85127534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9A7A331-E858-4EE2-82CD-9FEBE7304B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671B5E4-BA0D-49B6-84B7-2B2FC29C8A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B3C90AC6-6197-4E9A-B556-BBCB8556C9A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D9CB9B1-1561-461F-BD71-D7A2E648ED1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EE0F0C5-6A3E-44A2-B36B-0505E919A1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753BE44-5BD2-478D-AB16-E01070DB7B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BA7E63B-ECAA-4635-A925-3610008004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EE517C6-904D-4991-AB04-8EE87F6B0D3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FC3C0CC-BC7A-47CB-8498-1D1DE2B40C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9C9D00A-4872-4319-ACA0-18002089F5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BCD0DEB-B1F2-4F6F-893B-99772EFE80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167E41F-6EF0-4463-9F56-E218221A335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B106E3F-CD8D-41D3-A5AD-859174D268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7BA490E-5D87-4C27-900D-E90072B844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869EB5F-723E-46A3-89C8-F962321BA54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BA718AED-CE2F-46D9-B909-78C9734E70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B638998-E758-47DC-BB27-8B0CD4E9DE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F670DD1-CB11-4819-82F2-76F4E77FD4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C40FDF8-6BB1-4710-8961-F6A9B50B2D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A0701BE-2796-4E37-BE3F-57E6B292EE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1C6EE99-AB33-4253-A408-35E20B5DEB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44216B1-B534-47DE-9726-59544272CA7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4DAB6C3-2A1F-49DD-91D9-312FE66D6BF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C5067DA-457C-4989-8432-CF7B50D74A1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E9A82E5-1489-4BF9-9D66-BC8707A74C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C3F1C18-1390-488C-A16F-CA821C3D81E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57282FE-D6DF-45EC-B484-B8C37D24F2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073FC09-FD94-4C8C-A488-B7B68D0CF9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5F58319-1DBD-494F-B065-B740156D111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92EFD5C-7106-40AF-BE7A-85D6DAD1CF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A54495C-CD1B-491A-9ABD-8D7390D347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792348D-24DC-482B-B4CC-66FC7FBA34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E9E6EEF-54F2-4A89-81F5-3C78596895B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D394A6C-AB5F-4819-B27E-1F2658BA5AF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604471D-1299-47FB-9FF1-4653F4CB20E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57C049A-3025-4FBC-935B-F11B1F9FEA7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8824E09-8899-49A6-BF66-1B3C579989D5}"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E11B0F9-EA96-4E6E-9B3A-B47F934C1A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Javier Bustos Jiménez</dc:creator>
  <dc:description/>
  <dc:language>en-US</dc:language>
  <cp:lastModifiedBy>Javier Bustos Jiménez</cp:lastModifiedBy>
  <dcterms:modified xsi:type="dcterms:W3CDTF">2007-07-27T16:39:40Z</dcterms:modified>
  <cp:revision>38</cp:revision>
  <dc:subject/>
  <dc:title>Consistencia y Replicación</dc:title>
</cp:coreProperties>
</file>