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28.png" ContentType="image/png"/>
  <Override PartName="/ppt/media/image9.png" ContentType="image/png"/>
  <Override PartName="/ppt/media/image12.wmf" ContentType="image/x-wmf"/>
  <Override PartName="/ppt/media/image27.png" ContentType="image/png"/>
  <Override PartName="/ppt/media/image8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5.wmf" ContentType="image/x-wmf"/>
  <Override PartName="/ppt/media/image10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A73-25EE-4B25-BC20-583165B3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E7C-FF9D-43E1-8D3F-8B6DE1B5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737-8724-4773-84C0-29C7FCA0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D51A-774B-4049-83A1-05D72160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C863-8CD7-41FB-9990-FD782BA0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E880-9EE6-4DE3-AF16-52ECFB6B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BB2-6263-42BC-A319-2F9043D9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BD0-9162-405A-A666-974FD839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F1B-B53E-424A-B760-38C11B0E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F92E-8BED-4B56-A0E0-A30CFFA8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D93-6A22-444E-A7AB-87BF40F3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5462-308D-41E6-AF2F-4D7E9109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5AFC-8DDA-46AE-9C20-1FE9578BB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25880" y="457200"/>
            <a:ext cx="1090800" cy="1828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0" y="3124080"/>
            <a:ext cx="6550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INSUFICIENCIA RE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GU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Dr. Alejandro Pache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52560" y="1716120"/>
          <a:ext cx="7235640" cy="34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716120"/>
                    <a:ext cx="723564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tiologí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minución de la perfusión renal: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PRE-REN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70% de las IRA adquiridas en la comunidad y 40% de las adquiridas en el hosp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strucción al flujo urinario: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POST-REN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ño isquémico LETAL o tóxico o inmunológico del nefrón o inflamación túbulo instersticial: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REN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54000" y="1716120"/>
          <a:ext cx="7234200" cy="34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1716120"/>
                    <a:ext cx="723420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685800" y="2286000"/>
            <a:ext cx="5181480" cy="3733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pre-ren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rápidamente reversible si la causa subyacente es corregida.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Trastorno fun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ancianos y los niños son muy sucept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JO con (-) de ECA, diuréticos, AINES y otras drogas que disminuyen la perfusión re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re-renal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324160" y="1143000"/>
            <a:ext cx="4494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7621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SIOPATOLOGÍA DE LA NTA ISQUÉM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3716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a isquemia produ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Depleción de A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Ruptura del citoesqueleto y altera la adhesión cel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las células tub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Se pierde la polaridad cel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Se alteran las bombas de membrana: ejemplo mig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la bomba Na-K-ATPasa a la membrana lu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Activación enzimática: fosfolipasas, prote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Injuria por reperfusión: Persiste la hipoxia en la médula extern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 forman radicales libres de oxígeno, se produce injuria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ucoc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7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22960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re-renal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628640" y="1716120"/>
          <a:ext cx="595944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716120"/>
                    <a:ext cx="595944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finició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índrome caracterizado por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eterioro de la función rena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 un periodo de horas o días y que resulta en retención de productos nitrogenados y alteración de la homeostasis hidroelectrolítica y ácido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ren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sitios primarios de la injuria pueden 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 l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úb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 el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rst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 l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lomérul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 l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queños v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31960" y="1716120"/>
          <a:ext cx="575136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960" y="1716120"/>
                    <a:ext cx="57513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92280" y="1981080"/>
          <a:ext cx="5959440" cy="43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2280" y="1981080"/>
                    <a:ext cx="5959440" cy="43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676520" y="3429000"/>
            <a:ext cx="609480" cy="1752480"/>
          </a:xfrm>
          <a:custGeom>
            <a:avLst/>
            <a:gdLst>
              <a:gd name="textAreaLeft" fmla="*/ 81360 w 609480"/>
              <a:gd name="textAreaRight" fmla="*/ 528120 w 609480"/>
              <a:gd name="textAreaTop" fmla="*/ 306720 h 1752480"/>
              <a:gd name="textAreaBottom" fmla="*/ 127080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renales: isqu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RA prerenal y la necrosis tubular aguda como causa de IRA renal representan un continuo: la única diferencia entre ambas es que el flujo sanguíneo esté lo suficientemente disminuido como para resultar en muerte de las células tubu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sa de un fenómeno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FUNCION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 uno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ANATÓMIC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renales: isqu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57200" y="1828800"/>
            <a:ext cx="83440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renales: tóx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64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5556" t="7692" r="5556" b="10860"/>
          <a:stretch/>
        </p:blipFill>
        <p:spPr>
          <a:xfrm>
            <a:off x="762120" y="0"/>
            <a:ext cx="761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renales: nefritis interstic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181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renales: glomerulonefr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56040" y="1590840"/>
            <a:ext cx="39542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52560" y="1716120"/>
          <a:ext cx="7235640" cy="34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716120"/>
                    <a:ext cx="723564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562720" y="2057400"/>
            <a:ext cx="3124080" cy="3657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finició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iste confusión en la definición al momento de asignarle valores. Hay varias “definicione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IRA = Aumento de creatinina plasmática mayor de 0,5 mg/dL sobre su ba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IRA = Aumento de creatinina plasmática mayor de un 50% sobre su ba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post-ren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curre cuando se obstruye el flujo urinario en ambos riñones (o en el riñón único si es monorren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otencial de recuperación es inversamente proporcional al momento de la desobstr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581280" y="533520"/>
            <a:ext cx="4800600" cy="6095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4600" y="399960"/>
            <a:ext cx="26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Post-re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rbi-mortalida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% de los paciente ingresados a un Hosp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 a 5% la desarrollan durante la hospital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 a 15% después de una cirugía de bypass coron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1ADK08F0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6108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rbi-mortalida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4582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re un 20 a un 60% de los pacientes requerirá diáli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re los que requerirán HD, sólo un 25% la necesitará “crónicament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mortalidad oscila entre un 7% entre aquellos que ingresan por IRA a un hospital y 80% entre aquellos que la desarrollan post-operatoriamente o en el contexto de falla orgánica múlti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Diagnóstic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isto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amen fís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orato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diolog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finició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Arial"/>
              </a:rPr>
              <a:t>IRA = reducción en el clearence de creatinina en menos de un 5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Arial"/>
              </a:rPr>
              <a:t>IRA = disminución en función renal que la hace requirente de diáli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457200"/>
            <a:ext cx="891540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ámetros que ayudan a diferenciar IRA pre-renal de una 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-renal                              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nsidad urina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&gt; 1.018                                 ~ 1.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dio urinar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&lt;10 mEq7l                            &gt;20 mEq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acción excretada N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&lt;1%                                      &gt;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smolaridad urina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&gt; 500 mosm/l                       ~280 mosm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/P osmol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&gt;1.3                                      &lt;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/P ure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&gt;8                                          &lt;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/P creatinin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&gt;40                                        &lt;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dimento orin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Normal ó cilindros         Células tub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alinos claros                y cilindros gran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lor pardo su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agnóstic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92468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-22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Tratamiento: objetivos terapéutic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90920" y="990720"/>
            <a:ext cx="44193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-305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Tratamiento: aspectos práctic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1343" t="6755" r="0" b="17883"/>
          <a:stretch/>
        </p:blipFill>
        <p:spPr>
          <a:xfrm>
            <a:off x="2438280" y="1066680"/>
            <a:ext cx="4210200" cy="4800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737880" y="5824440"/>
            <a:ext cx="349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árma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écnicas depur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4185000">
            <a:off x="4293720" y="5690880"/>
            <a:ext cx="304920" cy="228600"/>
          </a:xfrm>
          <a:custGeom>
            <a:avLst/>
            <a:gdLst>
              <a:gd name="textAreaLeft" fmla="*/ 0 w 304920"/>
              <a:gd name="textAreaRight" fmla="*/ 305280 w 30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Cómo determinamos la “función renal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5597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40080" y="1903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vf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6560" y="190512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8600" y="5715000"/>
            <a:ext cx="50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FG = Lps * [(Pcg-Pcb)- s(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 -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)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94200" y="609588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FG = Lps (Pcg – P cb -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lasificación clínic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Oligúrica: &lt; de 400 mL/día de or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s-ES_tradnl" sz="2800" spc="-1" strike="noStrike">
                <a:solidFill>
                  <a:srgbClr val="ff6600"/>
                </a:solidFill>
                <a:latin typeface="Arial"/>
              </a:rPr>
              <a:t>- Oligoanúrica: &lt; de 50 mL/día d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0" lang="es-ES_tradnl" sz="2800" spc="-1" strike="noStrike">
                <a:solidFill>
                  <a:srgbClr val="ff6600"/>
                </a:solidFill>
                <a:latin typeface="Arial"/>
              </a:rPr>
              <a:t>or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0" lang="es-ES_tradnl" sz="2800" spc="-1" strike="noStrike">
                <a:solidFill>
                  <a:srgbClr val="ff6600"/>
                </a:solidFill>
                <a:latin typeface="Arial"/>
              </a:rPr>
              <a:t>- Anúrica: 0 diur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No oligúrica: &gt; de 400 mL/día de or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6720" y="2138400"/>
          <a:ext cx="8350560" cy="19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138400"/>
                    <a:ext cx="835056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3:06Z</dcterms:created>
  <dc:creator>LFM-ICBM</dc:creator>
  <dc:description/>
  <dc:language>en-US</dc:language>
  <cp:lastModifiedBy>ofiintilus</cp:lastModifiedBy>
  <dcterms:modified xsi:type="dcterms:W3CDTF">2004-11-02T10:29:02Z</dcterms:modified>
  <cp:revision>4</cp:revision>
  <dc:subject/>
  <dc:title>Presentación de PowerPoint</dc:title>
</cp:coreProperties>
</file>