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4.wmf" ContentType="image/x-wmf"/>
  <Override PartName="/ppt/media/image21.jpeg" ContentType="image/jpeg"/>
  <Override PartName="/ppt/media/image20.jpeg" ContentType="image/jpeg"/>
  <Override PartName="/ppt/media/image28.jpeg" ContentType="image/jpeg"/>
  <Override PartName="/ppt/media/image7.jpeg" ContentType="image/jpeg"/>
  <Override PartName="/ppt/media/image13.png" ContentType="image/png"/>
  <Override PartName="/ppt/media/image6.png" ContentType="image/png"/>
  <Override PartName="/ppt/media/image31.png" ContentType="image/png"/>
  <Override PartName="/ppt/media/image5.png" ContentType="image/png"/>
  <Override PartName="/ppt/media/image8.jpeg" ContentType="image/jpeg"/>
  <Override PartName="/ppt/media/image29.jpeg" ContentType="image/jpeg"/>
  <Override PartName="/ppt/media/image12.jpeg" ContentType="image/jpeg"/>
  <Override PartName="/ppt/media/image4.png" ContentType="image/png"/>
  <Override PartName="/ppt/media/image11.jpeg" ContentType="image/jpeg"/>
  <Override PartName="/ppt/media/image32.png" ContentType="image/png"/>
  <Override PartName="/ppt/media/image1.jpeg" ContentType="image/jpeg"/>
  <Override PartName="/ppt/media/image33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png" ContentType="image/pn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DAA6-3D7E-4FEF-B77D-FB383713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BD03F-962B-4E2C-82C6-BE5BACCF2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97FC-5627-404E-83A3-4D65929AC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0721-732C-4822-92EF-204E0104C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D6E03-9359-470D-8384-A76983631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AC035-0A7C-40BA-8E3F-2E6DF4C3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D42C-B8EA-498A-ACFD-0DE2F0F1A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B369-782F-4751-8090-A628FD30A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7775C-72FA-4221-9E0A-3BE7856F3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E774-793F-4DB4-97DD-FE982FAA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55DE-37AB-46AB-9993-57184521C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A9CA7-3464-48F2-B3E2-D358E3E8E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9EB66-92FC-45BA-81E8-C3D5FC12BB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025880" y="457200"/>
            <a:ext cx="1090800" cy="1828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522800" y="3124080"/>
            <a:ext cx="6550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INSUFICIENCIA RENAL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es-ES" sz="4400" spc="-1" strike="noStrike">
                <a:solidFill>
                  <a:srgbClr val="000000"/>
                </a:solidFill>
                <a:latin typeface="Arial"/>
              </a:rPr>
              <a:t>CRÓN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Arial"/>
              </a:rPr>
              <a:t>Dr. Alejandro Pache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1680" y="1604880"/>
            <a:ext cx="800100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523800" y="281160"/>
            <a:ext cx="8096400" cy="62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R CADA PACIENTE QUE REQUIERE DIALISIS EXI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0-30 PACIENTES CON ALGUN GRADO DE ALT. FUNC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ORTALIDAD EN IRC. ES 10-20 VECES MAYOR QUE 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POBLACION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IABETES E HIPERTENSION SON LAS CAUSAS MA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OMUNES DE IRC.Y SE ASOCIAN A DAÑO  CV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LA PRINCIPAL CAUSA DE MUERTE EN DIALISIS CRON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 DE ORIGEN CARDIOVASCU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523800" y="333360"/>
            <a:ext cx="809640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25600" y="1600200"/>
            <a:ext cx="2692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ET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571680" y="719280"/>
            <a:ext cx="8001000" cy="54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HEMODIALISIS CRONICA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NEFROPATIA BASAL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7371 PACIENTES (AGOSTO 200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ABETES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ESCONOCI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NEFROESCLERO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GMN.CRO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UROPATIA OB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ENF.POLIQUI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5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24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1,4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0,2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4,7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3,6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15.3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FACTORES DE PROGRESION DE INSUFICIENCIA RENAL CRON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ERSISTENCIA DE ENFERMEDAD BA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PROTEINURIA PERSIST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GLIC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DIETA HIPERPROTE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TEN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TABAQU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HIPERFOSFATEMI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691000" y="1981080"/>
            <a:ext cx="376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DEFINICIÓN 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LASIFICA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FACTORES REVERSIBLES A MENUDO OLVI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DEPLECION DE VOLUM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OBSTRUCCION DE VIA UR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USO RECIENTE DE NEFROTOX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- INFEC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PIENSE EN ELLOS FRENTE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DETERIORO BRUSCO Y S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i="1" lang="es-MX" sz="3200" spc="-1" strike="noStrike">
                <a:solidFill>
                  <a:srgbClr val="ff0000"/>
                </a:solidFill>
                <a:latin typeface="Arial"/>
              </a:rPr>
              <a:t>EXPLICACIÓN DE FUNCIÓN RE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62120" y="100080"/>
            <a:ext cx="761976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27920" y="1905120"/>
            <a:ext cx="408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FISIOPAT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17220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685800" y="512640"/>
            <a:ext cx="7772400" cy="583092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4572000" y="3581280"/>
            <a:ext cx="365760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5880" y="3429000"/>
            <a:ext cx="1905120" cy="380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rot="1478400">
            <a:off x="5943240" y="2629080"/>
            <a:ext cx="196920" cy="1600200"/>
          </a:xfrm>
          <a:prstGeom prst="downArrow">
            <a:avLst>
              <a:gd name="adj1" fmla="val 50000"/>
              <a:gd name="adj2" fmla="val 203154"/>
            </a:avLst>
          </a:prstGeom>
          <a:solidFill>
            <a:srgbClr val="0000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9667800">
            <a:off x="304920" y="2057040"/>
            <a:ext cx="1495440" cy="3186000"/>
          </a:xfrm>
          <a:custGeom>
            <a:avLst/>
            <a:gdLst>
              <a:gd name="textAreaLeft" fmla="*/ 200160 w 1495440"/>
              <a:gd name="textAreaRight" fmla="*/ 1295280 w 1495440"/>
              <a:gd name="textAreaTop" fmla="*/ 633600 h 3186000"/>
              <a:gd name="textAreaBottom" fmla="*/ 2233800 h 31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2389138"/>
                <a:lnTo>
                  <a:pt x="9302" y="20762"/>
                </a:lnTo>
                <a:lnTo>
                  <a:pt x="0" y="18313"/>
                </a:lnTo>
                <a:lnTo>
                  <a:pt x="9302" y="14188"/>
                </a:lnTo>
                <a:lnTo>
                  <a:pt x="9302" y="16348"/>
                </a:lnTo>
                <a:arcTo wR="21600" hR="8593" stAng="2389138" swAng="-2208375"/>
                <a:lnTo>
                  <a:pt x="21413" y="9720"/>
                </a:lnTo>
                <a:arcTo wR="21600" hR="8593" stAng="-180764" swAng="-5219236"/>
                <a:close/>
              </a:path>
              <a:path fill="darkenLess" w="21600" h="21600">
                <a:moveTo>
                  <a:pt x="0" y="0"/>
                </a:moveTo>
                <a:arcTo wR="21600" hR="8593" stAng="-5400000" swAng="5400000"/>
                <a:lnTo>
                  <a:pt x="21600" y="10847"/>
                </a:lnTo>
                <a:arcTo wR="21600" hR="8593" stAng="0" swAng="-180764"/>
                <a:lnTo>
                  <a:pt x="21413" y="9720"/>
                </a:lnTo>
                <a:arcTo wR="21600" hR="8593" stAng="-180764" swAng="-5219236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914400" y="62712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315200" cy="548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62120" y="627120"/>
            <a:ext cx="75438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62120" y="662040"/>
            <a:ext cx="761976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762120" y="714240"/>
            <a:ext cx="7619760" cy="542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INSUFICIENCIA  RENAL CRON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AÑO RENAL ANATOMO-HISTOLOGICO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 FILTRACION GLOMERULAR MEN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60/ML/MIN. POR MAS DE 3 ME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OQI AM J.KIDNEY DIS;:2002;39 (SUPPL1) S1-2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762120" y="728640"/>
            <a:ext cx="761976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2120" y="642960"/>
            <a:ext cx="761976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rcRect l="0" t="0" r="0" b="70527"/>
          <a:stretch/>
        </p:blipFill>
        <p:spPr>
          <a:xfrm>
            <a:off x="1719360" y="1066680"/>
            <a:ext cx="5705280" cy="266724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714680" y="3733920"/>
            <a:ext cx="57150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2933280" y="1981080"/>
            <a:ext cx="30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EMIOLOGÍ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571680" y="571680"/>
            <a:ext cx="80010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905120" y="0"/>
          <a:ext cx="5695920" cy="6553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0"/>
                    <a:ext cx="5695920" cy="65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152280" y="1295280"/>
          <a:ext cx="8982360" cy="3310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295280"/>
                    <a:ext cx="8982360" cy="331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296800" y="1981080"/>
            <a:ext cx="45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CO-MORBILIDAD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62120" y="1333440"/>
            <a:ext cx="7619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38400" y="61920"/>
            <a:ext cx="666720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818080" y="1981080"/>
            <a:ext cx="350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RATAMIENT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RENAL </a:t>
            </a:r>
            <a:br>
              <a:rPr sz="2800"/>
            </a:b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IDENTIFIQUE FACTORES DE RIESGO 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SPECIAL DIABETES E HIPERTEN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EFECTUE AL MENO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CREATININEMIA / ORINA COMPLETA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ECOTOMOGRAFIA RE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A 24 HRS (DIABETICO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  BUSQUE LOS FACTORES INICI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BUSQUE FACTORES REVERSIB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REEVALUE FUNCION DESPUES DE ELIMINAD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360" y="3045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FUNCIONAL COMENTARI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DERIVE AL NEFRÓLOG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 CREATININA NO MAYOR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1,3mg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MICROALBUMINURIA POSITI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N PACIENTES DIABET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EXAMEN DE ORINA ANORM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5604000">
            <a:off x="6198120" y="1726200"/>
            <a:ext cx="814680" cy="866880"/>
          </a:xfrm>
          <a:custGeom>
            <a:avLst/>
            <a:gdLst>
              <a:gd name="textAreaLeft" fmla="*/ 0 w 814680"/>
              <a:gd name="textAreaRight" fmla="*/ 815040 w 814680"/>
              <a:gd name="textAreaTop" fmla="*/ 0 h 866880"/>
              <a:gd name="textAreaBottom" fmla="*/ 867240 h 866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CONTROL DE PRESION ARTERIAL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130/85 EN TODOS LOS PACI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ENOR DE 125/75 CON PROTEINURIA DE 1 G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 CONTROL GLICEMICO (HBA1C MENOR DE 7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USO PREFERENTE DE IECA O BLOQUEADOR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AT.EN ESPECIAL EN NEFROP. DIABE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USO DE IECA EN DIABETICOS NORMOTEN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MICROALBUMINURICOS (+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5- RESTRICCION PROTEICA MODE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(0.6-0.7 gr/k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6- RESTRICCION MODERADA DE FOSFA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7- USO DE QUELANTES DE FOSFATO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8- EVITE DESNUTRIC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Arial"/>
              </a:rPr>
              <a:t>ESTRATEGIAS DE PROTECCION EN IR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32280" y="42321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88360" y="2328840"/>
            <a:ext cx="5921280" cy="23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9- PROHIBA USO DE AINE Y TABA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0- USO DE ESTATINAS PARA CONTROL DE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IPERLIPIDEM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11- CONTROL DE ACIDOSIS (HCO3 &gt; 22 meq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Arial"/>
              </a:rPr>
              <a:t>PREPARE AL PACIENTE PARA TERAPIA DE SUSTITU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1- EXPLIQUE OPCIONES TERAPEUTIC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HEMODIALISIS –PERITONEODIALISIS – T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2-CUIDADO DE BRAZO NO DOMINANTE PA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REALIZAR FISTULA ARTERIOVENO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3-EFECTUE FISTULA CON VFG DE +/- 25 ML/M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4- INICIE DIALISIS CON CLCR+/- 14 ML/MIN O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INCLUSO ANTES EN CASO DE INS.CARDIA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s-MX" sz="2000" spc="-1" strike="noStrike">
                <a:solidFill>
                  <a:srgbClr val="000000"/>
                </a:solidFill>
                <a:latin typeface="Arial"/>
              </a:rPr>
              <a:t>DESNUTRICION IMPORTANTE O DIABE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62120" y="1028880"/>
            <a:ext cx="76197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719360" y="209520"/>
            <a:ext cx="5705280" cy="64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554120" y="1617840"/>
            <a:ext cx="6035760" cy="36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5105520" y="228600"/>
            <a:ext cx="3392280" cy="40384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728640" y="2057400"/>
            <a:ext cx="38433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220760" y="1209600"/>
            <a:ext cx="670104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5840" y="1181160"/>
            <a:ext cx="8572320" cy="449568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1600200"/>
            <a:ext cx="1447920" cy="32004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827360" y="1600200"/>
            <a:ext cx="548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¿ES UN PROBLEMA D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SALUD PÚBLIC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1T16:43:21Z</dcterms:created>
  <dc:creator>LFM-ICBM</dc:creator>
  <dc:description/>
  <dc:language>en-US</dc:language>
  <cp:lastModifiedBy>ofiintilus</cp:lastModifiedBy>
  <dcterms:modified xsi:type="dcterms:W3CDTF">2004-11-02T10:30:07Z</dcterms:modified>
  <cp:revision>7</cp:revision>
  <dc:subject/>
  <dc:title>Presentación de PowerPoint</dc:title>
</cp:coreProperties>
</file>