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2.jpeg" ContentType="image/jpeg"/>
  <Override PartName="/ppt/media/image40.wmf" ContentType="image/x-wmf"/>
  <Override PartName="/ppt/media/image7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EE7-6866-4F17-8870-8E6E9416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F2A-427C-4EA6-A381-A525648C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3FF-5B95-46C6-9554-26D1DA67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A5E-5DA8-476F-9BB0-EC4214D6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3B9-246F-4C52-8F3C-20FDFC9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A9E-651C-4084-839C-495F33D8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0B0-5100-43D5-BA10-AFFAD2A3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A3B-42B5-4EB0-A723-A8F01EDB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63A-240A-4DA1-9D85-09A442D7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A54-3BA8-42E3-828E-6410DD78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A3B-B162-43EB-96AA-40E3625B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449-5C4A-49E6-B510-12D1AB0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1EAB-8001-42EE-98BD-4AC423B3A9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5480" y="227952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FISIOPATOLOGÍA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IROÍ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6960" y="51055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oberto R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256360" cy="593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3284640"/>
            <a:ext cx="2449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ACCIÓN DE 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EN CARDIOMI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16000" y="1413000"/>
          <a:ext cx="711504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115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fectos de T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en coraz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089080"/>
            <a:ext cx="7772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537000" y="228600"/>
          <a:ext cx="50734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228600"/>
                    <a:ext cx="50734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5640" y="274320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FECTO FISIOLÓGIC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ORMONAS TIROÍ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OBRE TEJIDOS 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840" y="380880"/>
            <a:ext cx="87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VALUACIÓN DE LABORATORIO DE FUNCIÓN TIROÍ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280" y="1738440"/>
            <a:ext cx="863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- T3 Y T4 SÉRICAS TO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- T4 SÉRICA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3-  TSH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4- TIROGLOBULINA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- CAPTACIÓN DE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- IMÁGENES DE TIROIDE MARCADA CON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 O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- DETECCIÓN DE AUTOANTICUERPOS: ANTI-PEROXIDASA,  ANTI-TIROGLOBULI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TI-RECEPTOR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- RESPUESTA DE TSH SÉRICA A ESTIMULACIÓN CON T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0" y="3636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73160" y="1073160"/>
            <a:ext cx="6997680" cy="4710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36040" y="343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IPERTIROIDISMO: CLASIFICASIÓN ETI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76320"/>
            <a:ext cx="8741160" cy="6553080"/>
            <a:chOff x="228600" y="76320"/>
            <a:chExt cx="8741160" cy="6553080"/>
          </a:xfrm>
        </p:grpSpPr>
        <p:grpSp>
          <p:nvGrpSpPr>
            <p:cNvPr id="98" name=""/>
            <p:cNvGrpSpPr/>
            <p:nvPr/>
          </p:nvGrpSpPr>
          <p:grpSpPr>
            <a:xfrm>
              <a:off x="457200" y="76320"/>
              <a:ext cx="2589120" cy="3429000"/>
              <a:chOff x="457200" y="76320"/>
              <a:chExt cx="2589120" cy="342900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5400"/>
                <a:ext cx="2512800" cy="34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57200" y="76320"/>
                <a:ext cx="380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914400" y="2819520"/>
              <a:ext cx="18288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633840" y="152280"/>
              <a:ext cx="4824720" cy="2906640"/>
              <a:chOff x="3633840" y="152280"/>
              <a:chExt cx="4824720" cy="2906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3840" y="152280"/>
                <a:ext cx="237168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937120" y="606240"/>
                <a:ext cx="25214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EXOFTALM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MIXEDEMA PRETIB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28600" y="3340080"/>
              <a:ext cx="176688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9080" y="621648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BOCIO DIF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1080" y="3821040"/>
              <a:ext cx="50986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NTICUERPOS ANTI-RECEPTOR T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CAPTACIÓN DE RADIOYODO AUMEN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T3-T4 AUMENTADAS Y TSH DISMINUÍ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MÁS FRECUENTE EN MUJE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GREGACIÓN FAMILIAR (HAPLOTIPOS HLA-B8 Y -DR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SOCIADA A OTRAS ENF. AUTOINMUNES (DIABE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IPO I,  ANEMIA PERNICIO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6560" y="480060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IRADA FI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363680"/>
            <a:ext cx="236376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1600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1980720"/>
            <a:ext cx="220968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0400" y="2119320"/>
            <a:ext cx="29588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OCO FREC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UTÓNOMOS (DE T3-T4 Y TR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SUBUNIDAD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T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PTACIÓN RADIOYOD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752480"/>
            <a:ext cx="33526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34240" y="2590920"/>
          <a:ext cx="57168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4240" y="2590920"/>
                    <a:ext cx="571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7742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67000" y="3124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4419720"/>
            <a:ext cx="160020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54380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960" y="4619520"/>
            <a:ext cx="41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IPÓFISIS NO RESPONDE A FEEDBACK T3-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DIF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SISTENCIA PA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495680"/>
            <a:ext cx="441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4160" y="442800"/>
            <a:ext cx="63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HIPERTIROIDISMO POR ESTIMULACION EXCESIVA CON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80880" y="1295280"/>
            <a:ext cx="3190680" cy="4114800"/>
            <a:chOff x="380880" y="1295280"/>
            <a:chExt cx="3190680" cy="41148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09480" y="1390680"/>
              <a:ext cx="296208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0880" y="129528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2120" y="34146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48400" y="1582560"/>
            <a:ext cx="2124000" cy="1389960"/>
            <a:chOff x="5648400" y="1582560"/>
            <a:chExt cx="2124000" cy="1389960"/>
          </a:xfrm>
        </p:grpSpPr>
        <p:grpSp>
          <p:nvGrpSpPr>
            <p:cNvPr id="130" name=""/>
            <p:cNvGrpSpPr/>
            <p:nvPr/>
          </p:nvGrpSpPr>
          <p:grpSpPr>
            <a:xfrm>
              <a:off x="5648400" y="1582560"/>
              <a:ext cx="2124000" cy="1069920"/>
              <a:chOff x="5648400" y="1582560"/>
              <a:chExt cx="2124000" cy="1069920"/>
            </a:xfrm>
          </p:grpSpPr>
          <p:graphicFrame>
            <p:nvGraphicFramePr>
              <p:cNvPr id="131" name=""/>
              <p:cNvGraphicFramePr/>
              <p:nvPr/>
            </p:nvGraphicFramePr>
            <p:xfrm>
              <a:off x="5648400" y="1582560"/>
              <a:ext cx="2124000" cy="1069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648400" y="1582560"/>
                        <a:ext cx="2124000" cy="106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" name=""/>
              <p:cNvSpPr/>
              <p:nvPr/>
            </p:nvSpPr>
            <p:spPr>
              <a:xfrm>
                <a:off x="5844960" y="2116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22960" y="21142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934960" y="2635200"/>
              <a:ext cx="174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TSH                 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434240" y="80028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MOLA TROFOBLÁSTICA O CORIO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6520" y="3067200"/>
            <a:ext cx="4996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EMBARAZO ANORMAL: FETO NO SE FORMA O MUERE EN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YORíA DE LOS CASOS PERO SE FORMAN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LACENT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CRECIMIENTO PLACENTARIO ANORMAL (PROLIFERA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OFOBLASTOS PLACENTARIOS): 1:1500 EMBARAZ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SIN FETO = MOLA PARCIAL (LA MAYORÍ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MOLA COMPLETA: MALIGNIZA A CORIOCARCIN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ALTOS NIVELES DE GONADOTROFINA CORIÓNICA (G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T3 – T4 ELEVADOS y TSH DISMINU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BOCIO Y CAPTACIÓN DE RADIOYODO AUMEN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80880" y="152280"/>
            <a:ext cx="8610840" cy="6554160"/>
            <a:chOff x="380880" y="152280"/>
            <a:chExt cx="8610840" cy="65541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80880" y="838080"/>
              <a:ext cx="257184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4071960" y="1208160"/>
              <a:ext cx="491976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2181240" y="4060800"/>
              <a:ext cx="45244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25880" y="152280"/>
              <a:ext cx="62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ANATOMÍA DE LA GLÁNDULA TIROI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2800" y="595440"/>
              <a:ext cx="184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FR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73960" y="60948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LOCAL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4480" y="6369120"/>
              <a:ext cx="189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SUP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41000" y="272880"/>
            <a:ext cx="8162280" cy="6052320"/>
            <a:chOff x="441000" y="272880"/>
            <a:chExt cx="8162280" cy="6052320"/>
          </a:xfrm>
        </p:grpSpPr>
        <p:sp>
          <p:nvSpPr>
            <p:cNvPr id="139" name=""/>
            <p:cNvSpPr/>
            <p:nvPr/>
          </p:nvSpPr>
          <p:spPr>
            <a:xfrm>
              <a:off x="971280" y="272880"/>
              <a:ext cx="73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NÓDULO ÚNICO                                            BOCIO TÓXICO MULTINODULA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457200" y="2637000"/>
              <a:ext cx="259092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1000" y="4680000"/>
              <a:ext cx="3304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DENOMA FOLICULAR (90% CAS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ALIENTE SOLI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IPERSECRECIÓN AUTÓNOMA DE T3-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 Y CAPTACIóN RADIOYOD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ONTRALATERAL ATROFI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429000" y="5257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1240" y="4710240"/>
              <a:ext cx="4262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MENTE DERIVAN DE BOCIO NO TÓX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S DISEEMINADOS QUE CAPTAN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RECIÓN AUTÓNOMA DE T3 – 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MÁS FRECUENTE EN EDAD AVANZ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105520" y="2819520"/>
              <a:ext cx="251460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9360" y="5987880"/>
              <a:ext cx="61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MAYOR FRECUENCIA  JUNTO A ENFERMEDAD DE GR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1071720" y="609480"/>
            <a:ext cx="174780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1720" y="609480"/>
                      <a:ext cx="174780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508720" y="533520"/>
            <a:ext cx="1806480" cy="21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8720" y="533520"/>
                      <a:ext cx="180648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990720" y="60948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533520"/>
              <a:ext cx="228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16720" y="304920"/>
            <a:ext cx="8910360" cy="6019560"/>
            <a:chOff x="216720" y="304920"/>
            <a:chExt cx="8910360" cy="6019560"/>
          </a:xfrm>
        </p:grpSpPr>
        <p:sp>
          <p:nvSpPr>
            <p:cNvPr id="153" name=""/>
            <p:cNvSpPr/>
            <p:nvPr/>
          </p:nvSpPr>
          <p:spPr>
            <a:xfrm>
              <a:off x="1755000" y="304920"/>
              <a:ext cx="537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LIBERACIÓN EXCESIVA DE HORMONAS TIROÍD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63880" y="1407960"/>
              <a:ext cx="526320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ACCIÓN INFLAMATO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ONDARIA A INFECCIÓN DE VÍAS RESPIRATOTIAS SUPERI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LINFOCITOS T CITOTÓXICOS LESIONAN CÉLULAS FOLICU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GIÓN GLANDULAR DURA Y ADO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ASE AGUDA: TSH BAJA Y T3-T4 AL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O HAY CAPTACIÓN DE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EVOLUCIONA DE  HIPER A HIPOTIROID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SOLUCIÓN ESPONTÁN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 PRESENTA ENTRE LOS 30 A 5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FECTA MÁS A MUJE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UTOINMUNITARIA (HAPLOTIPOS HLA-DR3 Y –DR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ALLAZGOS DE LABORATORIO Y EVOLUCIÓN SIMILARE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TIROIDITIS GRNULOMATO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INDOL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 EN PUERPE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6720" y="4506840"/>
              <a:ext cx="303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3-T4 LIBERADOS POR L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E LAS CÉLULAS FOLICU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62120" y="838080"/>
              <a:ext cx="2181240" cy="3267360"/>
              <a:chOff x="762120" y="838080"/>
              <a:chExt cx="2181240" cy="326736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762120" y="838080"/>
              <a:ext cx="2181240" cy="3267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2120" y="838080"/>
                        <a:ext cx="2181240" cy="326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>
                <a:off x="762120" y="9144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2438280" y="2437920"/>
              <a:ext cx="12956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71800" y="39625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1219320"/>
              <a:ext cx="51354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029200"/>
              <a:ext cx="4876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783800" y="228600"/>
            <a:ext cx="5680800" cy="5027760"/>
            <a:chOff x="1783800" y="228600"/>
            <a:chExt cx="5680800" cy="5027760"/>
          </a:xfrm>
        </p:grpSpPr>
        <p:sp>
          <p:nvSpPr>
            <p:cNvPr id="165" name=""/>
            <p:cNvSpPr/>
            <p:nvPr/>
          </p:nvSpPr>
          <p:spPr>
            <a:xfrm>
              <a:off x="2824560" y="228600"/>
              <a:ext cx="31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cc"/>
                  </a:solidFill>
                  <a:latin typeface="Times New Roman"/>
                </a:rPr>
                <a:t>TIROTOXICOSIS  FICTI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83800" y="4432320"/>
              <a:ext cx="5680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FARMACOLÓG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CAPTACIÓN DE RADIOYODO SUPRIM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TSH SUPRIMIDA Y ATROFIA GLANDULAR BILOB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2911320" y="990720"/>
            <a:ext cx="2346480" cy="31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1320" y="990720"/>
                      <a:ext cx="234648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2971800" y="990720"/>
              <a:ext cx="30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16200" y="595440"/>
            <a:ext cx="60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FUENTES  EXTRAGLANDULARES DE HORMONA TIROÍD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320" y="4416480"/>
            <a:ext cx="8629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MUY RAROS (SOLO AQUELLOS CARCINOMAS FOLICULARES BIEN DIFERENCI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 ALGUNOS TERATOMAS OVÁRI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EL CUELLO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LA PELVIS O EN PULMÓN ELE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TS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257800" y="1066680"/>
            <a:ext cx="2409840" cy="3181320"/>
            <a:chOff x="5257800" y="1066680"/>
            <a:chExt cx="2409840" cy="3181320"/>
          </a:xfrm>
        </p:grpSpPr>
        <p:graphicFrame>
          <p:nvGraphicFramePr>
            <p:cNvPr id="173" name=""/>
            <p:cNvGraphicFramePr/>
            <p:nvPr/>
          </p:nvGraphicFramePr>
          <p:xfrm>
            <a:off x="5257800" y="1066680"/>
            <a:ext cx="2409840" cy="318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1066680"/>
                      <a:ext cx="2409840" cy="318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5257800" y="1066680"/>
              <a:ext cx="3049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1752480" y="1066680"/>
          <a:ext cx="2152800" cy="31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066680"/>
                    <a:ext cx="21528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066680" y="54864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11430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70160" y="747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0000" y="838080"/>
            <a:ext cx="48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CUENCIAS DEL HIPOTIROID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773360"/>
          <a:ext cx="8259840" cy="434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259840" cy="43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2492280" cy="5203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266920" cy="5329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16520" y="2890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ETI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7000" y="1306440"/>
            <a:ext cx="3830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1/4000 NA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TRASO 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LTERACIONES ESQUELÉ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ENAN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RA TOS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CROGLOSIA Y PROTRUSIÓN LEN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ERNIA 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LLANTO RO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101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416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67200" y="1649520"/>
            <a:ext cx="3008160" cy="4425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56600" y="5475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XED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914400"/>
            <a:ext cx="8597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954080"/>
            <a:ext cx="6629400" cy="444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0120" y="65088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 UNIDAD FUNCIONAL DE LA GLÁN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IROIDES: EL FOLÍCULO TIROÍ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057320"/>
            <a:ext cx="79246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073400" cy="5894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748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52280"/>
            <a:ext cx="375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ponente gené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5960" y="414504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, peroxid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80080" y="13824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IROIDITIS HASHIM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7160" y="1281240"/>
            <a:ext cx="38764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-60% de los hipotiroidis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: 45 - 65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 en mujeres (10: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indol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érdida gradual de función con TSH elev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uede asociarse con lupus eritematoso y artrit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9840" y="101448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476360" y="620640"/>
          <a:ext cx="6467400" cy="544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20640"/>
                    <a:ext cx="646740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09640" y="385920"/>
            <a:ext cx="5724720" cy="6167160"/>
            <a:chOff x="1709640" y="385920"/>
            <a:chExt cx="5724720" cy="61671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709640" y="385920"/>
              <a:ext cx="5724720" cy="60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828800" y="3352680"/>
              <a:ext cx="3657600" cy="32004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48520" y="152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S HORMONAS TIROÍDEAS Y SUS 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28680" y="900000"/>
            <a:ext cx="6010200" cy="54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7040" y="3049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3320" y="685800"/>
            <a:ext cx="533736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07680" y="601992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anol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6483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9920" y="46846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8092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3886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6640" y="-3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2280" y="15228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380880"/>
            <a:ext cx="8686800" cy="4946400"/>
            <a:chOff x="228600" y="380880"/>
            <a:chExt cx="8686800" cy="4946400"/>
          </a:xfrm>
        </p:grpSpPr>
        <p:sp>
          <p:nvSpPr>
            <p:cNvPr id="68" name=""/>
            <p:cNvSpPr/>
            <p:nvPr/>
          </p:nvSpPr>
          <p:spPr>
            <a:xfrm>
              <a:off x="228600" y="1273320"/>
              <a:ext cx="86868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97% UNIDA A PROTEÍNAS (75%TBG, 20%TBPA, 5% ALBÚMINA)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00% T4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03% LIBRE = ACTIV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TIROIDES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7% UNIDA A PROTEÍNA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8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3% LIBRE: 3 – 4 VECES MÁS POTENTE QUE T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’DESYODINASA O TIPO 1(40%)             T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DESYODINACIÓN PERIFÉRICA (HÍGAD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 DESYODINASA O TIPO 2 (60%)              rT3 (INACTIVA)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6680" y="25686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143000" y="19591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720" y="1349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2720880"/>
              <a:ext cx="152280" cy="1143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219320" y="3558960"/>
              <a:ext cx="609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33920" y="43210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3080" y="4397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74440" y="380880"/>
              <a:ext cx="50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ORIGEN DE T3/T4 CIRCUL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832720" cy="486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4000" y="83808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MECANISMO DE ACCIÓN SOBRE CÉLULAS 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4473720" cy="54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3120" y="304920"/>
            <a:ext cx="70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L EJE HIPOTÁLAMO – HIPÓFISIS – TI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6:40:49Z</dcterms:created>
  <dc:creator>usuario</dc:creator>
  <dc:description/>
  <dc:language>en-US</dc:language>
  <cp:lastModifiedBy>ines</cp:lastModifiedBy>
  <dcterms:modified xsi:type="dcterms:W3CDTF">2005-08-30T19:07:22Z</dcterms:modified>
  <cp:revision>18</cp:revision>
  <dc:subject/>
  <dc:title>Presentación de PowerPoint</dc:title>
</cp:coreProperties>
</file>