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95A0-DF75-45E2-95EF-D49FA127380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1BE-4BAA-420F-B943-9B81F750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C6F-08A0-4B55-9AFE-56CB132A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776-6B72-4AF1-882D-8702774B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A27-2F83-41AE-BF56-8D60ADF9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19F-1620-45F3-AE87-268E86AA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EF0-3422-4060-9A98-F4B863DC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953-1213-468E-B021-CDBA6F9B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AD9-D4DD-4A59-A8BA-095AE60B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512-464B-4437-B67D-1DCA95E7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1B8-EE86-402D-8964-3C729685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040-EE88-4230-86F9-D7BC90B1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ACD-9B9D-4616-B1BE-2C39A17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572C-109B-4B85-98DF-C34D7F38B5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3640" y="2827440"/>
            <a:ext cx="542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Inmunidad Innata</a:t>
            </a:r>
            <a:r>
              <a:rPr b="1" lang="es-E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1008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12880" y="2971800"/>
            <a:ext cx="65181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440" y="216000"/>
            <a:ext cx="834372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57720" y="4699080"/>
            <a:ext cx="629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Marcela Hermoso Ramello, Ph.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Programa Disciplinario de Inmunolo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Macrófag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6080" y="1641600"/>
            <a:ext cx="6813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élulas sentinelas de larga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Fagocitan invasores extraños para su de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Se distribuyen en tejido conectivo asociad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tejidos superficiales, hígado y baz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Reconocimiento de patógenos a través de recep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 y de manosa y el sistema del comple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89320" y="4467240"/>
            <a:ext cx="25272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25000" y="1464120"/>
            <a:ext cx="662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Tienen una vida media corta de horas y se produ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iariamente en gran número en la médula ó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8320" y="36612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Neutr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2813040"/>
            <a:ext cx="8610480" cy="3340080"/>
            <a:chOff x="343080" y="2813040"/>
            <a:chExt cx="8610480" cy="3340080"/>
          </a:xfrm>
        </p:grpSpPr>
        <p:grpSp>
          <p:nvGrpSpPr>
            <p:cNvPr id="150" name=""/>
            <p:cNvGrpSpPr/>
            <p:nvPr/>
          </p:nvGrpSpPr>
          <p:grpSpPr>
            <a:xfrm>
              <a:off x="343080" y="2813040"/>
              <a:ext cx="8610480" cy="3340080"/>
              <a:chOff x="343080" y="2813040"/>
              <a:chExt cx="8610480" cy="3340080"/>
            </a:xfrm>
          </p:grpSpPr>
          <p:pic>
            <p:nvPicPr>
              <p:cNvPr id="1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240" y="2813040"/>
                <a:ext cx="8599320" cy="33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343080" y="2819520"/>
                <a:ext cx="1143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019920" y="5842080"/>
              <a:ext cx="29210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48640" y="765720"/>
            <a:ext cx="79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os neutrófilos migran a través de la circulación al siti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infección en respuesta a la liberación de IL-8 por los macrófag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46040" y="1911240"/>
            <a:ext cx="6527880" cy="4743720"/>
            <a:chOff x="1346040" y="1911240"/>
            <a:chExt cx="6527880" cy="47437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370160" y="1911240"/>
              <a:ext cx="6503760" cy="47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346040" y="1917720"/>
              <a:ext cx="101628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75320" y="6426360"/>
              <a:ext cx="2260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37440" y="2403720"/>
            <a:ext cx="7497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infocitos citotóxicos que no expresan TCR o I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Producidas en la médula ósea, liberados a la 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y migran al tejido conectivo circundante de las superfici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órg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Atacar y destruir células infectadas  por viru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reducir la propagación de la inf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79812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</a:t>
            </a:r>
            <a:r>
              <a:rPr b="0" lang="es-MX" sz="3200" spc="-1" strike="noStrike">
                <a:solidFill>
                  <a:srgbClr val="ffff00"/>
                </a:solidFill>
                <a:latin typeface="Verdana"/>
              </a:rPr>
              <a:t> 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54160" y="1650960"/>
            <a:ext cx="8572320" cy="5181480"/>
            <a:chOff x="254160" y="1650960"/>
            <a:chExt cx="8572320" cy="5181480"/>
          </a:xfrm>
        </p:grpSpPr>
        <p:grpSp>
          <p:nvGrpSpPr>
            <p:cNvPr id="162" name=""/>
            <p:cNvGrpSpPr/>
            <p:nvPr/>
          </p:nvGrpSpPr>
          <p:grpSpPr>
            <a:xfrm>
              <a:off x="254160" y="1650960"/>
              <a:ext cx="8572320" cy="5181480"/>
              <a:chOff x="254160" y="1650960"/>
              <a:chExt cx="8572320" cy="51814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254160" y="1650960"/>
                <a:ext cx="8572320" cy="5181480"/>
                <a:chOff x="254160" y="1650960"/>
                <a:chExt cx="8572320" cy="5181480"/>
              </a:xfrm>
            </p:grpSpPr>
            <p:pic>
              <p:nvPicPr>
                <p:cNvPr id="16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7000" y="1681200"/>
                  <a:ext cx="8523360" cy="514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>
                  <a:off x="254160" y="1650960"/>
                  <a:ext cx="110484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18400" y="6578640"/>
                  <a:ext cx="2908080" cy="25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266760" y="1994040"/>
                <a:ext cx="4216320" cy="88884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Virus y bacterias inducen la producció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de IL-12 por DCs. IL-12 activa a la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células NK las que producen INF-</a:t>
                </a:r>
                <a:r>
                  <a:rPr b="1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686480" y="1994040"/>
              <a:ext cx="4076640" cy="9396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Las células T vírgenes se activan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respuesta a IL-12 e INF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65560" y="303840"/>
            <a:ext cx="75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protegen al huésped contra la infección de bacte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(tuberculosis o lepra). Las NK responden a la liberaci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IL-12 e IL-18 por MCFs y liberan IFN</a:t>
            </a:r>
            <a:r>
              <a:rPr b="0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, una citoquina de ayu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que activa mecanismos antibacteria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08080" y="110160"/>
            <a:ext cx="73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Mecanismos de acción de las 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1: Tienen receptores Fc y reconocen anticuerpos específ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unidos a células infectadas y las destruy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2: reconocen y destruyen células infectadas por vi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con menor expresión de MHC clas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16040" y="1727280"/>
            <a:ext cx="7710480" cy="5130360"/>
            <a:chOff x="716040" y="1727280"/>
            <a:chExt cx="7710480" cy="51303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716040" y="1746720"/>
              <a:ext cx="7710480" cy="51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2880" y="1727280"/>
              <a:ext cx="917280" cy="19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5160" y="6668640"/>
              <a:ext cx="2584440" cy="16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00040" y="1274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17560" y="1206360"/>
            <a:ext cx="7583400" cy="4368960"/>
            <a:chOff x="817560" y="1206360"/>
            <a:chExt cx="7583400" cy="4368960"/>
          </a:xfrm>
        </p:grpSpPr>
        <p:grpSp>
          <p:nvGrpSpPr>
            <p:cNvPr id="177" name=""/>
            <p:cNvGrpSpPr/>
            <p:nvPr/>
          </p:nvGrpSpPr>
          <p:grpSpPr>
            <a:xfrm>
              <a:off x="817560" y="1220760"/>
              <a:ext cx="7583400" cy="4354560"/>
              <a:chOff x="817560" y="1220760"/>
              <a:chExt cx="7583400" cy="4354560"/>
            </a:xfrm>
          </p:grpSpPr>
          <p:pic>
            <p:nvPicPr>
              <p:cNvPr id="1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17560" y="1220760"/>
                <a:ext cx="7583400" cy="43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825480" y="1231920"/>
                <a:ext cx="990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29120" y="5371920"/>
                <a:ext cx="2565720" cy="20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416400" y="1206360"/>
              <a:ext cx="2374920" cy="5590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élula infec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on vir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5640" y="1959480"/>
            <a:ext cx="797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destruyen las células blanco liberando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y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granzim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que ingresa a la célula a través de los po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generados por la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e induce la muerte celular apoptó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386000" y="1866960"/>
          <a:ext cx="63291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1866960"/>
                    <a:ext cx="63291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Efectos antivirales de citoqu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18200" y="1946520"/>
            <a:ext cx="8140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aptan, procesan y presentan los remanentes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patógeno al nodo linfático local, donde presentan pép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el patógeno a células T vírgenes, generando linfocitos T efe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s CDs unen la inmunidad innata con la adqui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5360" y="798120"/>
            <a:ext cx="42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 dendrí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38080" y="38088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ación del sistema Inmune In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64600" y="1549440"/>
            <a:ext cx="5125680" cy="4472640"/>
            <a:chOff x="2064600" y="1549440"/>
            <a:chExt cx="5125680" cy="4472640"/>
          </a:xfrm>
        </p:grpSpPr>
        <p:sp>
          <p:nvSpPr>
            <p:cNvPr id="55" name=""/>
            <p:cNvSpPr/>
            <p:nvPr/>
          </p:nvSpPr>
          <p:spPr>
            <a:xfrm flipV="1">
              <a:off x="2971800" y="39621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200400" y="44193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43434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4800" y="49528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3400" y="48751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47242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4876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252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760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5720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715000" y="4266720"/>
              <a:ext cx="7621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3720" y="1752480"/>
              <a:ext cx="4038480" cy="1473480"/>
            </a:xfrm>
            <a:custGeom>
              <a:avLst/>
              <a:gdLst/>
              <a:ahLst/>
              <a:rect l="l" t="t" r="r" b="b"/>
              <a:pathLst>
                <a:path w="2544" h="928">
                  <a:moveTo>
                    <a:pt x="0" y="864"/>
                  </a:moveTo>
                  <a:cubicBezTo>
                    <a:pt x="132" y="896"/>
                    <a:pt x="264" y="928"/>
                    <a:pt x="384" y="912"/>
                  </a:cubicBezTo>
                  <a:cubicBezTo>
                    <a:pt x="504" y="896"/>
                    <a:pt x="584" y="856"/>
                    <a:pt x="720" y="768"/>
                  </a:cubicBezTo>
                  <a:cubicBezTo>
                    <a:pt x="856" y="680"/>
                    <a:pt x="1056" y="464"/>
                    <a:pt x="1200" y="384"/>
                  </a:cubicBezTo>
                  <a:cubicBezTo>
                    <a:pt x="1344" y="304"/>
                    <a:pt x="1432" y="304"/>
                    <a:pt x="1584" y="288"/>
                  </a:cubicBezTo>
                  <a:cubicBezTo>
                    <a:pt x="1736" y="272"/>
                    <a:pt x="1952" y="336"/>
                    <a:pt x="2112" y="288"/>
                  </a:cubicBezTo>
                  <a:cubicBezTo>
                    <a:pt x="2272" y="240"/>
                    <a:pt x="2472" y="48"/>
                    <a:pt x="25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505320" y="3276720"/>
              <a:ext cx="380880" cy="457200"/>
              <a:chOff x="3505320" y="3276720"/>
              <a:chExt cx="380880" cy="457200"/>
            </a:xfrm>
          </p:grpSpPr>
          <p:sp>
            <p:nvSpPr>
              <p:cNvPr id="68" name=""/>
              <p:cNvSpPr/>
              <p:nvPr/>
            </p:nvSpPr>
            <p:spPr>
              <a:xfrm>
                <a:off x="3505320" y="3276720"/>
                <a:ext cx="38088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19440" y="3391200"/>
                <a:ext cx="15192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267080" y="38862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44360" y="3858480"/>
              <a:ext cx="36036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295880" y="3349800"/>
              <a:ext cx="18720" cy="46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84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911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197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340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3200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3048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57164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33920" y="2057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220968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16765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3526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268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40384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10080" y="2971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181120" y="32767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6840" y="1549440"/>
              <a:ext cx="91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icro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70640" y="231156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Pi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17960" y="3301920"/>
              <a:ext cx="137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Comple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64600" y="388620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acróf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3800" y="571500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eutrófi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73720" y="5029200"/>
              <a:ext cx="150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Vaso sanguín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54960" y="1676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54960" y="3352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 gatilla la Inmunidad Adapt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4760" y="1628640"/>
            <a:ext cx="85550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81120"/>
            <a:ext cx="7925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atógenos son especialmente procariontes, y tienen estructura molecular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son compartidos con su hués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compartidos por varios patógenos 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relativamente invariables, no evolucionan rápidamente (a diferencia de moléculas de patógenos como hemaglutinina y neuraminidasa de virus influenz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9960" y="1676520"/>
            <a:ext cx="8172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agelina del flagelo bacter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ptidoglicano de bacterias gram-posi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popolisacáridos (LPS o endotoxinas) de bacterias gram-neg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N de doble cadena (algunos virus de animales y plantas tienen genoma dsARN o ARN convertido en huésped a ds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N no metilado (varias de las islas CpG presentan adosados grupos meti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360" y="240048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léculas secretadas que circulan en sangre y lin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de células fagocíticas como macrófagos que unen al patógeno y lo rod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celular que unen al patógeno iniciando una señal que provoca la liberación de moléculas efectoras (citoqui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95360" y="246384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 f-Met-Leu-Phe (une péptidos N-formil, y atrae neutrófi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es scavenger: 6 tipos con diferente especificidad (reconocen polímeros aniónicos y lipoproteínas de baja-densidad acetilad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D14 (receptor presente en la superficie de pagocitos que facilitan el reconocimiento de L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1600" y="855720"/>
            <a:ext cx="8458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1. PRRs secre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6542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oteínas circulantes que unen residuos de manosa presentes en la superficie de patógenos. La interacción gatilla el clivaje de componentes del comp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52960" y="3790800"/>
            <a:ext cx="2409480" cy="2324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66840" y="1424160"/>
            <a:ext cx="6326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33640" y="95400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67840" y="2289240"/>
            <a:ext cx="666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Opsonización por C3b se dirige a partículas forán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y las fagocita en el sitio del 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Quimiotaxis por C5a atrae células fagocíticas al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 la inju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Aumento de la permeabilidad vascular mediado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3a y C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6280" y="2314800"/>
            <a:ext cx="702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Componentes tempranos del C´solubilizan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c-Ag favoreciendo su catabolismo y elimin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alteraciones promueve trastornos de complejos inmu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Lisis de células cubiertas por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fermedad R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nemia hem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Promover formación de anticuerpos, C3d aumenta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 reconocimiento por células dendríticas y linfocito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95480" y="58536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2. Receptores fagocí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6720" y="24192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* Receptor de manos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esentes en la superficie celular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el macróf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* Receptores que reconocen ciertos PAMPs (aquellos que contienen manos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20560" y="520560"/>
            <a:ext cx="7632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y 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describieron dos sistemas separados por el cual el huésped previene la infecció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</a:t>
            </a:r>
            <a:r>
              <a:rPr b="1" i="1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as ‘</a:t>
            </a:r>
            <a:r>
              <a:rPr b="0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toxinas’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(</a:t>
            </a:r>
            <a:r>
              <a:rPr b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cuerpos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adapta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xclusiva de vertebrad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os fagocit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stas células fueron inicialmente identificadas en invertebrados (equinodermos) y están representadas en casi todos los organismos.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452840" y="0"/>
            <a:ext cx="383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20240" y="143640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Recept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de mano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32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3. Receptores tipo Toll (T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6720" y="20574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crófagos, Células dendríticas y células Epiteliales presentan un set de receptores de transmemebrana que reconocen diversos PAM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60440" y="4133880"/>
            <a:ext cx="4594320" cy="19368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60440" y="3870360"/>
            <a:ext cx="4594320" cy="26352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2943360" y="2725560"/>
            <a:ext cx="205560" cy="2552040"/>
            <a:chOff x="2943360" y="2725560"/>
            <a:chExt cx="205560" cy="2552040"/>
          </a:xfrm>
        </p:grpSpPr>
        <p:sp>
          <p:nvSpPr>
            <p:cNvPr id="215" name=""/>
            <p:cNvSpPr/>
            <p:nvPr/>
          </p:nvSpPr>
          <p:spPr>
            <a:xfrm>
              <a:off x="2949120" y="2725560"/>
              <a:ext cx="188640" cy="16063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49120" y="4155120"/>
              <a:ext cx="188640" cy="92484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924840"/>
                <a:gd name="textAreaBottom" fmla="*/ 915840 h 924840"/>
              </a:gdLst>
              <a:ahLst/>
              <a:rect l="textAreaLeft" t="textAreaTop" r="textAreaRight" b="textAreaBottom"/>
              <a:pathLst>
                <a:path w="21600" h="105737">
                  <a:moveTo>
                    <a:pt x="3600" y="0"/>
                  </a:moveTo>
                  <a:arcTo wR="3600" hR="3600" stAng="16200000" swAng="-5400000"/>
                  <a:lnTo>
                    <a:pt x="0" y="102137"/>
                  </a:lnTo>
                  <a:arcTo wR="3600" hR="3600" stAng="10800000" swAng="-5400000"/>
                  <a:lnTo>
                    <a:pt x="18000" y="1057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49120" y="3895920"/>
              <a:ext cx="199800" cy="272160"/>
            </a:xfrm>
            <a:custGeom>
              <a:avLst/>
              <a:gdLst>
                <a:gd name="textAreaLeft" fmla="*/ 9720 w 199800"/>
                <a:gd name="textAreaRight" fmla="*/ 190080 w 199800"/>
                <a:gd name="textAreaTop" fmla="*/ 9720 h 272160"/>
                <a:gd name="textAreaBottom" fmla="*/ 262440 h 272160"/>
              </a:gdLst>
              <a:ahLst/>
              <a:rect l="textAreaLeft" t="textAreaTop" r="textAreaRight" b="textAreaBottom"/>
              <a:pathLst>
                <a:path w="21600" h="29409">
                  <a:moveTo>
                    <a:pt x="3600" y="0"/>
                  </a:moveTo>
                  <a:arcTo wR="3600" hR="3600" stAng="16200000" swAng="-5400000"/>
                  <a:lnTo>
                    <a:pt x="0" y="25809"/>
                  </a:lnTo>
                  <a:arcTo wR="3600" hR="3600" stAng="10800000" swAng="-5400000"/>
                  <a:lnTo>
                    <a:pt x="18000" y="294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2984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73240" y="3202200"/>
              <a:ext cx="14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43360" y="339264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3360" y="35557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43360" y="3719160"/>
              <a:ext cx="1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52360" y="5087160"/>
              <a:ext cx="175680" cy="190440"/>
            </a:xfrm>
            <a:prstGeom prst="flowChartAlternateProcess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462560" y="2197080"/>
            <a:ext cx="190440" cy="18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62560" y="4137120"/>
            <a:ext cx="209520" cy="931680"/>
          </a:xfrm>
          <a:custGeom>
            <a:avLst/>
            <a:gdLst>
              <a:gd name="textAreaLeft" fmla="*/ 10080 w 209520"/>
              <a:gd name="textAreaRight" fmla="*/ 199440 w 209520"/>
              <a:gd name="textAreaTop" fmla="*/ 10080 h 931680"/>
              <a:gd name="textAreaBottom" fmla="*/ 921600 h 931680"/>
            </a:gdLst>
            <a:ahLst/>
            <a:rect l="textAreaLeft" t="textAreaTop" r="textAreaRight" b="textAreaBottom"/>
            <a:pathLst>
              <a:path w="21600" h="95922">
                <a:moveTo>
                  <a:pt x="3600" y="0"/>
                </a:moveTo>
                <a:arcTo wR="3600" hR="3600" stAng="16200000" swAng="-5400000"/>
                <a:lnTo>
                  <a:pt x="0" y="92322"/>
                </a:lnTo>
                <a:arcTo wR="3600" hR="3600" stAng="10800000" swAng="-5400000"/>
                <a:lnTo>
                  <a:pt x="18000" y="95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62560" y="3887640"/>
            <a:ext cx="199800" cy="254160"/>
          </a:xfrm>
          <a:custGeom>
            <a:avLst/>
            <a:gdLst>
              <a:gd name="textAreaLeft" fmla="*/ 9720 w 199800"/>
              <a:gd name="textAreaRight" fmla="*/ 190080 w 19980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66">
                <a:moveTo>
                  <a:pt x="3600" y="0"/>
                </a:moveTo>
                <a:arcTo wR="3600" hR="3600" stAng="16200000" swAng="-5400000"/>
                <a:lnTo>
                  <a:pt x="0" y="23866"/>
                </a:lnTo>
                <a:arcTo wR="3600" hR="3600" stAng="10800000" swAng="-5400000"/>
                <a:lnTo>
                  <a:pt x="18000" y="27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6320" y="250020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2755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56080" y="2978280"/>
            <a:ext cx="1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56080" y="31719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56080" y="33624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65800" y="5075280"/>
            <a:ext cx="176040" cy="18396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56080" y="3429000"/>
            <a:ext cx="20628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56080" y="356724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5264280"/>
            <a:ext cx="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73880" y="23288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4880" y="268092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89840" y="1792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59400" y="215244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81200" y="5423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67040" y="528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4880" y="5278320"/>
            <a:ext cx="0" cy="4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09560" y="20685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7000" y="14590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D. melanog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793480" y="349884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788800" y="3159000"/>
            <a:ext cx="196920" cy="28440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88800" y="282420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92840" y="4118040"/>
            <a:ext cx="190440" cy="9316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931680"/>
              <a:gd name="textAreaBottom" fmla="*/ 922680 h 931680"/>
            </a:gdLst>
            <a:ahLst/>
            <a:rect l="textAreaLeft" t="textAreaTop" r="textAreaRight" b="textAreaBottom"/>
            <a:pathLst>
              <a:path w="21600" h="105514">
                <a:moveTo>
                  <a:pt x="3600" y="0"/>
                </a:moveTo>
                <a:arcTo wR="3600" hR="3600" stAng="16200000" swAng="-5400000"/>
                <a:lnTo>
                  <a:pt x="0" y="101914"/>
                </a:lnTo>
                <a:arcTo wR="3600" hR="3600" stAng="10800000" swAng="-5400000"/>
                <a:lnTo>
                  <a:pt x="18000" y="1055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92840" y="3867120"/>
            <a:ext cx="200160" cy="254160"/>
          </a:xfrm>
          <a:custGeom>
            <a:avLst/>
            <a:gdLst>
              <a:gd name="textAreaLeft" fmla="*/ 9720 w 200160"/>
              <a:gd name="textAreaRight" fmla="*/ 190440 w 20016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17">
                <a:moveTo>
                  <a:pt x="3600" y="0"/>
                </a:moveTo>
                <a:arcTo wR="3600" hR="3600" stAng="16200000" swAng="-5400000"/>
                <a:lnTo>
                  <a:pt x="0" y="23817"/>
                </a:lnTo>
                <a:arcTo wR="3600" hR="3600" stAng="10800000" swAng="-5400000"/>
                <a:lnTo>
                  <a:pt x="18000" y="27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94280" y="5054760"/>
            <a:ext cx="193680" cy="185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976720" y="2687400"/>
            <a:ext cx="14040" cy="11746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19760" y="5221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997600" y="524160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3560" y="2341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26920" y="175896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Verteb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IL1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2280" y="55594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L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81480" y="5713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58520" y="379440"/>
            <a:ext cx="53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Receptores tipo T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4048200"/>
            <a:ext cx="8591400" cy="24289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3718080"/>
            <a:ext cx="8591400" cy="33012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5425920" y="2629080"/>
            <a:ext cx="177480" cy="2473920"/>
            <a:chOff x="5425920" y="2629080"/>
            <a:chExt cx="177480" cy="2473920"/>
          </a:xfrm>
        </p:grpSpPr>
        <p:sp>
          <p:nvSpPr>
            <p:cNvPr id="262" name=""/>
            <p:cNvSpPr/>
            <p:nvPr/>
          </p:nvSpPr>
          <p:spPr>
            <a:xfrm>
              <a:off x="5430960" y="26290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0960" y="4014000"/>
              <a:ext cx="162000" cy="89748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447">
                  <a:moveTo>
                    <a:pt x="3600" y="0"/>
                  </a:moveTo>
                  <a:arcTo wR="3600" hR="3600" stAng="16200000" swAng="-5400000"/>
                  <a:lnTo>
                    <a:pt x="0" y="115847"/>
                  </a:lnTo>
                  <a:arcTo wR="3600" hR="3600" stAng="10800000" swAng="-5400000"/>
                  <a:lnTo>
                    <a:pt x="18000" y="119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30960" y="3763440"/>
              <a:ext cx="172440" cy="26388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30">
                  <a:moveTo>
                    <a:pt x="3600" y="0"/>
                  </a:moveTo>
                  <a:arcTo wR="3600" hR="3600" stAng="16200000" swAng="-5400000"/>
                  <a:lnTo>
                    <a:pt x="0" y="29430"/>
                  </a:lnTo>
                  <a:arcTo wR="3600" hR="3600" stAng="10800000" swAng="-5400000"/>
                  <a:lnTo>
                    <a:pt x="18000" y="330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51120" y="287964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1120" y="309096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25920" y="327600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25920" y="343368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25920" y="3592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33840" y="4918320"/>
              <a:ext cx="151560" cy="184680"/>
            </a:xfrm>
            <a:prstGeom prst="flowChartAlternate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964640" y="2641680"/>
            <a:ext cx="177120" cy="2475720"/>
            <a:chOff x="7964640" y="2641680"/>
            <a:chExt cx="177120" cy="2475720"/>
          </a:xfrm>
        </p:grpSpPr>
        <p:sp>
          <p:nvSpPr>
            <p:cNvPr id="272" name=""/>
            <p:cNvSpPr/>
            <p:nvPr/>
          </p:nvSpPr>
          <p:spPr>
            <a:xfrm>
              <a:off x="7969680" y="2641680"/>
              <a:ext cx="161640" cy="1558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69680" y="4028400"/>
              <a:ext cx="161640" cy="897120"/>
            </a:xfrm>
            <a:custGeom>
              <a:avLst/>
              <a:gdLst>
                <a:gd name="textAreaLeft" fmla="*/ 7560 w 161640"/>
                <a:gd name="textAreaRight" fmla="*/ 154080 w 161640"/>
                <a:gd name="textAreaTop" fmla="*/ 7560 h 897120"/>
                <a:gd name="textAreaBottom" fmla="*/ 889560 h 897120"/>
              </a:gdLst>
              <a:ahLst/>
              <a:rect l="textAreaLeft" t="textAreaTop" r="textAreaRight" b="textAreaBottom"/>
              <a:pathLst>
                <a:path w="21600" h="119664">
                  <a:moveTo>
                    <a:pt x="3600" y="0"/>
                  </a:moveTo>
                  <a:arcTo wR="3600" hR="3600" stAng="16200000" swAng="-5400000"/>
                  <a:lnTo>
                    <a:pt x="0" y="116064"/>
                  </a:lnTo>
                  <a:arcTo wR="3600" hR="3600" stAng="10800000" swAng="-5400000"/>
                  <a:lnTo>
                    <a:pt x="18000" y="1196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69680" y="377712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89840" y="2892960"/>
              <a:ext cx="1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89840" y="3103920"/>
              <a:ext cx="12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64640" y="32889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4640" y="34470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64640" y="36054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71840" y="4932720"/>
              <a:ext cx="151920" cy="18468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11160" y="2629080"/>
            <a:ext cx="351720" cy="2473200"/>
            <a:chOff x="911160" y="2629080"/>
            <a:chExt cx="351720" cy="2473200"/>
          </a:xfrm>
        </p:grpSpPr>
        <p:grpSp>
          <p:nvGrpSpPr>
            <p:cNvPr id="282" name=""/>
            <p:cNvGrpSpPr/>
            <p:nvPr/>
          </p:nvGrpSpPr>
          <p:grpSpPr>
            <a:xfrm>
              <a:off x="911160" y="2629080"/>
              <a:ext cx="177120" cy="2473200"/>
              <a:chOff x="911160" y="2629080"/>
              <a:chExt cx="177120" cy="2473200"/>
            </a:xfrm>
          </p:grpSpPr>
          <p:sp>
            <p:nvSpPr>
              <p:cNvPr id="283" name=""/>
              <p:cNvSpPr/>
              <p:nvPr/>
            </p:nvSpPr>
            <p:spPr>
              <a:xfrm>
                <a:off x="916200" y="2629080"/>
                <a:ext cx="161640" cy="15570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16200" y="4014000"/>
                <a:ext cx="161640" cy="897480"/>
              </a:xfrm>
              <a:custGeom>
                <a:avLst/>
                <a:gdLst>
                  <a:gd name="textAreaLeft" fmla="*/ 7560 w 161640"/>
                  <a:gd name="textAreaRight" fmla="*/ 154080 w 161640"/>
                  <a:gd name="textAreaTop" fmla="*/ 7560 h 897480"/>
                  <a:gd name="textAreaBottom" fmla="*/ 889920 h 897480"/>
                </a:gdLst>
                <a:ahLst/>
                <a:rect l="textAreaLeft" t="textAreaTop" r="textAreaRight" b="textAreaBottom"/>
                <a:pathLst>
                  <a:path w="21600" h="119712">
                    <a:moveTo>
                      <a:pt x="3600" y="0"/>
                    </a:moveTo>
                    <a:arcTo wR="3600" hR="3600" stAng="16200000" swAng="-5400000"/>
                    <a:lnTo>
                      <a:pt x="0" y="116112"/>
                    </a:lnTo>
                    <a:arcTo wR="3600" hR="3600" stAng="10800000" swAng="-5400000"/>
                    <a:lnTo>
                      <a:pt x="18000" y="119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16200" y="376344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36360" y="2879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36360" y="30902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11160" y="3275280"/>
                <a:ext cx="1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1160" y="343368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1160" y="359244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8360" y="4917600"/>
                <a:ext cx="151920" cy="1846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085760" y="2629080"/>
              <a:ext cx="177120" cy="2473200"/>
              <a:chOff x="1085760" y="2629080"/>
              <a:chExt cx="177120" cy="2473200"/>
            </a:xfrm>
          </p:grpSpPr>
          <p:sp>
            <p:nvSpPr>
              <p:cNvPr id="293" name=""/>
              <p:cNvSpPr/>
              <p:nvPr/>
            </p:nvSpPr>
            <p:spPr>
              <a:xfrm>
                <a:off x="1090800" y="2629080"/>
                <a:ext cx="162000" cy="155664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90800" y="4014360"/>
                <a:ext cx="162000" cy="89640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6400"/>
                  <a:gd name="textAreaBottom" fmla="*/ 888480 h 896400"/>
                </a:gdLst>
                <a:ahLst/>
                <a:rect l="textAreaLeft" t="textAreaTop" r="textAreaRight" b="textAreaBottom"/>
                <a:pathLst>
                  <a:path w="21600" h="119303">
                    <a:moveTo>
                      <a:pt x="3600" y="0"/>
                    </a:moveTo>
                    <a:arcTo wR="3600" hR="3600" stAng="16200000" swAng="-5400000"/>
                    <a:lnTo>
                      <a:pt x="0" y="115703"/>
                    </a:lnTo>
                    <a:arcTo wR="3600" hR="3600" stAng="10800000" swAng="-5400000"/>
                    <a:lnTo>
                      <a:pt x="18000" y="1193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90800" y="376308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1320" y="288000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11320" y="309096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85760" y="327564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85760" y="343332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85760" y="35920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93680" y="49176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321480" y="3138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48840" y="32623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76640" y="2641680"/>
            <a:ext cx="351720" cy="2475720"/>
            <a:chOff x="2276640" y="2641680"/>
            <a:chExt cx="351720" cy="2475720"/>
          </a:xfrm>
        </p:grpSpPr>
        <p:sp>
          <p:nvSpPr>
            <p:cNvPr id="305" name=""/>
            <p:cNvSpPr/>
            <p:nvPr/>
          </p:nvSpPr>
          <p:spPr>
            <a:xfrm>
              <a:off x="2281680" y="2641680"/>
              <a:ext cx="162000" cy="155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1680" y="4027680"/>
              <a:ext cx="162000" cy="89820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8200"/>
                <a:gd name="textAreaBottom" fmla="*/ 890280 h 898200"/>
              </a:gdLst>
              <a:ahLst/>
              <a:rect l="textAreaLeft" t="textAreaTop" r="textAreaRight" b="textAreaBottom"/>
              <a:pathLst>
                <a:path w="21600" h="119542">
                  <a:moveTo>
                    <a:pt x="3600" y="0"/>
                  </a:moveTo>
                  <a:arcTo wR="3600" hR="3600" stAng="16200000" swAng="-5400000"/>
                  <a:lnTo>
                    <a:pt x="0" y="115942"/>
                  </a:lnTo>
                  <a:arcTo wR="3600" hR="3600" stAng="10800000" swAng="-5400000"/>
                  <a:lnTo>
                    <a:pt x="18000" y="1195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1680" y="3777120"/>
              <a:ext cx="171720" cy="263880"/>
            </a:xfrm>
            <a:custGeom>
              <a:avLst/>
              <a:gdLst>
                <a:gd name="textAreaLeft" fmla="*/ 8280 w 171720"/>
                <a:gd name="textAreaRight" fmla="*/ 163440 w 17172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168">
                  <a:moveTo>
                    <a:pt x="3600" y="0"/>
                  </a:moveTo>
                  <a:arcTo wR="3600" hR="3600" stAng="16200000" swAng="-5400000"/>
                  <a:lnTo>
                    <a:pt x="0" y="29568"/>
                  </a:lnTo>
                  <a:arcTo wR="3600" hR="3600" stAng="10800000" swAng="-5400000"/>
                  <a:lnTo>
                    <a:pt x="18000" y="33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01840" y="2892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1840" y="31039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76640" y="328896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76640" y="34470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76640" y="3605400"/>
              <a:ext cx="15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3840" y="4932720"/>
              <a:ext cx="151920" cy="184680"/>
            </a:xfrm>
            <a:prstGeom prst="flowChartAlternate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451240" y="2641680"/>
              <a:ext cx="177120" cy="2475000"/>
              <a:chOff x="2451240" y="2641680"/>
              <a:chExt cx="177120" cy="2475000"/>
            </a:xfrm>
          </p:grpSpPr>
          <p:sp>
            <p:nvSpPr>
              <p:cNvPr id="315" name=""/>
              <p:cNvSpPr/>
              <p:nvPr/>
            </p:nvSpPr>
            <p:spPr>
              <a:xfrm>
                <a:off x="2456280" y="2641680"/>
                <a:ext cx="162000" cy="15577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56280" y="4028040"/>
                <a:ext cx="162000" cy="89712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7120"/>
                  <a:gd name="textAreaBottom" fmla="*/ 889200 h 897120"/>
                </a:gdLst>
                <a:ahLst/>
                <a:rect l="textAreaLeft" t="textAreaTop" r="textAreaRight" b="textAreaBottom"/>
                <a:pathLst>
                  <a:path w="21600" h="119399">
                    <a:moveTo>
                      <a:pt x="3600" y="0"/>
                    </a:moveTo>
                    <a:arcTo wR="3600" hR="3600" stAng="16200000" swAng="-5400000"/>
                    <a:lnTo>
                      <a:pt x="0" y="115799"/>
                    </a:lnTo>
                    <a:arcTo wR="3600" hR="3600" stAng="10800000" swAng="-5400000"/>
                    <a:lnTo>
                      <a:pt x="18000" y="1193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56280" y="377676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76800" y="289296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76800" y="310392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451240" y="328860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51240" y="344664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51240" y="36054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59160" y="49320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661400" y="28908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6560" y="3152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424320" y="2614680"/>
            <a:ext cx="177480" cy="2474280"/>
            <a:chOff x="3424320" y="2614680"/>
            <a:chExt cx="177480" cy="2474280"/>
          </a:xfrm>
        </p:grpSpPr>
        <p:sp>
          <p:nvSpPr>
            <p:cNvPr id="327" name=""/>
            <p:cNvSpPr/>
            <p:nvPr/>
          </p:nvSpPr>
          <p:spPr>
            <a:xfrm>
              <a:off x="3429360" y="26146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360" y="4000320"/>
              <a:ext cx="162000" cy="89712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399">
                  <a:moveTo>
                    <a:pt x="3600" y="0"/>
                  </a:moveTo>
                  <a:arcTo wR="3600" hR="3600" stAng="16200000" swAng="-5400000"/>
                  <a:lnTo>
                    <a:pt x="0" y="115799"/>
                  </a:lnTo>
                  <a:arcTo wR="3600" hR="3600" stAng="10800000" swAng="-5400000"/>
                  <a:lnTo>
                    <a:pt x="18000" y="1193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936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4952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49520" y="30762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4320" y="326088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4320" y="3419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432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1520" y="4904280"/>
              <a:ext cx="152280" cy="184680"/>
            </a:xfrm>
            <a:prstGeom prst="flowChartAlternateProcess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561840" y="28940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475160" y="2629080"/>
            <a:ext cx="177120" cy="2473920"/>
            <a:chOff x="4475160" y="2629080"/>
            <a:chExt cx="177120" cy="2473920"/>
          </a:xfrm>
        </p:grpSpPr>
        <p:sp>
          <p:nvSpPr>
            <p:cNvPr id="338" name=""/>
            <p:cNvSpPr/>
            <p:nvPr/>
          </p:nvSpPr>
          <p:spPr>
            <a:xfrm>
              <a:off x="4480200" y="2629080"/>
              <a:ext cx="162360" cy="155772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80200" y="4014720"/>
              <a:ext cx="162360" cy="89748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182">
                  <a:moveTo>
                    <a:pt x="3600" y="0"/>
                  </a:moveTo>
                  <a:arcTo wR="3600" hR="3600" stAng="16200000" swAng="-5400000"/>
                  <a:lnTo>
                    <a:pt x="0" y="115582"/>
                  </a:lnTo>
                  <a:arcTo wR="3600" hR="3600" stAng="10800000" swAng="-5400000"/>
                  <a:lnTo>
                    <a:pt x="18000" y="119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80200" y="376380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00360" y="2879640"/>
              <a:ext cx="13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0360" y="3090600"/>
              <a:ext cx="12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75160" y="32752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75160" y="3434040"/>
              <a:ext cx="17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75160" y="35924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82360" y="4918320"/>
              <a:ext cx="152640" cy="184680"/>
            </a:xfrm>
            <a:prstGeom prst="flowChartAlternateProcess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622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2716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715080" y="2614680"/>
            <a:ext cx="177480" cy="2474280"/>
            <a:chOff x="6715080" y="2614680"/>
            <a:chExt cx="177480" cy="2474280"/>
          </a:xfrm>
        </p:grpSpPr>
        <p:sp>
          <p:nvSpPr>
            <p:cNvPr id="350" name=""/>
            <p:cNvSpPr/>
            <p:nvPr/>
          </p:nvSpPr>
          <p:spPr>
            <a:xfrm>
              <a:off x="6720120" y="2614680"/>
              <a:ext cx="162360" cy="1557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20120" y="4000320"/>
              <a:ext cx="162360" cy="89712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135">
                  <a:moveTo>
                    <a:pt x="3600" y="0"/>
                  </a:moveTo>
                  <a:arcTo wR="3600" hR="3600" stAng="16200000" swAng="-5400000"/>
                  <a:lnTo>
                    <a:pt x="0" y="115535"/>
                  </a:lnTo>
                  <a:arcTo wR="3600" hR="3600" stAng="10800000" swAng="-5400000"/>
                  <a:lnTo>
                    <a:pt x="18000" y="1191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012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4064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40640" y="3076200"/>
              <a:ext cx="1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5080" y="32608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15080" y="341964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1508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23000" y="4904280"/>
              <a:ext cx="151560" cy="1846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881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3744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9480" y="139860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ia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86760" y="131292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riac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6560" y="1341360"/>
            <a:ext cx="5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87960" y="154764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68080" y="1574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flagel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81560" y="1371600"/>
            <a:ext cx="13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anti-v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omp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68440" y="1376280"/>
            <a:ext cx="63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p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52640" y="1981080"/>
            <a:ext cx="0" cy="525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3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2116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6084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08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14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67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1560" y="317520"/>
            <a:ext cx="74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LIGANDOS RECONOCIDOS POR LA FAMIL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DE RECEPTORES T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35040" y="479520"/>
            <a:ext cx="75135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79480" y="3096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P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72000" y="5796000"/>
            <a:ext cx="18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Inm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Adap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86040" y="4286160"/>
            <a:ext cx="0" cy="12193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84680" y="2895480"/>
            <a:ext cx="7502760" cy="2881080"/>
            <a:chOff x="1084680" y="2895480"/>
            <a:chExt cx="7502760" cy="2881080"/>
          </a:xfrm>
        </p:grpSpPr>
        <p:sp>
          <p:nvSpPr>
            <p:cNvPr id="381" name=""/>
            <p:cNvSpPr/>
            <p:nvPr/>
          </p:nvSpPr>
          <p:spPr>
            <a:xfrm>
              <a:off x="3322440" y="2930040"/>
              <a:ext cx="319680" cy="442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514240" y="2895480"/>
              <a:ext cx="304920" cy="533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8120" y="2971800"/>
              <a:ext cx="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84680" y="3473280"/>
              <a:ext cx="184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n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14600" y="43434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505320" y="4343400"/>
              <a:ext cx="685800" cy="76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05320" y="4978440"/>
              <a:ext cx="609480" cy="304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98200" y="4040280"/>
              <a:ext cx="408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1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FN</a:t>
              </a:r>
              <a:r>
                <a:rPr b="0" lang="es-A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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,inmunidad cel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4900680"/>
              <a:ext cx="3039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2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nterleuqui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hum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73880" y="3173400"/>
              <a:ext cx="114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447920" y="965160"/>
            <a:ext cx="3124080" cy="1854360"/>
            <a:chOff x="1447920" y="965160"/>
            <a:chExt cx="3124080" cy="1854360"/>
          </a:xfrm>
        </p:grpSpPr>
        <p:grpSp>
          <p:nvGrpSpPr>
            <p:cNvPr id="392" name=""/>
            <p:cNvGrpSpPr/>
            <p:nvPr/>
          </p:nvGrpSpPr>
          <p:grpSpPr>
            <a:xfrm>
              <a:off x="1447920" y="1371600"/>
              <a:ext cx="3124080" cy="1447920"/>
              <a:chOff x="1447920" y="1371600"/>
              <a:chExt cx="3124080" cy="1447920"/>
            </a:xfrm>
          </p:grpSpPr>
          <p:sp>
            <p:nvSpPr>
              <p:cNvPr id="393" name=""/>
              <p:cNvSpPr/>
              <p:nvPr/>
            </p:nvSpPr>
            <p:spPr>
              <a:xfrm>
                <a:off x="1447920" y="1371600"/>
                <a:ext cx="3124080" cy="144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lin ang="5400000"/>
              </a:gra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20520" y="1943280"/>
                <a:ext cx="2603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Célula presentador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de Antíge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3098880" y="965160"/>
              <a:ext cx="101520" cy="8002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105000" y="760320"/>
            <a:ext cx="1031400" cy="1190880"/>
            <a:chOff x="3105000" y="760320"/>
            <a:chExt cx="1031400" cy="1190880"/>
          </a:xfrm>
        </p:grpSpPr>
        <p:sp>
          <p:nvSpPr>
            <p:cNvPr id="397" name=""/>
            <p:cNvSpPr/>
            <p:nvPr/>
          </p:nvSpPr>
          <p:spPr>
            <a:xfrm>
              <a:off x="3291120" y="85392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L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105000" y="760320"/>
              <a:ext cx="109440" cy="1190880"/>
              <a:chOff x="3105000" y="760320"/>
              <a:chExt cx="109440" cy="1190880"/>
            </a:xfrm>
          </p:grpSpPr>
          <p:sp>
            <p:nvSpPr>
              <p:cNvPr id="399" name=""/>
              <p:cNvSpPr/>
              <p:nvPr/>
            </p:nvSpPr>
            <p:spPr>
              <a:xfrm>
                <a:off x="3105000" y="760320"/>
                <a:ext cx="101520" cy="7495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05000" y="1427040"/>
                <a:ext cx="101520" cy="432000"/>
              </a:xfrm>
              <a:custGeom>
                <a:avLst/>
                <a:gdLst>
                  <a:gd name="textAreaLeft" fmla="*/ 4680 w 101520"/>
                  <a:gd name="textAreaRight" fmla="*/ 96840 w 101520"/>
                  <a:gd name="textAreaTop" fmla="*/ 4680 h 432000"/>
                  <a:gd name="textAreaBottom" fmla="*/ 427320 h 432000"/>
                </a:gdLst>
                <a:ahLst/>
                <a:rect l="textAreaLeft" t="textAreaTop" r="textAreaRight" b="textAreaBottom"/>
                <a:pathLst>
                  <a:path w="21600" h="91666">
                    <a:moveTo>
                      <a:pt x="3600" y="0"/>
                    </a:moveTo>
                    <a:arcTo wR="3600" hR="3600" stAng="16200000" swAng="-5400000"/>
                    <a:lnTo>
                      <a:pt x="0" y="88066"/>
                    </a:lnTo>
                    <a:arcTo wR="3600" hR="3600" stAng="10800000" swAng="-5400000"/>
                    <a:lnTo>
                      <a:pt x="18000" y="91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05000" y="1306440"/>
                <a:ext cx="108000" cy="12708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127080"/>
                  <a:gd name="textAreaBottom" fmla="*/ 122040 h 127080"/>
                </a:gdLst>
                <a:ahLst/>
                <a:rect l="textAreaLeft" t="textAreaTop" r="textAreaRight" b="textAreaBottom"/>
                <a:pathLst>
                  <a:path w="21600" h="25403">
                    <a:moveTo>
                      <a:pt x="3600" y="0"/>
                    </a:moveTo>
                    <a:arcTo wR="3600" hR="3600" stAng="16200000" swAng="-5400000"/>
                    <a:lnTo>
                      <a:pt x="0" y="21803"/>
                    </a:lnTo>
                    <a:arcTo wR="3600" hR="3600" stAng="10800000" swAng="-5400000"/>
                    <a:lnTo>
                      <a:pt x="18000" y="254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7600" y="9828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06800" y="1862280"/>
                <a:ext cx="95040" cy="8892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7600" y="8874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05000" y="1142640"/>
                <a:ext cx="1000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06800" y="1218960"/>
                <a:ext cx="997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14720" y="1066680"/>
                <a:ext cx="9972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s en la inmun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0400" y="2305080"/>
            <a:ext cx="8134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 menos 10 TL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ocenas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AMPs conser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si todos los TLRs reconocen varios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os TLRs requieren proteínas acces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Unirían directamente ligandos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PR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44440" y="534960"/>
            <a:ext cx="62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éptidos antimicrobi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52560" y="2286000"/>
            <a:ext cx="775332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Vertebrados, invertebrados, y plantas secreta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éptidos antimicrobiano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que protegen de la invasión de patógenos. Propiedad de organismos multicel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fens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VIAS DE SEÑALIZACION DE LOS RECEPTORES TIPO TOLL (TL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60240" y="164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 expresa predominantemente en MCFs/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L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013120" y="2079720"/>
            <a:ext cx="5035320" cy="4778280"/>
            <a:chOff x="2013120" y="2079720"/>
            <a:chExt cx="5035320" cy="477828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tretch/>
          </p:blipFill>
          <p:spPr>
            <a:xfrm>
              <a:off x="2013120" y="2079720"/>
              <a:ext cx="5035320" cy="47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231280" y="6545160"/>
              <a:ext cx="269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Verdana"/>
                </a:rPr>
                <a:t>Aderem &amp; Ulevitch, Nature:406, 782 (20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6280" y="17715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17715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177156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8596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5520" y="2685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escamosas. s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0120" y="268596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escamación, Pérdida de ácidos orgá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29580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95520" y="329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column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329580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eristalsis, bajo pH, ácidos biliares, pérdida tiocia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360" y="25718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0384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ulm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95520" y="4038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lios tráqu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10120" y="403848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ransporte mucociliar, surfac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610160"/>
            <a:ext cx="19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Nasofaringe y o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95520" y="46101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Moco, saliva, lág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10120" y="461016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vado, 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8120" y="5315040"/>
            <a:ext cx="19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rculación, órganos linf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6440" y="53150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fagocíticas, 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91040" y="5315040"/>
            <a:ext cx="37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agocitosis y muerte intracel, citólisis directa y dep. de anticuer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resenta un amplio rango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éptido glicano de bacterias gram-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ipo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componentes de pared celular de levad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PS atíp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opera con TLR1 y TL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heterodímeros aumentan la diversidad de respue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presión en D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superficie de dsRNA (vir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ctivación de PKR (proteína quinasa dependiente de ds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19810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mbrana basolateral del epitelio 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sensa flagelina de salmon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434340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onoce fragmentos CpG de DNA no metilado de bacte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060560" y="1539720"/>
            <a:ext cx="6995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787680" y="2244600"/>
            <a:ext cx="7427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PARTICIPACION DE FACTORES DE 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EN LA SEÑALIZACION DE RECEP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DE TIPO TOLL: PAPEL DE FACTOR NUCLEAR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NF</a:t>
            </a:r>
            <a:r>
              <a:rPr b="0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Funciones asociadas a NF</a:t>
            </a:r>
            <a:r>
              <a:rPr b="0" lang="es-MX" sz="4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6720" y="1771560"/>
            <a:ext cx="80582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Intermediarios reactivos de oxígeno) y RNIs (Intermediarios reactivos de nitrógeno) – con alta toxicidad para microorganismos (como defensin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t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comunicación intercelul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em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quimiotaxis de leucocitos) moléculas de adhesión (facilitan la adhesión de leucocitos provocando alteraciones en su migración y tráf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teí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fase aguda (Proteínas sintetizadas en el hígado y secretadas rápidamente post-infec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dución de citoquinas proinflamatorias, quemoquinas, iNOS,proteasas anti-microbianas, MHC, moléculas coestimulatori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Rs y R-IL1 dependen de la activación de NF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B y MAPK via dominio 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as var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comparten MyD88, Tollip, IRAK, TRAF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TLR2 activa NF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B vía Rac1 y PI3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9080" y="1868400"/>
            <a:ext cx="72579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6280" y="198612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1880" y="1986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0280" y="198612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0052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u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5080" y="2900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ctoferrina y transfer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29240" y="290052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Unión de Hie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05080" y="3510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terfer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29240" y="351000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teínas antivi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360" y="27860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5080" y="42530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NF</a:t>
            </a: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9240" y="425304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Antiviral, activación fag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5080" y="4824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29240" y="482436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activación de peptidoglic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552924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ibronec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omp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5529240"/>
            <a:ext cx="379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 y fagoci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, fagocitosis aumentada e infla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Inmunidad innata y adquir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1800" y="1549440"/>
          <a:ext cx="8458200" cy="5529240"/>
        </p:xfrm>
        <a:graphic>
          <a:graphicData uri="http://schemas.openxmlformats.org/drawingml/2006/table">
            <a:tbl>
              <a:tblPr/>
              <a:tblGrid>
                <a:gridCol w="2254320"/>
                <a:gridCol w="3384720"/>
                <a:gridCol w="2819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n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qui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rr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el,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reciones de Piel y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ínas circul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men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icuer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morfonuclearesMacrófag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 N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dores solu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Macrófa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43080" y="692280"/>
          <a:ext cx="8515080" cy="5562360"/>
        </p:xfrm>
        <a:graphic>
          <a:graphicData uri="http://schemas.openxmlformats.org/drawingml/2006/table">
            <a:tbl>
              <a:tblPr/>
              <a:tblGrid>
                <a:gridCol w="4257360"/>
                <a:gridCol w="4257720"/>
              </a:tblGrid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In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Adap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presentes en la línea ger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generados azaros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amplia especificidad (reconocen PAM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estrecha especificidad, reconocen un epit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MPs son polisacáridos y polinucleótidos. Difieren levemente de un patógeno a otro y no están presentes en huesp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chos epitopes derivan de polipéptidos y reflejan la individualidad del pat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R (pathogen recognition recepto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de células B y T para antígenos, BCR y T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inmedi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lenta: 3-5 días, necesario para el desarrollo de clones celulares de respue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n memoria por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moria a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en metazoo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únicamente en vertebrados mandibu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93688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0600" y="2652480"/>
            <a:ext cx="692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Células de la respues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inmune inn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División del sistema inmune: Células que partici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84"/>
          <a:stretch/>
        </p:blipFill>
        <p:spPr>
          <a:xfrm>
            <a:off x="868320" y="2290680"/>
            <a:ext cx="74581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2:18:11Z</dcterms:created>
  <dc:creator>Marcela Hermoso</dc:creator>
  <dc:description/>
  <dc:language>en-US</dc:language>
  <cp:lastModifiedBy>Usuario</cp:lastModifiedBy>
  <dcterms:modified xsi:type="dcterms:W3CDTF">2006-07-31T13:55:03Z</dcterms:modified>
  <cp:revision>364</cp:revision>
  <dc:subject/>
  <dc:title>Presentación de PowerPoint</dc:title>
</cp:coreProperties>
</file>