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4563-699E-4863-8731-DB209564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537C-3B6B-435D-B900-E3C9146E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899A-6C43-4BD5-A0E9-E72C3C05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0A2C-4351-48B3-8A5C-51F8D4CF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9931-95C4-4067-927F-104548B9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C4B2-962F-4FD7-8F3C-0A01643A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BA03-30EA-420B-A187-7C4CB955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FCAA-9D74-4D26-8853-B9365EEF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CEC0-B2CB-4BBF-A257-9BFBD9F5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E15A-D2E3-4A27-9E4F-EC585E1B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F33C-4512-4FC0-8909-BC374083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827A-D488-427D-B2EA-AA7D61BE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8A7C-10F9-4091-89B8-E178BD54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803E-4D71-4A5B-86B9-71088024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EED4-558D-43C8-B6D3-B0E0F13E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0C48-61E8-4113-BF95-2F6A60D8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3197-979F-4B5A-A288-3F090D1C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DF48-2E9D-4B6F-A8BB-B4342738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1698-A787-4165-9D8D-5D33F708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B855-8D33-4CE0-8F15-2F7EFD11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CB13-E0FA-4449-AF80-887D312F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5949-1F8D-4740-9FFE-FCC51CF2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DE81-BBBA-47F1-B111-C3070B6A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4F32-31F3-4641-B74F-AB1AAF9A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124B-0292-4B68-99B0-7C9E9FDB96B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3DCC-535F-403B-B460-7B36816144F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El proceso de evaluación de T.O. en Niños y Adolescente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T.O. Paula Soto Re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Taller Inici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dentifica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ortalezas y debilidades de la pau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quisitos del evaluador y del evalu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querimientos de infraestruct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teriales adicionales para su aplicació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E.E.D.P.</a:t>
            </a:r>
            <a:br>
              <a:rPr sz="4400"/>
            </a:b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cala de Evaluación de Desarrollo Psicomo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valuación de administración individual para niños de 1 a 24 me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onsta de 75 item, 5 por cada grupo de edad. (consecutivos entre 1m – 10m, luego 12m y cada 3m el segundo año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a selección responde a la aparición de conductas más significativa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E.E.D.P.</a:t>
            </a:r>
            <a:br>
              <a:rPr sz="4400"/>
            </a:b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cala de Evaluación de Desarrollo Psicomo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as pruebas se relacionan con 4 áreas del desarrol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ot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ngua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o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ordin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TEPSI</a:t>
            </a:r>
            <a:br>
              <a:rPr sz="4400"/>
            </a:b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est de Desarrollo Psicomotor 2-5 añ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te test es un screening o tamizaje, esto quiere decir, que determina, si el desarrollo del niño está normal o si está bajo lo esperado para su e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tá destinado a niños pre-escolares entre 2 y 5 añ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 el único instrumento estandarizado y validado en nuestro paí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TEPSI</a:t>
            </a:r>
            <a:br>
              <a:rPr sz="4400"/>
            </a:b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est de Desarrollo Psicomotor 2-5 añ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enta con tres subte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ordinación: 16 pruebas, de manipulación, dibujo, y copia de figu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enguaje: 24 pruebas, de expresión y comprensión. Describir escenas, definir conceptos, utilización adecuada de conceptos de cantidad y tamaño, entre otr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otricidad: 12 pruebas, de control y manejo del propio cuerpo en ciertas destrezas específ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Evolución dibujo Figura Human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8360" y="2408400"/>
            <a:ext cx="8207280" cy="2298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2492280"/>
            <a:ext cx="2376720" cy="237672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5280" y="646200"/>
            <a:ext cx="8353440" cy="5776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Picq y Vay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batería de test preparada por Vayer en el examen de la primera infancia, compren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n examen motor constituido casi íntegramente por las tres primeras pruebas de los test de OZERETSKI, revisados y adaptados por A. GUILMAIN; coordinación óculo manual, coordinación dinámica y control postural (equilibrio estátic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Picq y Vayer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n test de “control del cuerpo propio” (test de imitación de gestos de BERGES y LEZI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n test de organización perceptiva” comprendiendo items de TERMANMERRIL y BINET - SIM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n test de lenguaje, tomado en su mayor parte del TERMAN, escalonado de los 2 a los 5 años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Picq y Vayer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un test de “estructuración espacio temporal” constituído por las estructuras rítmicas de MIRA STAMBACK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un test de rapidez, prueba de punteado de MIRA STAMBACK, con patrones a partir de los 6 años solamente;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El objetivo de las clases de hoy y el próximo mart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participantes serán capaces de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planificar un proceso de evaluación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, como parte de la intervención de terapia ocupacional,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ahoma"/>
              </a:rPr>
              <a:t>diseñando los elementos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que serán parte de él e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ahoma"/>
              </a:rPr>
              <a:t>identificando y seleccionando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aquellas pautas  de evaluación estructuradas que sean necesarias para el proceso, de acuerdo a las características del sujeto de aten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Marcha del Exáme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Para permitir una realización práctica y rápida, hemos reagrupado los diferentes test en seis pruebas (más otras seis complementarias) según el plan siguiente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PRUEBA Nº 1: Coordinación óculomanual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            2 a 13 año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PRUEBA Nº 2: Coordinación dinámica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2 a 13 año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PRUEBA Nº 3: Control postural 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2 a 13 año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PRUEBA Nº 4:a. Control del cuerpo propio 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3 a 6 año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b. Organización látero-espacial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6 a 12 año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PRUEBA Nº 5:a. Organización perceptiva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2 a 5 año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b. Estructuración espacio- temporal 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6 a 11 año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PRUEBA Nº 6:Lateralizació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Marcha del Exáme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ahoma"/>
              </a:rPr>
              <a:t>EXAMENES COMPLEMENTA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UEBA Nº 7: Lenguaj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2 a 5 añ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UEBA Nº8:  Rapidez, puntead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6 a 14 añ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UEBA Nº9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Velocidad (Ozeretski)      4 a 13 añ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UEBA Nº 10:Movimientos simultáneos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 a 13 añ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UEBA Nº 11: Control segmentari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6 a 11 añ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UEBA Nº 12:“Harris test of lateral dominance”: 5 items complementarios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ser aplicados en caso de du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0000"/>
                </a:solidFill>
                <a:uFillTx/>
                <a:latin typeface="Tahoma"/>
              </a:rPr>
              <a:t>Escala de Madurez Social de Vineland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s da una referencia para ver hasta qué punto el sujeto es limitado en su desarrollo social por </a:t>
            </a:r>
            <a:r>
              <a:rPr b="0" lang="es-ES" sz="2800" spc="-1" strike="noStrike">
                <a:solidFill>
                  <a:srgbClr val="00cc00"/>
                </a:solidFill>
                <a:latin typeface="Tahoma"/>
              </a:rPr>
              <a:t>restricciones ambientales,   falta de oportunidad ambiental, por sobreprotección de los padres, u otras circunstancias limitadoras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La escala está compuesta de ítems y cada uno de ellos recibe una designación categorial según sea el aspecto que trata de evaluar; se ha designado con las siguientes inici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0000"/>
                </a:solidFill>
                <a:uFillTx/>
                <a:latin typeface="Tahoma"/>
              </a:rPr>
              <a:t>Escala de Madurez Social de Vineland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Tahoma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A.V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. Autovestimenta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A.A.G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Autoayuda Gene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A.A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Auto aliment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A.D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Auto direc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O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Ocup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L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Locomo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C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Comunic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S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Socialización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BSID – II</a:t>
            </a:r>
            <a:br>
              <a:rPr sz="4000"/>
            </a:b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Bayley Scales of Infant Development – Second E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 un examen de administración individual que evalúa el curso del desarrollo de lactantes y niños, desde 1 mes hasta 42 meses de edad (3 años 6 me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agnostica el retraso del desarrollo y orienta en la planificación de la interven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nsta de tres escalas: Motriz, Mental y de Valoración Conductu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BSID – II</a:t>
            </a:r>
            <a:br>
              <a:rPr sz="4000"/>
            </a:b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Bayley Scales of Infant Development – Second E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escala Motriz y Mental da cuenta del nivel de desarrollo en las áreas Cognitiva, Lenguaje, Personal – social y motricidad gruesa y fi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escala de Valoración Conductual da cuenta de la conducta del niño durante la situación de evaluación, para facilitar la interpretación de las otras escal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s tres escalas se consideran complementari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edad de aplicación va de 1 a 42 me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Escala Mental – BSID-I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Incluye pruebas de memoria, habituación, resolución de problemas, precálculo, generalización, clasificación, vocalización, lenguaje y habilidades socia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Escala Motriz – BSID-I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valúa el control de la musculatura gruesa y fina, a través de pruebas de movimientos asociados como rodar, gatear, trepar, sentarse, ponerse de pie, caminar, correr y saltar. Además, pruebas de manipulación involucradas en las prehensiones , uso adaptativo a implementos de escritura, e imitación de movimientos de man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Valoración Conductual – BSID-I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valúa aspectos cualitativos de la situación de evaluación: la atención y el alerta, la orientación y el involucramiento en las tareas, la regulación emocional y la calidad de los movimientos. El puntaje obtenido es complementario al de las escalas mental y motriz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Taller Fin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unirse en los mismos grupos del trabajo anter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señar un formato para un  Proceso de Evaluación de T.O. en el área pediátr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derar en el diseño, ámbitos y métodos de evaluació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¿Qué es evaluar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eñalar el valor de alg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tr. Estimar, apreciar, calcular el valor de algo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tr. Estimar los conocimientos, aptitudes y rendimiento de los alumn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al Academia de la Lengua Españo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El objetivo de las clases de hoy y el próximo mart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participantes serán capaces de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planificar un proceso de evaluación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, como parte de la intervención de terapia ocupacional,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ahoma"/>
              </a:rPr>
              <a:t>diseñando los elementos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que serán parte de él e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ahoma"/>
              </a:rPr>
              <a:t>identificando y seleccionando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aquellas pautas  de evaluación estructuradas que sean necesarias para el proceso, de acuerdo a las características del sujeto de aten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 rot="1114200">
            <a:off x="6615360" y="2205720"/>
            <a:ext cx="2253240" cy="459720"/>
          </a:xfrm>
          <a:prstGeom prst="rect">
            <a:avLst/>
          </a:prstGeom>
          <a:noFill/>
          <a:ln w="38160">
            <a:solidFill>
              <a:srgbClr val="ff63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3b1"/>
                </a:solidFill>
                <a:latin typeface="Times New Roman"/>
              </a:rPr>
              <a:t>SE CUMPLI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¿Por qué evaluamos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eterminar la necesidad de intervención de T.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onstruir un perfil que oriente según prior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tablecer una secuencia temporal de acc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1557360"/>
            <a:ext cx="3240000" cy="1297080"/>
          </a:xfrm>
          <a:prstGeom prst="ellipse">
            <a:avLst/>
          </a:prstGeom>
          <a:solidFill>
            <a:srgbClr val="ff99cc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Necesidad de T.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547640" y="2565360"/>
            <a:ext cx="3672000" cy="15843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riorida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3789360"/>
            <a:ext cx="3527280" cy="180036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volu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 rot="20210400">
            <a:off x="6156360" y="764640"/>
            <a:ext cx="1224000" cy="4537080"/>
          </a:xfrm>
          <a:custGeom>
            <a:avLst/>
            <a:gdLst>
              <a:gd name="textAreaLeft" fmla="*/ 0 w 1224000"/>
              <a:gd name="textAreaRight" fmla="*/ 442080 w 1224000"/>
              <a:gd name="textAreaTop" fmla="*/ 118080 h 4537080"/>
              <a:gd name="textAreaBottom" fmla="*/ 441900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 rot="20260200">
            <a:off x="7670520" y="691560"/>
            <a:ext cx="54612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AZONAMIENTO  CLIN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 rot="2065200">
            <a:off x="3708000" y="1916280"/>
            <a:ext cx="1297080" cy="502920"/>
          </a:xfrm>
          <a:custGeom>
            <a:avLst/>
            <a:gdLst>
              <a:gd name="textAreaLeft" fmla="*/ 226800 w 1297080"/>
              <a:gd name="textAreaRight" fmla="*/ 940320 w 1297080"/>
              <a:gd name="textAreaTop" fmla="*/ 67320 h 502920"/>
              <a:gd name="textAreaBottom" fmla="*/ 435600 h 502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 rot="2065200">
            <a:off x="5292360" y="3068280"/>
            <a:ext cx="1297080" cy="503280"/>
          </a:xfrm>
          <a:custGeom>
            <a:avLst/>
            <a:gdLst>
              <a:gd name="textAreaLeft" fmla="*/ 226800 w 1297080"/>
              <a:gd name="textAreaRight" fmla="*/ 940320 w 129708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 rot="12984600">
            <a:off x="2195640" y="5013360"/>
            <a:ext cx="1296720" cy="503280"/>
          </a:xfrm>
          <a:custGeom>
            <a:avLst/>
            <a:gdLst>
              <a:gd name="textAreaLeft" fmla="*/ 226800 w 1296720"/>
              <a:gd name="textAreaRight" fmla="*/ 940320 w 129672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 rot="13433400">
            <a:off x="394560" y="3789000"/>
            <a:ext cx="1297080" cy="503280"/>
          </a:xfrm>
          <a:custGeom>
            <a:avLst/>
            <a:gdLst>
              <a:gd name="textAreaLeft" fmla="*/ 226800 w 1297080"/>
              <a:gd name="textAreaRight" fmla="*/ 940320 w 129708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Evaluación de Terapia Ocupacional en Niño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Tahoma"/>
              </a:rPr>
              <a:t>Entrevista semiestructurada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: Considera recoger información en torno a elementos de los principales contexto/s de desempeño del niñ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ersonal: Edad, género, nivel socioeconómico, nivel educacio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Evaluación de Terapia Ocupacional en Niños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ísico: lugar donde vive: características del hogar, del sector y la comun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ocial: personas relacionadas con el niño: estructura familiar, nuclear y extendida, otros adultos y pares significativ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Evaluación de Terapia Ocupacional en Niños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ultura: relacionado con, creencias religiosas, origen étnico, y otros factores que influyen o podrían influir en el desarrollo de la intervención. (Existencia y accesibilidad a programas sociales del sector :junta de vecinos, consultorio, servicios sociales, u otro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Taller Inici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epara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vidirse en grupos pequeños (3 -5 participant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unir los materiales de corresponden por t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plicarse las pruebas de los test (alternar rol de evaluador y evaluad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20:56:39Z</dcterms:created>
  <dc:creator>Terapia</dc:creator>
  <dc:description/>
  <dc:language>en-US</dc:language>
  <cp:lastModifiedBy>Laura</cp:lastModifiedBy>
  <dcterms:modified xsi:type="dcterms:W3CDTF">2007-04-02T21:11:09Z</dcterms:modified>
  <cp:revision>16</cp:revision>
  <dc:subject/>
  <dc:title>BSID – II Bayley Scales of Infant Development – Second Edition</dc:title>
</cp:coreProperties>
</file>