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70F-E6CB-4822-9921-8E29367D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CF5-1626-4FBA-85C4-0AE86AAE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C2A-B2BA-4F55-8865-1DACAE61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AC0-37D6-4024-B31B-2A5817E1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DFB2-592B-4986-B5D6-3083F3E6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7C3B-9D1F-4616-B619-CB4241A1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2623-7F30-471D-87AA-24BE989D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765F-63BD-46B0-835B-B23255A6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46D4-081D-477D-8306-B40ADB83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63F7-FC0C-422C-8259-4ED08810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0E38-8186-4E04-8BC0-2ED9994A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05A-B5AF-40FB-A716-C82B08FC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6B4E-24E6-4EF8-A066-743F683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3EE1-D981-4D33-B895-AC8A6550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749B-C0D9-42F7-A8CC-83DD2D17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1185-2F4B-4A10-8FE9-1D0414B4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4665-5150-4F63-85FB-25FB2494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99A-E6D3-45D5-B05F-C0B2BAA1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636-06D2-40F4-8152-3EBEA1C7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FDE-A727-412E-BF45-6868BA72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162-909B-4BA5-8720-D2B2FC7C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A25-5376-45ED-869C-D2A11C23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39D-8CD5-49DE-A551-1C18740F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1DA-4A9D-40B0-8CA2-96DD285E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2923-8A06-4D6A-A910-B28B19DB8D4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9351-DB6E-4A4D-9CFF-FCBD0C8694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ccff"/>
                </a:solidFill>
                <a:latin typeface="Tahoma"/>
              </a:rPr>
              <a:t>Disfunción Ocupacional a partir de la problemática de Salud Mental Infanto-Juveni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.O. Paula Soto Re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TOUCh-20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spuesta sana o variable nor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stornos de adap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stornos del desarrollo psíqu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stornos de manifestación conduc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Conceptos básicos respecto a los TP I-j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stornos neurót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stornos depres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stornos del desarrollo de la person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404640"/>
            <a:ext cx="8229600" cy="1371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Conceptos básicos respecto a los TP I-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Conceptos básicos respecto a los TP I-j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stornos psicót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stornos psicobiológic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storno mental orgánico (Síndrome Psicoorgán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scapacidad Intelec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Diagnóstico Multiaxi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SM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5320" indent="-264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 1: Cuadro Clí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5320" indent="-264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 2: Desarrollo Psíqu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5320" indent="-264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 3: Patología Fís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5320" indent="-264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 4: Estresores psico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5320" indent="-264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 5: Funcionamiento adaptativo del último añ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7280" y="1844640"/>
            <a:ext cx="43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IE 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 1: Sd. Psiquiátricos Clín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 2: Trastornos específicos del desarrol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 3: Nivel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 4: Condiciones méd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 5: Situaciones psico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 6: Evaluación global de discapa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TPI-j y Problemas de Salud Mental relacionados con T.O., según grupo etáreo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80440" y="1413000"/>
            <a:ext cx="1623960" cy="228852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0-2 añ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storno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Vín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Mal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RD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24200" y="1413000"/>
            <a:ext cx="2242800" cy="47574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2-5  añ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storno 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de Cria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storno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Lengu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storno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án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Mal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RD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P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(autismo/asper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29280" y="1413000"/>
            <a:ext cx="2242800" cy="47574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6-12  añ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SDA/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storno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storno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án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Mal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stor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Condu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P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(autismo/asper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04200" y="1413000"/>
            <a:ext cx="2242800" cy="47574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12-19  añ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EQ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Consum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sust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storno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án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Conducta suic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stor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Condu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P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(autismo/asper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al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tiv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ir (por aproximación) los diferentes diagnósticos de Disfunción Ocupacional, para los cuadros Psiquiátricos y Problemas de Salud Mental, de mayor relevancia para nuestra discipl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000" y="2421000"/>
            <a:ext cx="821844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bajo en pequeño grupo (3 personas). Seleccionan 1 tema, para desarrollar objetivo de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cción a través de una ficha, como indica el mode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odología de Trabajo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68360" y="260280"/>
          <a:ext cx="8229600" cy="6127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5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ática Ocupacional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upo etáreo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tores del Usuario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6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trones de Desempeño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Áreas de Desempeño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bilidades de Desempeño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extos 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mandas de las actividad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40360" y="648180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18440" cy="1824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terferencia de los problemas de Salud Mental en el Desarrollo Ocupacion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nsación-Percepción-Re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fectiv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nsamiento-Lengu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sicomotri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362800" cy="1895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terferencia de los problemas de Salud Mental en el Desarrollo Ocupacion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i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ig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ención-Concent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m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8291520" cy="1752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terferencia de los problemas de Salud Mental en el Desarrollo Ocupacion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74284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sarrollo de las dimensiones del y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tenidos previos, necesari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minio de la Terapia Ocupacional (áreas, patrones, contextos, demandas, fact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rrollo Normal y Ocup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stinción entre Salud Mental y Psiquiatría Infanto – Juven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lasificaciones Trastornos Psiquiátricos Infanto-juveni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PI-j y Problemas de Salud Mental de mayor importancia en T.O, según grupo etáre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34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Dominio de la Terapia Ocupacional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1557360"/>
            <a:ext cx="5688000" cy="642600"/>
          </a:xfrm>
          <a:prstGeom prst="rect">
            <a:avLst/>
          </a:prstGeom>
          <a:solidFill>
            <a:srgbClr val="eaeaea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Áreas de Desempeño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AVDB, AVDI, Educación , Trabajo, Juego, Tiempo Libre, Participación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565360"/>
            <a:ext cx="3240000" cy="916920"/>
          </a:xfrm>
          <a:prstGeom prst="rect">
            <a:avLst/>
          </a:prstGeom>
          <a:solidFill>
            <a:srgbClr val="ffcccc"/>
          </a:soli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abilidades de desempeño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Motoras, de Procesamiento, de Comunicación/Interac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2637000"/>
            <a:ext cx="3095640" cy="642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trones de Desempeño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Hábitos, Rutinas, R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3933720"/>
            <a:ext cx="1584360" cy="2014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textos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ultural, físico, social, personal, espiritual, temporal, vir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3933720"/>
            <a:ext cx="2233800" cy="256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emandas de la Activida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Objetos y sus propiedades, espacio/tiempo, demandas sociales, secuencias de acciones, estructuras y fun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3933720"/>
            <a:ext cx="1872000" cy="146556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actores del usuario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Funciones y estructuras corpora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esarrollo Normal y Ocupacion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rot="20975400">
            <a:off x="1115640" y="1267920"/>
            <a:ext cx="1873440" cy="2449800"/>
          </a:xfrm>
          <a:prstGeom prst="ellipse">
            <a:avLst/>
          </a:prstGeom>
          <a:solidFill>
            <a:srgbClr val="ccffff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FE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9378800">
            <a:off x="1258920" y="1915920"/>
            <a:ext cx="2808360" cy="1439640"/>
          </a:xfrm>
          <a:prstGeom prst="ellipse">
            <a:avLst/>
          </a:prstGeom>
          <a:solidFill>
            <a:srgbClr val="ccffcc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GNI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747800">
            <a:off x="1042560" y="2565360"/>
            <a:ext cx="1873440" cy="2449440"/>
          </a:xfrm>
          <a:prstGeom prst="ellipse">
            <a:avLst/>
          </a:prstGeom>
          <a:solidFill>
            <a:srgbClr val="ffcc9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NSO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49360"/>
            <a:ext cx="2808360" cy="1440000"/>
          </a:xfrm>
          <a:prstGeom prst="ellipse">
            <a:avLst/>
          </a:prstGeom>
          <a:solidFill>
            <a:srgbClr val="ff0000">
              <a:alpha val="2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TR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845400">
            <a:off x="1402920" y="2637000"/>
            <a:ext cx="2808360" cy="1439640"/>
          </a:xfrm>
          <a:prstGeom prst="ellipse">
            <a:avLst/>
          </a:prstGeom>
          <a:solidFill>
            <a:srgbClr val="ffffcc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2195280" y="3357360"/>
            <a:ext cx="3959640" cy="194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6300720" y="4149720"/>
            <a:ext cx="2592360" cy="2014200"/>
          </a:xfrm>
          <a:prstGeom prst="rect">
            <a:avLst/>
          </a:prstGeom>
          <a:solidFill>
            <a:srgbClr val="eaeaea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IÑO/ADOLESCENTE INVOLUCRADO EN ACTIVIDADES QUE APOYAN SU PARTICIPACIÓN EN DIFERENTES CONTEX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20000" y="2637000"/>
            <a:ext cx="2124000" cy="1081080"/>
          </a:xfrm>
          <a:prstGeom prst="cloudCallout">
            <a:avLst>
              <a:gd name="adj1" fmla="val -26680"/>
              <a:gd name="adj2" fmla="val 8230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DU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703600">
            <a:off x="5076720" y="2131920"/>
            <a:ext cx="1656000" cy="1081080"/>
          </a:xfrm>
          <a:prstGeom prst="cloudCallout">
            <a:avLst>
              <a:gd name="adj1" fmla="val 4458"/>
              <a:gd name="adj2" fmla="val 12330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V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5013360"/>
            <a:ext cx="1655640" cy="1081080"/>
          </a:xfrm>
          <a:prstGeom prst="cloudCallout">
            <a:avLst>
              <a:gd name="adj1" fmla="val 115578"/>
              <a:gd name="adj2" fmla="val 829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JU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3429000"/>
            <a:ext cx="1655640" cy="1081080"/>
          </a:xfrm>
          <a:prstGeom prst="cloudCallout">
            <a:avLst>
              <a:gd name="adj1" fmla="val 58629"/>
              <a:gd name="adj2" fmla="val 8406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Distinción (y relación) entre Salud Mental y Psiquiatría Infanto – Juvenil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96840" y="1910520"/>
            <a:ext cx="4608720" cy="4050720"/>
            <a:chOff x="1896840" y="1910520"/>
            <a:chExt cx="4608720" cy="4050720"/>
          </a:xfrm>
        </p:grpSpPr>
        <p:sp>
          <p:nvSpPr>
            <p:cNvPr id="118" name=""/>
            <p:cNvSpPr/>
            <p:nvPr/>
          </p:nvSpPr>
          <p:spPr>
            <a:xfrm rot="10800000">
              <a:off x="1896840" y="1916280"/>
              <a:ext cx="4608720" cy="4032000"/>
            </a:xfrm>
            <a:custGeom>
              <a:avLst/>
              <a:gdLst>
                <a:gd name="textAreaLeft" fmla="*/ 1013400 w 4608720"/>
                <a:gd name="textAreaRight" fmla="*/ 3595320 w 4608720"/>
                <a:gd name="textAreaTop" fmla="*/ 886680 h 4032000"/>
                <a:gd name="textAreaBottom" fmla="*/ 314532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927080" y="1910520"/>
              <a:ext cx="3407040" cy="405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50920" y="1773360"/>
            <a:ext cx="1655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veles de At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dispositivos según complejid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80360" y="1700280"/>
            <a:ext cx="1511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veles de Prev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3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835280" y="2133360"/>
            <a:ext cx="0" cy="36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659640" y="1989000"/>
            <a:ext cx="0" cy="367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7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lud 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565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siquia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616572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oblación Infanto -juven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8291520" cy="2040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Clasificaciones Trastornos Psiquiátricos Infanto-juveni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AP, 196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IE-10, 199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SM-IV, 19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NCCIP, 1994 (infancia temprana 0-3 añ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6308640"/>
            <a:ext cx="2879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SR/ETOUCh -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2T15:07:40Z</dcterms:created>
  <dc:creator>Laura</dc:creator>
  <dc:description/>
  <dc:language>en-US</dc:language>
  <cp:lastModifiedBy>Laura</cp:lastModifiedBy>
  <dcterms:modified xsi:type="dcterms:W3CDTF">2007-06-15T19:30:15Z</dcterms:modified>
  <cp:revision>30</cp:revision>
  <dc:subject/>
  <dc:title>Disfunción Ocupacional desde la problemática de Salud Mental y Psiquiatría Infanto-Juvenil</dc:title>
</cp:coreProperties>
</file>