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895D-1F34-4A2D-8E85-DB5CB313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CAEA-AC1A-466E-8529-DB921A1A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AAD6-AACE-4A9C-B843-6D3A2B07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AB9B-F71D-458E-B031-0485251F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6C2A-3B98-4DB4-9F46-CED1B648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09E0-0D4B-46DE-B09C-490D33B2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057E-F701-44FC-90D3-C70C0308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E3B8-F92A-4935-8E23-F8D5B6B4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44BD-2DCE-4848-A73A-6446305B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D71E-FB47-4407-B25B-47DDBB99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3F81-9A41-4EBE-B08A-7076187D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4F72-E0E7-4901-B414-1E7CBABD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17A4-A8CA-42D9-A557-65A5A338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86EB-C937-4114-A86A-D99C6F6B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07B2-3810-431D-BC19-89402E57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F5B1-4CED-45A0-BDEE-5EF0143A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0CE9-5676-488C-8B5A-06C87EB7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4C91-EF9D-4CB1-8043-ACA3FFD3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5C9F-393F-4A08-B80D-0DA29983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A233-67F7-42D4-88F3-275734BE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5F9C-F5A1-4DC8-B04E-F25BE2B4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F172-C6C9-4611-8CC4-BD4570C6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124-5B6A-4474-BF2F-77903071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255D-DC03-46F9-8129-824DFC05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DE22-2D9C-4201-A252-DBEC9DCBD427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4220-CE5E-4C0C-A98E-687A2922B553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eminari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208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ofundizar aspectos propios de la intervención de Terapia Ocupacional, en aquellas condiciones de comorbilidad, que generalmente están presentes en, o bien, constituyen la etiología de, los grandes cuadros tradicionales de intervención de la discipli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tenid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visión Bibliográfica Actualizada del Tema (revistas especializadas, textos, centros de document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trevista a exper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cribir el impacto en el Desarrollo Ocupacio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eminari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odologí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bajo en tríos, (inscribir trío y tema el antes del ¿? de juni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tregar un resumen de 1 página,(dos copias) con al menos 3 referencias bibliográficas, el día ¿? de jul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acuerdo a pautas de evaluación, con la ponderación descrita en el programa de asignatu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Influencias Psicobiológicas – 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ciones de Riesgo : Marginalidad, Aislamiento y Pobreza.(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iños Institucionalizados u Hospitalización prolongada (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ltrato infantil : Físico- Psicológico, Negligencia-Abandono, Abuso Sexual (3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mo de sustancias : Drogas, Alcohol y Tabaco.(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Influencias Psicobiológicas- 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Jóvenes infractores de la ley.(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mbarazo Adolescente(6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Niños Prematuros: RNMBP, retinopatías, HIV, HPV.(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rastornos Genéticos: Sd. Down, Sd. X frágil, u otro(8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Influencias Psicobiológicas- 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fermedades Metabólicas: Fenilquetonuria, Hipotiroidismo.(9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iciencia Renal Crónica, Diabetes Juvenil.(1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áncer Infantil(1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esidad Infantil (1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iscusión Seminario - Evalu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tes 7 de agos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bajo en pequeño grup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esta en común de las lecturas, experiencia y aprendizaj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uestas de intervención en T.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rega de la evaluación de resúmen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5:15:03Z</dcterms:created>
  <dc:creator>Terapia</dc:creator>
  <dc:description/>
  <dc:language>en-US</dc:language>
  <cp:lastModifiedBy>Laura</cp:lastModifiedBy>
  <dcterms:modified xsi:type="dcterms:W3CDTF">2007-06-26T18:26:33Z</dcterms:modified>
  <cp:revision>11</cp:revision>
  <dc:subject/>
  <dc:title>Influencias Psicobiológicas</dc:title>
</cp:coreProperties>
</file>