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4219-C9EB-494C-8DD7-E46B1E363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178A-9C1B-4E27-9058-ADC48AA80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3BAC-623B-43E1-9F63-B094D04A1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12E9-819B-4BFA-B3FA-5A3BE211C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4130-FC8E-49B0-BAC3-8DF856402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5123-90C2-4D00-9C3D-7BB869186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E33A-4C78-4C9A-B455-5922E11A0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F56F-BE06-490A-816D-1F95D7A34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4DD7-18AA-440F-ABA4-BABF18ED1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4DF2-B97F-42FF-92C0-F4EDE4735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A910-C787-44A4-AA01-2F389D827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7140-6E1A-4010-A238-26F7ABAC2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0D358-E217-4324-A86F-C90C0D0697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je de conocimientos previo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ignaturas del primer, segundo y tercer nivel curricu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684360" y="476280"/>
          <a:ext cx="7537320" cy="856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476280"/>
                    <a:ext cx="7537320" cy="856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684360" y="33336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º año: Ocupación y Terapia Ocup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679320" y="258840"/>
          <a:ext cx="7710480" cy="856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9320" y="258840"/>
                    <a:ext cx="7710480" cy="856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5T00:30:20Z</dcterms:created>
  <dc:creator>Laura Rueda C</dc:creator>
  <dc:description/>
  <dc:language>en-US</dc:language>
  <cp:lastModifiedBy>Laura Rueda C</cp:lastModifiedBy>
  <dcterms:modified xsi:type="dcterms:W3CDTF">2007-03-05T02:55:04Z</dcterms:modified>
  <cp:revision>5</cp:revision>
  <dc:subject/>
  <dc:title>Eje de conocimientos previos:</dc:title>
</cp:coreProperties>
</file>