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A715F-A8A7-43E5-BCB8-BC5E294DD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24531-DF65-4AB2-833C-5555E664D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E284C-039C-4DAD-9996-1DFF21F7E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9176C-F337-4CF0-A39D-DDD687741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B6689-F950-44BD-BDC8-C3560A342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6BCA9-B7AA-4972-A434-0B5D31079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32512-7AAB-40D3-93C1-62F0D7177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6AD17-FB61-4304-A740-C9558B391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788EB-D7D9-49EC-9043-7A432B56C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5467D-906C-4ECD-8C44-9927D796C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BA640-1C38-46DB-863E-E4B824C88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64A37-99A7-40E0-8E59-B4FC747DE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3EB19-A322-4EEA-825E-53EC05EAB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97D28-0AC9-425C-89D5-1161F8B4F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94982-2AED-4C16-A08F-2BC4BE087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C6965-127F-40C8-93D9-FBD1579DB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E98E6-98C3-4194-AEB5-2A774210E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863E9-304D-4207-B8C1-F919F1A23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A57DF-8F53-479C-8A66-203A1809A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183C5-9761-4311-9C6C-6E0364A2F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489B9-02B5-4A83-85FE-A274C254F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E6C42-94ED-4F7B-96F5-21574A9B7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3A4B2-3ED2-4A07-AF38-F8D05510C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3F131-E05D-4658-84CC-D3B2A7D8E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5E04F-7CAA-479D-9051-4F5DC2DD5299}" type="slidenum">
              <a:rPr b="0" lang="es-E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0509C-547A-4F7A-B925-939CCB6D857C}" type="slidenum">
              <a:rPr b="0" lang="es-E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La Funcionalidad Yoic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Características del YO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Comanda la vida psíquic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Cualifica y da sentido a las vivenci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Mantiene al sujeto adaptado a la realid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Hace propios los actos psíquic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Complejo, dinámico e integrado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Evaluación </a:t>
            </a:r>
            <a:br>
              <a:rPr sz="4400"/>
            </a:b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funcionalidad yoic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66680" y="2514600"/>
            <a:ext cx="7772400" cy="33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Flexibilidad Adaptativ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Capacidad de romper círculos vicios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Fortalez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Estabilid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Constitución evolutiva del Y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"/>
          <p:cNvSpPr/>
          <p:nvPr/>
        </p:nvSpPr>
        <p:spPr>
          <a:xfrm>
            <a:off x="1143000" y="2133720"/>
            <a:ext cx="3886200" cy="23619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ELEMENTOS </a:t>
            </a: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OPUESTOS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EN INTERA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(Dialéctic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495680" y="2819520"/>
            <a:ext cx="3810240" cy="1904760"/>
          </a:xfrm>
          <a:prstGeom prst="ellipse">
            <a:avLst/>
          </a:prstGeom>
          <a:noFill/>
          <a:ln w="381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TEMPORA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(Dinámic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743200" y="3733920"/>
            <a:ext cx="3352680" cy="1981080"/>
          </a:xfrm>
          <a:prstGeom prst="ellipse">
            <a:avLst/>
          </a:prstGeom>
          <a:noFill/>
          <a:ln w="3816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INTEG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Dimensiones Yoica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"/>
          <p:cNvSpPr/>
          <p:nvPr/>
        </p:nvSpPr>
        <p:spPr>
          <a:xfrm>
            <a:off x="990720" y="4876920"/>
            <a:ext cx="7026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Se van conformando a través del desarrollo de la persona, alcanzando madurez en la medida que se integran ambas polaridad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990720" y="2666880"/>
            <a:ext cx="6172200" cy="990720"/>
          </a:xfrm>
          <a:prstGeom prst="leftRightArrow">
            <a:avLst>
              <a:gd name="adj1" fmla="val 50000"/>
              <a:gd name="adj2" fmla="val 124023"/>
            </a:avLst>
          </a:prstGeom>
          <a:noFill/>
          <a:ln w="2844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DEPENDENCIA - INDEPEND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600200" y="3429000"/>
            <a:ext cx="6172200" cy="990720"/>
          </a:xfrm>
          <a:prstGeom prst="leftRightArrow">
            <a:avLst>
              <a:gd name="adj1" fmla="val 50000"/>
              <a:gd name="adj2" fmla="val 124023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ADHESIÓN - EVI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3520" y="1828800"/>
            <a:ext cx="6172200" cy="990720"/>
          </a:xfrm>
          <a:prstGeom prst="leftRightArrow">
            <a:avLst>
              <a:gd name="adj1" fmla="val 50000"/>
              <a:gd name="adj2" fmla="val 124023"/>
            </a:avLst>
          </a:prstGeom>
          <a:noFill/>
          <a:ln w="2844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ACTIVIDAD - PASIV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209680" y="4191120"/>
            <a:ext cx="6172200" cy="990360"/>
          </a:xfrm>
          <a:prstGeom prst="leftRightArrow">
            <a:avLst>
              <a:gd name="adj1" fmla="val 50000"/>
              <a:gd name="adj2" fmla="val 124068"/>
            </a:avLst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REALIDAD - IRREA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Dimensión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520" y="2514600"/>
            <a:ext cx="3429000" cy="33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Actitud alerta, activa y vigilan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Orientado a sus met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Toma decisio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Elabora planes, desarrolla estrategia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Intenta controlar el medio ambien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"/>
          <p:cNvSpPr/>
          <p:nvPr/>
        </p:nvSpPr>
        <p:spPr>
          <a:xfrm>
            <a:off x="609480" y="1905120"/>
            <a:ext cx="7925040" cy="990360"/>
          </a:xfrm>
          <a:prstGeom prst="leftRightArrow">
            <a:avLst>
              <a:gd name="adj1" fmla="val 50000"/>
              <a:gd name="adj2" fmla="val 159303"/>
            </a:avLst>
          </a:prstGeom>
          <a:noFill/>
          <a:ln w="3816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ACTIVIDAD - PASIV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410080" y="2514600"/>
            <a:ext cx="327672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Se deja llev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Vive el aquí y el aho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No manipu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Se aceptan las situacion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Dimens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" y="2057400"/>
            <a:ext cx="7848720" cy="990720"/>
          </a:xfrm>
          <a:prstGeom prst="leftRightArrow">
            <a:avLst>
              <a:gd name="adj1" fmla="val 50000"/>
              <a:gd name="adj2" fmla="val 157711"/>
            </a:avLst>
          </a:prstGeom>
          <a:noFill/>
          <a:ln w="381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DEPENDENCIA - INDEPEND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04920" y="2666880"/>
            <a:ext cx="358128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Los otros son fuente de gratific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Valora el criterio, la opinión y la ayuda que pueden brindar ot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410080" y="2666880"/>
            <a:ext cx="335304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Conserva su individual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Se gratifica consigo mis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Toma individualmente sus decision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Dimens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"/>
          <p:cNvSpPr/>
          <p:nvPr/>
        </p:nvSpPr>
        <p:spPr>
          <a:xfrm>
            <a:off x="380880" y="1905120"/>
            <a:ext cx="8153640" cy="990360"/>
          </a:xfrm>
          <a:prstGeom prst="leftRightArrow">
            <a:avLst>
              <a:gd name="adj1" fmla="val 50000"/>
              <a:gd name="adj2" fmla="val 163898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ADHESIÓN - EVI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181480" y="2590920"/>
            <a:ext cx="335304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Toma distancia de los otr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80880" y="2590920"/>
            <a:ext cx="335304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Le atrae vincularse con ot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143000" y="3962520"/>
            <a:ext cx="6781680" cy="1313640"/>
          </a:xfrm>
          <a:prstGeom prst="rect">
            <a:avLst/>
          </a:prstGeom>
          <a:noFill/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Dentro de un proceso relacional vive sin dificultades la evolución desde una adhesividad inicial hasta el distanciamiento natural que no necesariamente destruye el víncu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Dimens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"/>
          <p:cNvSpPr/>
          <p:nvPr/>
        </p:nvSpPr>
        <p:spPr>
          <a:xfrm>
            <a:off x="4800600" y="2666880"/>
            <a:ext cx="373392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Reconoce las fantasías, imaginaciones y ensueños del mundo inter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819520"/>
            <a:ext cx="335268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Percibe la realidad del mundo exter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33520" y="1981080"/>
            <a:ext cx="8229600" cy="990720"/>
          </a:xfrm>
          <a:prstGeom prst="leftRightArrow">
            <a:avLst>
              <a:gd name="adj1" fmla="val 50000"/>
              <a:gd name="adj2" fmla="val 165364"/>
            </a:avLst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REALIDAD - IRREA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066680" y="4724280"/>
            <a:ext cx="6858000" cy="1008720"/>
          </a:xfrm>
          <a:prstGeom prst="rect">
            <a:avLst/>
          </a:prstGeom>
          <a:noFill/>
          <a:ln cap="rnd" w="38160">
            <a:solidFill>
              <a:srgbClr val="33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Delimita claramente ambas fronteras y acepta la integración de ambos, reconociendo lo irreal dentro de lo real y vicevers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Principio de Realidad</a:t>
            </a:r>
            <a:r>
              <a:rPr b="0" lang="es-ES" sz="3600" spc="-1" strike="noStrike">
                <a:solidFill>
                  <a:srgbClr val="333399"/>
                </a:solidFill>
                <a:latin typeface="Tahoma"/>
              </a:rPr>
              <a:t>(funcional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304920" y="1828800"/>
          <a:ext cx="8421480" cy="4551480"/>
        </p:xfrm>
        <a:graphic>
          <a:graphicData uri="http://schemas.openxmlformats.org/drawingml/2006/table">
            <a:tbl>
              <a:tblPr/>
              <a:tblGrid>
                <a:gridCol w="2057400"/>
                <a:gridCol w="3352680"/>
                <a:gridCol w="3011400"/>
              </a:tblGrid>
              <a:tr h="60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ntorn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í mism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preciac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apta la realidad, con moldeos y distorsiones leves para su propia tranquilida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ogra su identidad. Se aprecia y estima. Conoce sus límites y capacidades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>
                        <a:alpha val="50000"/>
                      </a:srgbClr>
                    </a:solidFill>
                  </a:tcPr>
                </a:tc>
              </a:tr>
              <a:tr h="101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entido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f01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 partir de la realidad proyecta su vida construyendo plan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f01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e proyecta en el tiempo y da sentido a su existenc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f01">
                        <a:alpha val="50000"/>
                      </a:srgbClr>
                    </a:solidFill>
                  </a:tcPr>
                </a:tc>
              </a:tr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Juici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0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e conforman las ideas a partir de las vivencias Se construye un capital ideativo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0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precia y da sentido a su conciencia de sí mismo. El yo está integrado como estructur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000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Principio de Realidad</a:t>
            </a:r>
            <a:r>
              <a:rPr b="0" lang="es-ES" sz="3600" spc="-1" strike="noStrike">
                <a:solidFill>
                  <a:srgbClr val="333399"/>
                </a:solidFill>
                <a:latin typeface="Tahoma"/>
              </a:rPr>
              <a:t>(alterado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304920" y="1828800"/>
          <a:ext cx="8421480" cy="4248000"/>
        </p:xfrm>
        <a:graphic>
          <a:graphicData uri="http://schemas.openxmlformats.org/drawingml/2006/table">
            <a:tbl>
              <a:tblPr/>
              <a:tblGrid>
                <a:gridCol w="2057400"/>
                <a:gridCol w="3276360"/>
                <a:gridCol w="30877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ntorn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í mism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preciac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edisposición a apreciar los hechos, personas y objetos de una forma rígida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stá distorsionada por motivaciones internas. Vive conflictos y contradiccione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>
                        <a:alpha val="50000"/>
                      </a:srgbClr>
                    </a:solidFill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entido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f01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o identifica su propósito vital, no tiene proyecciones, vive con inmediatez las RIP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f01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o hay compromiso con la vivencia de significación. Autodestrucción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f01">
                        <a:alpha val="50000"/>
                      </a:srgbClr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Juici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0000">
                        <a:alpha val="50000"/>
                      </a:srgbClr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ay una vivencia de realidad perturbada. El entorno es paranoideamente amenazante y esquizoideamente evitado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0000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6T19:23:17Z</dcterms:created>
  <dc:creator>Terapia</dc:creator>
  <dc:description/>
  <dc:language>en-US</dc:language>
  <cp:lastModifiedBy>Fac. de Medicina</cp:lastModifiedBy>
  <dcterms:modified xsi:type="dcterms:W3CDTF">2007-03-26T14:57:55Z</dcterms:modified>
  <cp:revision>6</cp:revision>
  <dc:subject/>
  <dc:title>La Funcionalidad Yoica</dc:title>
</cp:coreProperties>
</file>