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84597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520" y="685440"/>
            <a:ext cx="4476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761C-71E3-4DCC-A2CF-185E6E5CFF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685800"/>
            <a:ext cx="447696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- encuentro con el “sí mismo” a partir de las connotaciones afectivas y cognitivas, de lo concreto que lo rodea (la corporalidad, lo sensorial, las actividades que desarrol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loración de las actividades relacionadas. A partir de estas connotaciones, reconocer las actividades que están en sintonía con su propio biene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ción de la Rutina, incorporando aquellas actividades factibles, participando activamente en e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3AC-2123-4B09-A133-2548DC38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C4C-6228-4D6F-A282-D2BB188C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7EF-8ED2-4549-8440-EA01687B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880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735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7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880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735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774-C7A2-46D6-98FC-146230E4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1D9-8430-4FFE-9782-6BD0380B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028-9024-4198-8E3E-9C803BDB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7C3-1757-4CC7-9417-4C9F4486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65F-25AF-4FB7-AA4E-0A551B2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3720" y="258480"/>
            <a:ext cx="761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3CC-569A-4B43-ABF0-D3CB545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789-F2C2-43B5-B673-2C9F904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0FB-3D18-4977-B28E-7F2911E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AD2-F2B0-46E1-80D4-82D606E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6680" indent="-212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3720" y="5900760"/>
            <a:ext cx="197352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0800" y="5900760"/>
            <a:ext cx="267984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64200" y="5900760"/>
            <a:ext cx="197496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fld id="{F8F1F0E1-4EF3-4C6E-88C3-47BA64699CC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880" y="1674360"/>
            <a:ext cx="7191720" cy="1389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ctividades de la vida Diaria y Discapacidad Psíquic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2080" y="4124160"/>
            <a:ext cx="5922720" cy="165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ra Rueda 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Juego y recre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800360"/>
            <a:ext cx="7615080" cy="30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aboración de rutina: diaria, semanal, mensual, an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ción e identificación de inter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de actividades recre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oyo de terapia ocup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640" y="863640"/>
            <a:ext cx="7615440" cy="2881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rón de idiosincr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lo de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90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4464000"/>
            <a:ext cx="63356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dios y fines terapéu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5040" y="576360"/>
            <a:ext cx="7191360" cy="79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yudas Técnica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360" y="1800000"/>
            <a:ext cx="7272360" cy="4103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 facil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co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para la comunicación, información y señ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económico para mejorar del ento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o actividades de tiempo lib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7615080" cy="2376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ntervención en situaciones de desequilibrio ocupacional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sequilibrio Ocupaciona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tervención de Terapia Ocupacional considera principalmente el grado de satisfacción de la persona con su actual estilo de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02240" y="1295280"/>
          <a:ext cx="277020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1295280"/>
                    <a:ext cx="277020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1508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strategi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n la historia de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s ambientales que condicionan la problemática actual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ituación contextual de l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615080" cy="807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ecanismos de desempeño: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294480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decu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4360" y="1871640"/>
            <a:ext cx="439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grama de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3080" y="1295280"/>
            <a:ext cx="2950920" cy="1938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06680" y="1511280"/>
            <a:ext cx="373212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mente nos enfrentamos a excesiva dedicación a la productividad, o bien excesivo tiempo libre, que lleva a un mal uso de és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27080" y="3527280"/>
            <a:ext cx="2108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área de las AVD, se configura como un regulador que favorece el equilibrio y recupera la satisf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62360" y="172728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91520" cy="4276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se  genere un que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ás conci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gido intrínsecam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alorado dentro de la rutina diari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arco conceptual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2879280"/>
            <a:ext cx="7632720" cy="223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como expresión pragmática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 psi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 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360" y="4032360"/>
            <a:ext cx="777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00" y="3887640"/>
            <a:ext cx="792144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374508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360" y="1727280"/>
            <a:ext cx="78501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 satisfacción de las necesidade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6000" y="4968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s categorí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tapas de la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 encuentro con el “sí mismo”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ación de las actividades relaciona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ción de la ru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26000" y="1511280"/>
            <a:ext cx="2033640" cy="194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8360" y="3745080"/>
            <a:ext cx="1382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ntrenamiento de AV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730680" cy="275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4000"/>
          </a:bodyPr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ación entre el sujeto y el Contexto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 del T.O. Mantener Estado de flujo: Aprendizaje significativo, procur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ビクトル・マリオ・パス（左）　Victor Mario Paz"/>
          <p:cNvPicPr/>
          <p:nvPr/>
        </p:nvPicPr>
        <p:blipFill>
          <a:blip r:embed="rId1"/>
          <a:stretch/>
        </p:blipFill>
        <p:spPr>
          <a:xfrm>
            <a:off x="4267080" y="2133720"/>
            <a:ext cx="3745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353880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1640" y="5331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Fortalezca un comportamiento satisfactor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Mantenga un comportami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Que se Suprima un comportamiento estres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ある朝の練習　　Ensayo con Lucas y Repo"/>
          <p:cNvPicPr/>
          <p:nvPr/>
        </p:nvPicPr>
        <p:blipFill>
          <a:blip r:embed="rId1"/>
          <a:stretch/>
        </p:blipFill>
        <p:spPr>
          <a:xfrm>
            <a:off x="380880" y="1752480"/>
            <a:ext cx="41547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Reeducación de las AVD, en Discapacidad mayo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9640" y="1726920"/>
            <a:ext cx="7615080" cy="3484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o y presentación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idado de perten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8436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o profe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ones oper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rtorio Inicial de apo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umbres y uso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rsos disponi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l repertorio inicial de apoy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ención vis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uimiento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ción  grupo de usu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lugar fís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osición de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ción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ción y Regis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VD Instrumentales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ejo de presu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ación de servicios púb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o adecuado del tiempo li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pectos registrab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2015640"/>
            <a:ext cx="7615440" cy="302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imientos estandariz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cción de infor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olaborales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stencia volunt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ntu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anencia en l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ción de t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laborales específ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1:00:28Z</dcterms:created>
  <dc:creator>Laura Rueda C</dc:creator>
  <dc:description/>
  <dc:language>en-US</dc:language>
  <cp:lastModifiedBy>Fac. de Medicina</cp:lastModifiedBy>
  <dcterms:modified xsi:type="dcterms:W3CDTF">2007-06-08T15:57:09Z</dcterms:modified>
  <cp:revision>39</cp:revision>
  <dc:subject/>
  <dc:title>Actividades de la vida Diaria y Discapacidad Psíquica</dc:title>
</cp:coreProperties>
</file>