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1.jpeg" ContentType="image/jpeg"/>
  <Override PartName="/ppt/media/image25.png" ContentType="image/png"/>
  <Override PartName="/ppt/media/image3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C6A-0564-419F-BA73-7940CA87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DA5-F4B9-414D-8D83-D70D31D7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B67-6EAB-430A-8B88-647BF2EC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0BC-F880-43E2-A8B4-12AB0D4A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BE3-162D-4297-9A56-C90DAB50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231-C2C5-42A5-A0B5-394B8E5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EA6-5CE6-4C59-BA4D-10DDF142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766-BB2A-4293-8EEF-74466F6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759-847A-4450-BDBE-E021F543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C62-1925-422A-B037-62528ED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BEE-D3E1-4DB6-BE2B-BB17EA7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894-7907-49CE-A288-79E55DC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AC05-1A6C-44C5-B09E-D01CC1DEA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images.google.cl/imgres?imgurl=http://www.calerdoses.blogger.com.br/silencio(2)_bg.jpg&amp;imgrefurl=http://irsweb.blogspot.com/2006/09/silencio-en-la-recuperacin-de.html&amp;h=175&amp;w=175&amp;sz=6&amp;hl=es&amp;start=3&amp;tbnid=UaBajbIYcpnIrM:&amp;tbnh=100&amp;tbnw=100&amp;prev=/images%3Fq%3Dsilencio%26gbv%3D2%26ndsp%3D20%26svnum%3D10%26hl%3Des%26sa%3DN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1104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748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a Respiratorio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raquea, Bronquios y pulm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94136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r. Wladimir Vásquez 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natomía y Biología del Desarro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8000" y="1123920"/>
            <a:ext cx="89647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4880" y="0"/>
            <a:ext cx="773424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046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ronqu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467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men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re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708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52440"/>
            <a:ext cx="7848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09520" y="115920"/>
            <a:ext cx="61264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6068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ulm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0" y="1125000"/>
            <a:ext cx="4965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b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b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lios pulmon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rrigación funcional y nutri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gmentación pulmo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22680" y="981000"/>
            <a:ext cx="46213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12920" y="115920"/>
            <a:ext cx="5689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r Fav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8120" y="404640"/>
            <a:ext cx="279072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331308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2000" y="369720"/>
            <a:ext cx="3132000" cy="313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70680" y="378936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uar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46720" y="260280"/>
            <a:ext cx="4481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7848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85680"/>
            <a:ext cx="784836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304920"/>
            <a:ext cx="828036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6724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74680"/>
            <a:ext cx="85690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27280" y="4653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¿ El   FIN…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68720" y="1484280"/>
            <a:ext cx="2950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fin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b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4889520" cy="5661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qu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067280" cy="32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ducto semirígido fibromúsculocartilagino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ide aprox. 13 cm. de los cuales  6 corresponden al segmento cervi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rmada en sus 3/4 partes anteriores por anillos cartilaginosos incompletos (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cartílagos  traqueal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 en número de 15-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736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854520"/>
            <a:ext cx="3924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501804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Membrana fibros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Cerrando el cartílago hacia posterior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el músculo traque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Vaina traqueal.(adventici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Origen: borde inferior del cartílago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cricoides (nivel de C6). Se extiend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hasta la bifurcación traqueal (manubri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esternal hacia anterior; T4-T5 hac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posterio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Ubicación cervicotorácic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Disposición diagonal en senti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céfalocauldal, anteroposterior y latera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derech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75480" y="712800"/>
            <a:ext cx="174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35640" y="0"/>
            <a:ext cx="35463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5240" y="404280"/>
            <a:ext cx="640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aciones: Cervicales-Torácic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338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ervi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ela subcutánea (M. platis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Lámina superficial de la fascia cerv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Lámina media de la fascia cervical (fascia pretraqu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stmo glándula tiroí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N. recurrente laríng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ófago cerv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62360" y="1700280"/>
            <a:ext cx="538164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4392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orác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ejido adiposo retroes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Vena braquiocefálica izquie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rco aór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ronco braquicefá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rótida común izquie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leura mediastínica der. e izq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N. V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N. Recurrente laríng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rco de la V. ác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Nodos paratraqu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óf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79840" y="981000"/>
            <a:ext cx="4700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8858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20:01:50Z</dcterms:created>
  <dc:creator>NORITA</dc:creator>
  <dc:description/>
  <dc:language>en-US</dc:language>
  <cp:lastModifiedBy>NORITA</cp:lastModifiedBy>
  <dcterms:modified xsi:type="dcterms:W3CDTF">2007-05-16T14:29:54Z</dcterms:modified>
  <cp:revision>18</cp:revision>
  <dc:subject/>
  <dc:title>Sistema Respiratorio Traquea, Bronquios y pulmones</dc:title>
</cp:coreProperties>
</file>