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67DB-1AD4-444C-BD65-4FDCF3B4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3A8E-B861-480B-9DC5-7CA2CC88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F617-5263-467D-9B4C-FF5FB59C9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2722-C7AA-4D1D-AB35-97364E40E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8E55-2CD7-4069-A942-AB69C6DA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9ABF-2F90-480B-A521-98BC4EF5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1D66-C3C8-481A-8E9D-50562606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B146-3789-4269-AC62-14646A9D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81FB-819B-44CB-A731-DDCB9973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0E1B-11EF-46CD-8729-11620330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C9B0-035C-44D3-AD0B-887A9EBF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267A-A0D2-4D61-870A-452F8597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4F72-9027-4AC7-9B3A-3FEF43B41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Etan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El etanol se encuentra en las bebidas alcohólicas que ingiere el ser huma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Ha acompañado al hombre desde hace miles de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El etanol tiene un conjunto de características que lo hacen un elemento único en la natural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86400" y="104760"/>
            <a:ext cx="3429000" cy="24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cohol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4883" t="0" r="13712" b="0"/>
          <a:stretch/>
        </p:blipFill>
        <p:spPr>
          <a:xfrm>
            <a:off x="4788000" y="1844640"/>
            <a:ext cx="4176720" cy="4251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01600" y="1773360"/>
            <a:ext cx="421812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coholemia: 400mg/d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46748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676520" y="0"/>
            <a:ext cx="59720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1295280"/>
            <a:ext cx="7772400" cy="39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 alcohol provoc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lteraciones en diversos órgan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s alteracion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e presentan generalmente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n forma simultáne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Tiene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elac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ó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 con la cantidad de alcohol ingerido y  con el tiempo de inge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s órganos más lábiles a la influencia del alcohol, son el sistema nervioso central y el híg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98640" y="274320"/>
            <a:ext cx="346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tiopatoge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43080" y="1600200"/>
            <a:ext cx="8458200" cy="48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s alteraciones del sistema nervioso central se relacionan 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F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ómenos psicológicos de adicción y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pendencia al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C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mpromiso orgánico, con alteraciones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tructurales del SN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tre las diversas etiologías del daño hepático crónico, el alcohol juega un papel de gran importanci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n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ran parte d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 mun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tiopatogenia</a:t>
            </a:r>
            <a:r>
              <a:rPr b="1" lang="es-C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ontinu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>
            <a:lum bright="12000"/>
          </a:blip>
          <a:srcRect l="8488" t="30709" r="7882" b="12724"/>
          <a:stretch/>
        </p:blipFill>
        <p:spPr>
          <a:xfrm>
            <a:off x="1943280" y="304920"/>
            <a:ext cx="5257800" cy="2666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2971800"/>
            <a:ext cx="9144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" y="914400"/>
            <a:ext cx="8686800" cy="56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probabilidad d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ufri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daño hepático crónico por alcohol,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correlaciona directamente con la magnitud de la inge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requiere una ingesta superior a los 60 g/día en el hombre y la mitad en la mujer para que se provoque un daño hepátic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iempo de ingest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s importante: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un estudio demostró que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os con ingesta mayor de 160 g/día pero por un periodo inferior a 5 años evolucionaron sin Hepatitis Alcohó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 un consumo alto por más de 20 años el 50% de los individuos desarrolló cirr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tiopatogenia</a:t>
            </a:r>
            <a:r>
              <a:rPr b="1" lang="es-C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ontinu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gesta de alcohol y ries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28880" y="1600200"/>
            <a:ext cx="7086600" cy="4700520"/>
          </a:xfrm>
          <a:prstGeom prst="rect">
            <a:avLst/>
          </a:prstGeom>
          <a:ln w="2844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1674720"/>
            <a:ext cx="8001000" cy="42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iste una cierta predisposición al daño hepático, cuyas causas 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ú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 no se conoc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ólo el 15% de los bebedores exagerados, presenta un 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ñ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pátic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ónic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n la autops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o tiene trascendencia el tipo de bebidas alcohólicas, importando 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mente la cantidad de alcohol que ellas contien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tiopatogenia</a:t>
            </a:r>
            <a:r>
              <a:rPr b="1" lang="es-C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ontinu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1197000"/>
            <a:ext cx="853416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enfermedad hepática alcohólic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un continuo e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r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pisodios de inflamación 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s cuales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obre agregan 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 proceso fibros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que coexiste y progresa en el tiem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s bebedores intermitentes le dan una oportunidad al hígado para recuperars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te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 así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men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iesgo que aquellos que beben en forma continu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 abstinenci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 un pas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sencial de la mejoría del pronóstico en la enfermedad hepática alcohólic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Daño Hepático por Alcoh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Características del Etanol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522720" indent="-52272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Fármaco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 por su capacidad de inducir cambios metabólicos en el organis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Tóxico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, ya que es capaz de producir daño cel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Droga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 por su capacidad de inducir adi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“</a:t>
            </a: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Nutriente”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, representa un aporte calórico significativo. Un gramo de etanol aporta 7.1 Kcal (más que un gramo de proteína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010280" y="58680"/>
            <a:ext cx="2133720" cy="177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Mayor susceptibilidad de la mujer a sufrir daño hepático por alcoh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ente a una misma dosis de etanol, la mujer alcanza mayores niveles de alcoholemia, esto se debe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Menor actividad de la alcohol dehidrogenasa gástrica</a:t>
            </a: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lo que hace que una mayor cantidad de etanol sea absorvido como 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Menor volumen de distribución</a:t>
            </a: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ebido a la menor masa corporal y el mayor contenido proporcional de tejido adip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Efecto de hormonas femeninas</a:t>
            </a: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que predispone a desarrollar un proceso inflamatorio más intenso (Mayor número de receptores  CD-14 a endotoxinas y mayores niveles de Lipopolisacáridos después de ingerir alcohol)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33320" y="0"/>
            <a:ext cx="3152880" cy="6324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29200" y="0"/>
            <a:ext cx="3541680" cy="62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67960" y="274320"/>
            <a:ext cx="761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ebidas alcoholicas y equival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3360" y="1143000"/>
            <a:ext cx="3454560" cy="5334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581280" y="1123920"/>
            <a:ext cx="55627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40000" y="1413000"/>
            <a:ext cx="4497480" cy="4825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76360" y="1341360"/>
            <a:ext cx="59896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785080" y="341964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8280" y="502920"/>
            <a:ext cx="41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1" lang="es-ES_tradn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pidemiología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tudios sobre el consumo de alcohol han mostrado que en la población chilena se encuent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1% de BEBEDORES EXCES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4 - 6% ALCOHO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os últimos años ha aumentado el grupo de bebedores excesivos en mayores de 65 años y en jóvenes entre 15 y 19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70% de los estudiantes de Enseñanza Media  consumen alcohol. El 15% de ellos se ha embriagado antes de los 15 años y el 5% bebe más de una vez a la seman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(E. Bustos Alcoholismo 20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2666880"/>
            <a:ext cx="2743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6248520" cy="6324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95880" y="304920"/>
            <a:ext cx="304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liminación del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67280" y="620280"/>
            <a:ext cx="281952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fectos inmediatos de la ingesta de eta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55324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cohol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20 a 30mg/dl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eacción lenta, motricidad fina disminuida y facultad crítica disminu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&gt; de 100 mg/dl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Bajo la influencia del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100mg/dl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7 veces riesgo de accidente automovilístico fatal, que el conductor que no ha bebido etan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150mg/dl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v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44g de etanol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120ml wisky)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[67 a 92 mg/d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44g de etanol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1,2 L cerveza)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[41 a 49 mg/dl)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21:47:05Z</dcterms:created>
  <dc:creator>Usuario</dc:creator>
  <dc:description/>
  <dc:language>en-US</dc:language>
  <cp:lastModifiedBy>Usuario</cp:lastModifiedBy>
  <dcterms:modified xsi:type="dcterms:W3CDTF">2007-10-19T21:47:23Z</dcterms:modified>
  <cp:revision>1</cp:revision>
  <dc:subject/>
  <dc:title>Etanol </dc:title>
</cp:coreProperties>
</file>