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9.jpeg" ContentType="image/jpeg"/>
  <Override PartName="/ppt/media/image11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FFA-0AA8-4518-B61B-52E382E7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F86-39BF-4E16-BEF4-D77020E6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AED-0534-4E64-896E-CFA854EF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799-CD7B-4DFE-BD10-565B8F10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2A6-5B16-459B-9416-6146FF03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C1A-9960-4307-95C0-CA0093B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75E-4B97-4A05-88B5-1BDC84E7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BF9-FF1B-4BD7-88E7-223290CA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84D-65E5-48AE-A57F-58B28704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CE0-72E9-4279-9A45-BA92CAB6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40D-D8CE-454A-9D5C-342C69F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601-5F51-40FE-A76A-80332714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887C-AC79-4FC9-828E-D12E63297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ffffff"/>
                </a:solidFill>
                <a:latin typeface="Arial"/>
              </a:rPr>
              <a:t>Respuesta efectora   humoral 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3396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I. Pepper Fonoaudiología 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spuesta humor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863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74872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275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492280"/>
            <a:ext cx="2556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49720"/>
            <a:ext cx="255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3120" y="0"/>
            <a:ext cx="52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000000"/>
                </a:solidFill>
                <a:latin typeface="Arial"/>
              </a:rPr>
              <a:t>ESTRATEGIAS en la respuesta efectora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46640" cy="659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165720"/>
            <a:ext cx="482436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91160" y="0"/>
            <a:ext cx="26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680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87280" y="6453360"/>
            <a:ext cx="475308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58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635280" y="6453360"/>
            <a:ext cx="41767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399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19280" y="6524640"/>
            <a:ext cx="2808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920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31040" cy="669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6524640"/>
            <a:ext cx="19447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5877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Vía Cl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2276640"/>
            <a:ext cx="608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ntigenos Extracel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5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32360" y="5300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Vía alte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3500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651640" y="0"/>
            <a:ext cx="349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Vía de l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Lect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-28440"/>
            <a:ext cx="734544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um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7188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40000" y="1773360"/>
            <a:ext cx="374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1. Neutrali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924280"/>
            <a:ext cx="648180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2.Activar célula fagoc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4932360" cy="76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0"/>
            <a:ext cx="345600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1.Anticuer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07920"/>
            <a:ext cx="446400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0"/>
            <a:ext cx="33843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2.Citoqu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907920"/>
            <a:ext cx="41403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espuesta celu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844640"/>
            <a:ext cx="129528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58920" y="2276640"/>
            <a:ext cx="60847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ntigenos Intracel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47163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421000"/>
            <a:ext cx="302400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8000" y="765000"/>
            <a:ext cx="48247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espuest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2060640"/>
            <a:ext cx="37447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Citotóx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3429000"/>
            <a:ext cx="489600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Beso de la Muerte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00360" y="4149720"/>
            <a:ext cx="2736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29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492360" y="0"/>
            <a:ext cx="56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6:20:57Z</dcterms:created>
  <dc:creator>Usuario</dc:creator>
  <dc:description/>
  <dc:language>en-US</dc:language>
  <cp:lastModifiedBy>Usuario</cp:lastModifiedBy>
  <dcterms:modified xsi:type="dcterms:W3CDTF">2007-10-30T14:20:35Z</dcterms:modified>
  <cp:revision>6</cp:revision>
  <dc:subject/>
  <dc:title>Diapositiva 1</dc:title>
</cp:coreProperties>
</file>