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557-41F7-4251-9B83-76DCEF5A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FFF-7FCE-4A46-93FB-FFAF360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D38-C3F7-4814-8FC3-F02C7BC0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734-A959-4121-8F29-7BBB73B4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66A-5CD0-4E17-B2BE-EB561A25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2E4-AAD5-45F7-AD85-FA5923E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B60-1B55-404D-B74A-760B8766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03A-1981-405A-A292-6D2F110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DC1-69B0-421A-8311-7C74A70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52A-A053-4562-80FE-9E3A05E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C4A-4928-483D-B25F-EBC4F43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4E8-9C3A-4D93-921D-24D8122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429-3A95-4A99-976A-E478D6C8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ffffff"/>
                </a:solidFill>
                <a:latin typeface="Arial"/>
              </a:rPr>
              <a:t>Respuesta efectora   humoral 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3396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I. Pepper Fonoaudiología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spuesta humo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863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75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492280"/>
            <a:ext cx="255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255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52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000000"/>
                </a:solidFill>
                <a:latin typeface="Arial"/>
              </a:rPr>
              <a:t>ESTRATEGIAS en la respuesta efecto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46640" cy="659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165720"/>
            <a:ext cx="48243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91160" y="0"/>
            <a:ext cx="26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6453360"/>
            <a:ext cx="47530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5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35280" y="6453360"/>
            <a:ext cx="41767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399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6524640"/>
            <a:ext cx="2808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20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31040" cy="669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6524640"/>
            <a:ext cx="19447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5877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Cl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Ex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5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32360" y="5300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al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51640" y="0"/>
            <a:ext cx="34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Vía de l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Lec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-28440"/>
            <a:ext cx="73454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1773360"/>
            <a:ext cx="374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 Neutrali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924280"/>
            <a:ext cx="64818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Activar célula fagoc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932360" cy="76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0"/>
            <a:ext cx="3456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Anticuer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4464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0"/>
            <a:ext cx="3384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Citoqu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907920"/>
            <a:ext cx="4140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844640"/>
            <a:ext cx="129528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In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47163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21000"/>
            <a:ext cx="3024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765000"/>
            <a:ext cx="482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060640"/>
            <a:ext cx="374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itotóx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3429000"/>
            <a:ext cx="4896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Beso de la Muerte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736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2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92360" y="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20:57Z</dcterms:created>
  <dc:creator>Usuario</dc:creator>
  <dc:description/>
  <dc:language>en-US</dc:language>
  <cp:lastModifiedBy>Usuario</cp:lastModifiedBy>
  <dcterms:modified xsi:type="dcterms:W3CDTF">2007-10-30T14:20:35Z</dcterms:modified>
  <cp:revision>6</cp:revision>
  <dc:subject/>
  <dc:title>Diapositiva 1</dc:title>
</cp:coreProperties>
</file>