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F697-E22E-4F3D-A59A-2A0C0F2C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1C90-3CDD-4A22-9F6B-EAAD4DE3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F6BD-DB1B-4EAA-9B55-B68610EE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CBE0-C320-4B05-B8F0-D4D11509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52E3-85D5-4ED7-B69E-221335D7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C702-2DD0-4C1C-BFAB-671213B4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AC3A-C8FD-4B51-87AA-28F5E510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8E54-70F9-4D18-B59E-4D2E72CE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6438-083C-42E6-BC63-58B304D1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A93A-4913-42B9-9C5B-E8B361A7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5D03-501B-4DF9-B45D-9F888DF1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CB02-68BE-474F-81AB-A455C493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A353-54EB-44BB-89B7-E6D07F92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1578-6B0A-4599-9176-394514B6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527A-5D96-4B84-AD0F-9529A35E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C027-BE3F-4F2A-94A4-31899C9E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3266-EAE6-4831-822C-D5F17EB3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261D-A71F-4820-857A-0A30BDEC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F86-74C7-4F40-9A43-DDBBE4C2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8C2-BB0E-4A54-B7E6-4B97198E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BD0A-35C9-4929-A02C-5B4B2799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5FE-92AD-472B-8815-51A2AA1C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E13A-FB24-4CAE-BD92-18BA6EA4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344-8B05-4FA9-AAB8-21B669CA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1738-D905-44F0-9175-E057CC180FB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1B7F-8E1C-48D2-82E0-28EB8FE73C8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920" y="2130480"/>
            <a:ext cx="763272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eaeaea"/>
                </a:solidFill>
                <a:latin typeface="Tahoma"/>
              </a:rPr>
              <a:t>NEMOTECNIAS PARA RECORDAR EN ENTREVISTA DE ADOLESCENTE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771280" y="4508640"/>
            <a:ext cx="396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ra. Mónica Cuev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HEADS--A mnemonic useful in the evaluation of adolescent patients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=Home, hab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=Education, employment, exerc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=Accidents, ambition, activities, ab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=Drugs (tobacco, alcohol, others), diet, depr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=Sex, suic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SAFE TEENS--A mnemonic useful in the evaluation of adolescent patients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=Sexua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=Accident, ab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=Firearms/homic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=Emotions (suicide/depression)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=Toxins (tobacco/alcohol, oth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=Environment (school, home, friend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=Exerci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=Nutri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=Shots (immunization status, school performanc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4:16:45Z</dcterms:created>
  <dc:creator>Ana Luisa</dc:creator>
  <dc:description/>
  <dc:language>en-US</dc:language>
  <cp:lastModifiedBy>Ana Luisa</cp:lastModifiedBy>
  <dcterms:modified xsi:type="dcterms:W3CDTF">2006-04-30T04:26:20Z</dcterms:modified>
  <cp:revision>2</cp:revision>
  <dc:subject/>
  <dc:title>Diapositiva 1</dc:title>
</cp:coreProperties>
</file>