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12C-4C93-42AF-98A1-6059C69C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A5B-93C0-4F10-97AD-8882BA2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8EA-8D65-4EB3-9348-3D913D7B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641-D222-46E7-B46B-BC24FE0A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1ED-541E-4F4E-A17C-46CB85E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311-ADA5-4B1A-8E67-9C866568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F74-3674-4FD1-8516-6D94FA0D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D97-EC8E-4109-99A8-96BE81A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31D-30F0-4887-A6B0-C2DD288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7A8-3108-4FD1-B3E2-2CE8EAD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FAD-3CB2-45E4-927E-108307B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6C1-DD7F-4922-9B27-2D22FD0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BE15-5EB6-4C56-8E91-DC18BCD306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23960" y="-328680"/>
            <a:ext cx="10591920" cy="751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27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Alimentación del lactante, preescolar y 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9280" y="495288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 Ximena Raimann Tam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304920"/>
            <a:ext cx="883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s en medidas prácticas de los alimentos usados en las fórmulas lácteas infant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762120"/>
            <a:ext cx="5073480" cy="5217840"/>
            <a:chOff x="1600200" y="762120"/>
            <a:chExt cx="5073480" cy="5217840"/>
          </a:xfrm>
        </p:grpSpPr>
        <p:grpSp>
          <p:nvGrpSpPr>
            <p:cNvPr id="194" name=""/>
            <p:cNvGrpSpPr/>
            <p:nvPr/>
          </p:nvGrpSpPr>
          <p:grpSpPr>
            <a:xfrm>
              <a:off x="1604880" y="766440"/>
              <a:ext cx="5064120" cy="5208120"/>
              <a:chOff x="1604880" y="766440"/>
              <a:chExt cx="5064120" cy="5208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04880" y="766440"/>
                <a:ext cx="1644480" cy="821880"/>
                <a:chOff x="1604880" y="766440"/>
                <a:chExt cx="1644480" cy="82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766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766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49360" y="766440"/>
                <a:ext cx="1127160" cy="821880"/>
                <a:chOff x="3249360" y="766440"/>
                <a:chExt cx="1127160" cy="821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17760" y="766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49360" y="766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376520" y="766440"/>
                <a:ext cx="1146240" cy="821880"/>
                <a:chOff x="4376520" y="766440"/>
                <a:chExt cx="1146240" cy="821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44920" y="766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37652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522760" y="766440"/>
                <a:ext cx="1146240" cy="821880"/>
                <a:chOff x="5522760" y="766440"/>
                <a:chExt cx="1146240" cy="821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91160" y="766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chara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ta de 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2276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04880" y="1588320"/>
                <a:ext cx="1644480" cy="1004760"/>
                <a:chOff x="1604880" y="1588320"/>
                <a:chExt cx="1644480" cy="1004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73280" y="1588320"/>
                  <a:ext cx="1508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no instánta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Purita Ce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04880" y="1588320"/>
                  <a:ext cx="16444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9360" y="1588320"/>
                <a:ext cx="1127160" cy="1004760"/>
                <a:chOff x="3249360" y="1588320"/>
                <a:chExt cx="1127160" cy="100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317760" y="1588320"/>
                  <a:ext cx="99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9360" y="1588320"/>
                  <a:ext cx="1127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76520" y="1588320"/>
                <a:ext cx="1146240" cy="1004760"/>
                <a:chOff x="4376520" y="1588320"/>
                <a:chExt cx="1146240" cy="1004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44920" y="1588320"/>
                  <a:ext cx="1009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652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22760" y="1588320"/>
                <a:ext cx="1146240" cy="1004760"/>
                <a:chOff x="5522760" y="1588320"/>
                <a:chExt cx="1146240" cy="1004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591160" y="1588320"/>
                  <a:ext cx="1009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2276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604880" y="2593440"/>
                <a:ext cx="1644480" cy="821880"/>
                <a:chOff x="1604880" y="2593440"/>
                <a:chExt cx="1644480" cy="82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73280" y="2593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instantá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04880" y="2593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49360" y="2593440"/>
                <a:ext cx="1127160" cy="821880"/>
                <a:chOff x="3249360" y="2593440"/>
                <a:chExt cx="1127160" cy="821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317760" y="2593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9360" y="2593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376520" y="2593440"/>
                <a:ext cx="1146240" cy="821880"/>
                <a:chOff x="4376520" y="2593440"/>
                <a:chExt cx="1146240" cy="821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444920" y="2593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37652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22760" y="2593440"/>
                <a:ext cx="1146240" cy="821880"/>
                <a:chOff x="5522760" y="2593440"/>
                <a:chExt cx="1146240" cy="821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91160" y="2593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2276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04880" y="3415680"/>
                <a:ext cx="1644480" cy="639360"/>
                <a:chOff x="1604880" y="3415680"/>
                <a:chExt cx="1644480" cy="63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673280" y="341568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tosa dextr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4880" y="341568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249360" y="3415680"/>
                <a:ext cx="1127160" cy="639360"/>
                <a:chOff x="3249360" y="3415680"/>
                <a:chExt cx="1127160" cy="639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317760" y="341568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49360" y="341568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76520" y="3415680"/>
                <a:ext cx="1146240" cy="639360"/>
                <a:chOff x="4376520" y="3415680"/>
                <a:chExt cx="1146240" cy="639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444920" y="341568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7652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22760" y="3415680"/>
                <a:ext cx="1146240" cy="639360"/>
                <a:chOff x="5522760" y="3415680"/>
                <a:chExt cx="1146240" cy="639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91160" y="341568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2276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604880" y="4055400"/>
                <a:ext cx="1644480" cy="639360"/>
                <a:chOff x="1604880" y="4055400"/>
                <a:chExt cx="1644480" cy="639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73280" y="405540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zú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04880" y="405540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49360" y="4055400"/>
                <a:ext cx="1127160" cy="639360"/>
                <a:chOff x="3249360" y="4055400"/>
                <a:chExt cx="1127160" cy="63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317760" y="405540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49360" y="405540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76520" y="4055400"/>
                <a:ext cx="1146240" cy="639360"/>
                <a:chOff x="4376520" y="4055400"/>
                <a:chExt cx="1146240" cy="63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44920" y="405540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7652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22760" y="4055400"/>
                <a:ext cx="1146240" cy="639360"/>
                <a:chOff x="5522760" y="4055400"/>
                <a:chExt cx="1146240" cy="63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91160" y="405540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276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04880" y="4695120"/>
                <a:ext cx="1644480" cy="639360"/>
                <a:chOff x="1604880" y="4695120"/>
                <a:chExt cx="1644480" cy="63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73280" y="469512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real precoc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04880" y="469512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249360" y="4695120"/>
                <a:ext cx="1127160" cy="639360"/>
                <a:chOff x="3249360" y="4695120"/>
                <a:chExt cx="1127160" cy="63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17760" y="469512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- 3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49360" y="469512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76520" y="4695120"/>
                <a:ext cx="1146240" cy="639360"/>
                <a:chOff x="4376520" y="4695120"/>
                <a:chExt cx="1146240" cy="63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444920" y="469512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7652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522760" y="4695120"/>
                <a:ext cx="1146240" cy="639360"/>
                <a:chOff x="5522760" y="4695120"/>
                <a:chExt cx="1146240" cy="63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1160" y="469512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2276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4880" y="5334840"/>
                <a:ext cx="1644480" cy="639720"/>
                <a:chOff x="1604880" y="5334840"/>
                <a:chExt cx="1644480" cy="639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3280" y="5334840"/>
                  <a:ext cx="150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04880" y="5334840"/>
                  <a:ext cx="164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49360" y="5334840"/>
                <a:ext cx="1127160" cy="639720"/>
                <a:chOff x="3249360" y="5334840"/>
                <a:chExt cx="1127160" cy="639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17760" y="5334840"/>
                  <a:ext cx="990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49360" y="5334840"/>
                  <a:ext cx="1127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376520" y="5334840"/>
                <a:ext cx="1146240" cy="639720"/>
                <a:chOff x="4376520" y="5334840"/>
                <a:chExt cx="1146240" cy="639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44920" y="53348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652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22760" y="5334840"/>
                <a:ext cx="1146240" cy="639720"/>
                <a:chOff x="5522760" y="5334840"/>
                <a:chExt cx="1146240" cy="639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591160" y="5334840"/>
                  <a:ext cx="1009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2276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600200" y="762120"/>
              <a:ext cx="5073480" cy="521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00200" y="5853240"/>
            <a:ext cx="75470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da la medida como aquella que hace 5 g de leche en polvo no instantá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al arroz 2 g y otro cereal 3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4680" y="380880"/>
            <a:ext cx="7699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Preparación del Puré Mixto</a:t>
            </a:r>
            <a:r>
              <a:rPr b="1" lang="es-E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Puré de Legumin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7920" y="1219320"/>
            <a:ext cx="6197040" cy="5181120"/>
            <a:chOff x="1447920" y="1219320"/>
            <a:chExt cx="6197040" cy="5181120"/>
          </a:xfrm>
        </p:grpSpPr>
        <p:grpSp>
          <p:nvGrpSpPr>
            <p:cNvPr id="283" name=""/>
            <p:cNvGrpSpPr/>
            <p:nvPr/>
          </p:nvGrpSpPr>
          <p:grpSpPr>
            <a:xfrm>
              <a:off x="1452600" y="1224360"/>
              <a:ext cx="6186600" cy="5169240"/>
              <a:chOff x="1452600" y="1224360"/>
              <a:chExt cx="6186600" cy="51692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52600" y="1224360"/>
                <a:ext cx="1258560" cy="709560"/>
                <a:chOff x="1452600" y="1224360"/>
                <a:chExt cx="1258560" cy="709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498320" y="1224360"/>
                  <a:ext cx="116676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52600" y="1224360"/>
                  <a:ext cx="125856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11520" y="1224360"/>
                <a:ext cx="1331280" cy="709560"/>
                <a:chOff x="2711520" y="1224360"/>
                <a:chExt cx="1331280" cy="709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757600" y="1224360"/>
                  <a:ext cx="12391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nt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1520" y="1224360"/>
                  <a:ext cx="13312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43520" y="1224360"/>
                <a:ext cx="3595680" cy="709560"/>
                <a:chOff x="4043520" y="1224360"/>
                <a:chExt cx="3595680" cy="709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89600" y="1224360"/>
                  <a:ext cx="35035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a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43520" y="1224360"/>
                  <a:ext cx="35956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52600" y="1934280"/>
                <a:ext cx="1258560" cy="3141720"/>
                <a:chOff x="1452600" y="1934280"/>
                <a:chExt cx="1258560" cy="31417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498320" y="1934280"/>
                  <a:ext cx="116676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Mixto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52600" y="1934280"/>
                  <a:ext cx="125856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711520" y="1934280"/>
                <a:ext cx="1331280" cy="3141720"/>
                <a:chOff x="2711520" y="1934280"/>
                <a:chExt cx="1331280" cy="3141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57600" y="1934280"/>
                  <a:ext cx="12391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11520" y="1934280"/>
                  <a:ext cx="13312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43520" y="1934280"/>
                <a:ext cx="3595680" cy="3141720"/>
                <a:chOff x="4043520" y="1934280"/>
                <a:chExt cx="3595680" cy="3141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89600" y="1934280"/>
                  <a:ext cx="35035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lga o espinaca 15 g (1 hoja regular); zanahoria 25g (1/2 unidad chica);  zapallo 40g (1 trozo chico); fideos ó arroz ó sémola 10g (1 cucharadas soperas); papa 50 g (1 unidad del tamaño de un huevo); carne 20g  (1 cucharada sopera de pollo, pavo sin piel o posta); aceite 1 ½ cucharadita de te (5 mL). Debe licuarse hasta lograr una consistencia de papill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enzar con una cucharada de puré de verduras e ir aumentando  progresivamente hasta alcanzar  los ¾ a 1 taz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arne puede reemplazarse por 20 g (1 cucharada sopera) de pescado sin  espinas los 10 meses ó ½ huevo  a partir del añ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43520" y="1934280"/>
                  <a:ext cx="35956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452600" y="5076360"/>
                <a:ext cx="1258560" cy="1317240"/>
                <a:chOff x="1452600" y="5076360"/>
                <a:chExt cx="1258560" cy="1317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498320" y="5076360"/>
                  <a:ext cx="116676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de Legumino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2600" y="5076360"/>
                  <a:ext cx="125856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711520" y="5076360"/>
                <a:ext cx="1331280" cy="1317240"/>
                <a:chOff x="2711520" y="5076360"/>
                <a:chExt cx="1331280" cy="1317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757600" y="5076360"/>
                  <a:ext cx="12391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11520" y="5076360"/>
                  <a:ext cx="13312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043520" y="5076360"/>
                <a:ext cx="3595680" cy="1317240"/>
                <a:chOff x="4043520" y="5076360"/>
                <a:chExt cx="3595680" cy="1317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89600" y="5076360"/>
                  <a:ext cx="35035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umbres 3 cucharadas soperas crudas (1/2 taza cocidas equivalente a 70 g), 20 g de zapallo; 10 g de fideos (1 cucharada sopera de fideos crudos), aceite 1 cucharadita de te (2,5 a 3 m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43520" y="5076360"/>
                  <a:ext cx="35956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447920" y="1219320"/>
              <a:ext cx="619704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imera comida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gún estado nutricional se agrega el arroz o f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ostre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½ a 1 fruta  como puré (plátano, manzana, pera, durazno, damasco, pepino dul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gua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ofrecer 20-50 ml 2 a 3 veces al día desde que se inicia la alimentación só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99072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n caso de antecedente familiar de enfermedad celíaca se recomienda posponer la introducción de alimentos con gluten (fideos, sémola y cereales con trigo y avena) en 2-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Segunda comida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 2 meses después de la primer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Legumbres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s a los 8 a 9 meses, pasadas por cedazo,     mezcladas con fideos o arroz, 1 a 2 veces a la se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Pescado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troducirlo a los  9-1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Huevo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-10 meses ( si hay antecedentes de alergia, darlo después del 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istencia de la alimentación sólida debe ser totalmente molida hasta los 12 mes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go se pueden incorporar algunos alimentos picados según la dentición. Esto va asociado a la salida de los primeros molares y al desarrollo de la masticación y deglu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Suplementos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itamina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00 UI desde el mes hasta el año de vida, si están con LM o reciben menos de 500 ml/día de Fórmula de in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mas de adminis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ral fraccionada (ideal): 4-5 gotas diarias de los preparados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olpe vitamínico”: 2 dosis (al mes y 6 meses) de 100.000 UI c/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i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-2 mg/kg/día en niños con LM o fórmulas no fortificadas, desde los 4 meses y hasta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prematuros o lactantes de bajo peso  comenzar a los 2 meses o cuando dupliquen el peso de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36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12 a 24 m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-3 mamad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lmuerzo y co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puede seguir con leches de continuación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guimiento, pero también se puede dar leche ent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che Purita fortificada 10% con agregado de azúcar (2,5%) y cereal (3-5%) (Nestum, Blev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También se puede dar leche fluida, que trae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teria grasa (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recomienda suspender la mamadera noctu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espués de los 18 meses para quedar con los 4 horarios definitivo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volumen de leche debe completar un total de 400 a 500 mL/día, en caso que este volumen no se alcance debe agregarse otro producto lácteo en el día (queso, quesillo, yogurt, etc) que cubra los requerimientos de cal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ecomienda incluir a diario frutas, verduras, cereales, aceite de origen vegetal crudo y un alimento proteico, como carnes, una porción de legumbres secas o un hue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 alimentos se pueden presentar separados en el plato para estimular la alimentación de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ñ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la visión de diferentes colores y form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ear el hábito de la ensalada desde los 12 meses, progresivamente (inicialmente tomate, betarraga,zanahoria cocida, pa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íquidos: preferir AGUA 200 ml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dar colaciones ni alimentos fuera del horario de comida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0-6 meses: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cia materna: único alimento capaz de satisfacer todas las necesidades nutricionales durante los primeros 6 meses de vida, sin requerir otros alimento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be ser libre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iene beneficios para el niño, la madre y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3 meses de edad, sexo femenino, PN 3200 g, TN 52 cm, alimentado con fórmula láctea adaptada desde el nacimiento. Ahora pesa 6100 g y mide 58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Indicar a la madre la preparación de las mamaderas (sólo cuenta con LP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Le agregaría aceite a las mamaderas? ¿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que la alimentación, si contara con leche adapta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9 meses de edad, sexo femenino, que pesa 7600 g y mide 73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¿Cuántas mamaderas y cuántas comidas debería recib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Cómo prepararía las mamade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tinuará....................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(maña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ies09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el niño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ción óp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ácil digest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yor protección inmu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trones afectivos-emocionales más adec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dento-maxilar y 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s frecuencia de al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DM I, en niños con antecedentes de ella en familiares de prim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Obesidad en etapas posteriores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la madre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tracción del 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uperación de peso (disminució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revención cáncer de mama y ová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talecimiento de la autoestim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ablecimiento del apego madre-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nor cos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Beneficios para la familia y sociedad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fuerzo de lazos afectiv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paciamiento de los na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horro en alimentos y gastos en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230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i no es posible la alimentación con leche materna o ésta es insuficiente, se puede u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órmula adaptada o “de inicio”(NAN 1, Similac advance 1, S26 Gold, Blemil plu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Leche Purita fortificada. Esta debe darse diluida al 7,5%, para evitar la carga excesiva para el riñón de proteínas, calcio, fósforo y sodio. Se debe adicionar a la leche: azúcar al 2,5% (para aumentar las calorías) y aceite al 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raccionamiento: cada 3 horas por 8 u 7 veces en los primeros 2 a 3 meses y progresivamente cambiar a cada 4 horas por 6 ó 5 veces hasta los 6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 ofrecer agua ni jugo de fr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ición nutricional de fórmulas lácteas para lactantes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ores de 6 me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057400"/>
            <a:ext cx="5943600" cy="3755880"/>
            <a:chOff x="1523880" y="2057400"/>
            <a:chExt cx="5943600" cy="3755880"/>
          </a:xfrm>
        </p:grpSpPr>
        <p:grpSp>
          <p:nvGrpSpPr>
            <p:cNvPr id="57" name=""/>
            <p:cNvGrpSpPr/>
            <p:nvPr/>
          </p:nvGrpSpPr>
          <p:grpSpPr>
            <a:xfrm>
              <a:off x="1528200" y="2062080"/>
              <a:ext cx="5933520" cy="3746520"/>
              <a:chOff x="1528200" y="2062080"/>
              <a:chExt cx="5933520" cy="3746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528200" y="2062080"/>
                <a:ext cx="1882800" cy="822240"/>
                <a:chOff x="1528200" y="2062080"/>
                <a:chExt cx="1882800" cy="82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71040" y="2062080"/>
                  <a:ext cx="17960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8200" y="2062080"/>
                  <a:ext cx="188280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411000" y="2062080"/>
                <a:ext cx="1594080" cy="822240"/>
                <a:chOff x="3411000" y="2062080"/>
                <a:chExt cx="1594080" cy="82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453840" y="2062080"/>
                  <a:ext cx="15076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411000" y="2062080"/>
                  <a:ext cx="15940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005080" y="2062080"/>
                <a:ext cx="1223640" cy="822240"/>
                <a:chOff x="5005080" y="2062080"/>
                <a:chExt cx="1223640" cy="822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048280" y="2062080"/>
                  <a:ext cx="11368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s de inicio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5080" y="2062080"/>
                  <a:ext cx="1223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229080" y="2062080"/>
                <a:ext cx="1232640" cy="822240"/>
                <a:chOff x="6229080" y="2062080"/>
                <a:chExt cx="1232640" cy="82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271920" y="2062080"/>
                  <a:ext cx="11462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 con LP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-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29080" y="2062080"/>
                  <a:ext cx="1232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8200" y="2884320"/>
                <a:ext cx="1882800" cy="639720"/>
                <a:chOff x="1528200" y="2884320"/>
                <a:chExt cx="18828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571040" y="288432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8200" y="288432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411000" y="2884320"/>
                <a:ext cx="1594080" cy="639720"/>
                <a:chOff x="3411000" y="2884320"/>
                <a:chExt cx="15940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453840" y="288432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11000" y="288432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005080" y="2884320"/>
                <a:ext cx="1223640" cy="639720"/>
                <a:chOff x="5005080" y="2884320"/>
                <a:chExt cx="122364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48280" y="288432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5080" y="288432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229080" y="2884320"/>
                <a:ext cx="1232640" cy="639720"/>
                <a:chOff x="6229080" y="2884320"/>
                <a:chExt cx="123264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271920" y="288432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29080" y="288432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28200" y="3524040"/>
                <a:ext cx="1882800" cy="639720"/>
                <a:chOff x="1528200" y="3524040"/>
                <a:chExt cx="188280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1040" y="352404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28200" y="352404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1000" y="3524040"/>
                <a:ext cx="1594080" cy="639720"/>
                <a:chOff x="3411000" y="3524040"/>
                <a:chExt cx="15940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3840" y="352404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411000" y="352404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005080" y="3524040"/>
                <a:ext cx="1223640" cy="639720"/>
                <a:chOff x="5005080" y="3524040"/>
                <a:chExt cx="12236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8280" y="352404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005080" y="352404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29080" y="3524040"/>
                <a:ext cx="1232640" cy="639720"/>
                <a:chOff x="6229080" y="3524040"/>
                <a:chExt cx="1232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271920" y="352404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29080" y="352404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528200" y="4163760"/>
                <a:ext cx="1882800" cy="640080"/>
                <a:chOff x="1528200" y="4163760"/>
                <a:chExt cx="1882800" cy="640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71040" y="4163760"/>
                  <a:ext cx="17960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pidos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28200" y="4163760"/>
                  <a:ext cx="188280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411000" y="4163760"/>
                <a:ext cx="1594080" cy="640080"/>
                <a:chOff x="3411000" y="4163760"/>
                <a:chExt cx="1594080" cy="6400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453840" y="4163760"/>
                  <a:ext cx="15076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411000" y="4163760"/>
                  <a:ext cx="15940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05080" y="4163760"/>
                <a:ext cx="1223640" cy="640080"/>
                <a:chOff x="5005080" y="4163760"/>
                <a:chExt cx="1223640" cy="640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48280" y="4163760"/>
                  <a:ext cx="11368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5080" y="4163760"/>
                  <a:ext cx="1223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229080" y="4163760"/>
                <a:ext cx="1232640" cy="640080"/>
                <a:chOff x="6229080" y="4163760"/>
                <a:chExt cx="1232640" cy="640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271920" y="4163760"/>
                  <a:ext cx="11462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29080" y="4163760"/>
                  <a:ext cx="1232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28200" y="4803840"/>
                <a:ext cx="1882800" cy="1004760"/>
                <a:chOff x="1528200" y="4803840"/>
                <a:chExt cx="1882800" cy="1004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1040" y="4803840"/>
                  <a:ext cx="17960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grasos esenci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Linoleico (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αLinolénico (m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28200" y="4803840"/>
                  <a:ext cx="188280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411000" y="4803840"/>
                <a:ext cx="1594080" cy="1004760"/>
                <a:chOff x="3411000" y="4803840"/>
                <a:chExt cx="1594080" cy="1004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53840" y="4803840"/>
                  <a:ext cx="15076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11000" y="4803840"/>
                  <a:ext cx="15940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5080" y="4803840"/>
                <a:ext cx="1223640" cy="1004760"/>
                <a:chOff x="5005080" y="4803840"/>
                <a:chExt cx="1223640" cy="1004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48280" y="4803840"/>
                  <a:ext cx="11368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3 - 0,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5080" y="4803840"/>
                  <a:ext cx="1223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229080" y="4803840"/>
                <a:ext cx="1232640" cy="1004760"/>
                <a:chOff x="6229080" y="4803840"/>
                <a:chExt cx="1232640" cy="1004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71920" y="4803840"/>
                  <a:ext cx="11462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29080" y="4803840"/>
                  <a:ext cx="1232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1523880" y="2057400"/>
              <a:ext cx="5943600" cy="3755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96600" y="23907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he ma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057400"/>
            <a:ext cx="6113520" cy="3755880"/>
            <a:chOff x="1371600" y="2057400"/>
            <a:chExt cx="6113520" cy="3755880"/>
          </a:xfrm>
        </p:grpSpPr>
        <p:grpSp>
          <p:nvGrpSpPr>
            <p:cNvPr id="121" name=""/>
            <p:cNvGrpSpPr/>
            <p:nvPr/>
          </p:nvGrpSpPr>
          <p:grpSpPr>
            <a:xfrm>
              <a:off x="1376280" y="2062080"/>
              <a:ext cx="6103800" cy="3746520"/>
              <a:chOff x="1376280" y="2062080"/>
              <a:chExt cx="6103800" cy="37465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76280" y="2062080"/>
                <a:ext cx="1936800" cy="822240"/>
                <a:chOff x="1376280" y="2062080"/>
                <a:chExt cx="1936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0560" y="2062080"/>
                  <a:ext cx="1847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76280" y="2062080"/>
                  <a:ext cx="1936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13080" y="2062080"/>
                <a:ext cx="1639800" cy="822240"/>
                <a:chOff x="3313080" y="2062080"/>
                <a:chExt cx="163980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57360" y="2062080"/>
                  <a:ext cx="1551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13080" y="2062080"/>
                  <a:ext cx="1639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52880" y="2062080"/>
                <a:ext cx="1258920" cy="822240"/>
                <a:chOff x="4952880" y="2062080"/>
                <a:chExt cx="125892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997520" y="2062080"/>
                  <a:ext cx="117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as de inic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2062080"/>
                  <a:ext cx="1258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11800" y="2062080"/>
                <a:ext cx="1268280" cy="822240"/>
                <a:chOff x="6211800" y="2062080"/>
                <a:chExt cx="126828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56080" y="2062080"/>
                  <a:ext cx="1179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con LPF </a:t>
                  </a:r>
                  <a:r>
                    <a:rPr b="0" lang="es-ES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y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marav.(soy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11800" y="2062080"/>
                  <a:ext cx="1268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76280" y="2884320"/>
                <a:ext cx="1936800" cy="639720"/>
                <a:chOff x="1376280" y="2884320"/>
                <a:chExt cx="193680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0560" y="288432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76280" y="288432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3080" y="2884320"/>
                <a:ext cx="1639800" cy="639720"/>
                <a:chOff x="3313080" y="2884320"/>
                <a:chExt cx="163980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57360" y="288432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3080" y="288432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52880" y="2884320"/>
                <a:ext cx="1258920" cy="639720"/>
                <a:chOff x="4952880" y="2884320"/>
                <a:chExt cx="1258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97520" y="288432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880" y="288432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11800" y="2884320"/>
                <a:ext cx="1268280" cy="639720"/>
                <a:chOff x="6211800" y="2884320"/>
                <a:chExt cx="126828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256080" y="288432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11800" y="288432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280" y="3524040"/>
                <a:ext cx="1936800" cy="639720"/>
                <a:chOff x="1376280" y="3524040"/>
                <a:chExt cx="193680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20560" y="352404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280" y="352404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313080" y="3524040"/>
                <a:ext cx="1639800" cy="639720"/>
                <a:chOff x="3313080" y="3524040"/>
                <a:chExt cx="163980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357360" y="352404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13080" y="352404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952880" y="3524040"/>
                <a:ext cx="1258920" cy="639720"/>
                <a:chOff x="4952880" y="3524040"/>
                <a:chExt cx="1258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997520" y="352404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52880" y="352404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211800" y="3524040"/>
                <a:ext cx="1268280" cy="639720"/>
                <a:chOff x="6211800" y="3524040"/>
                <a:chExt cx="126828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352404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352404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280" y="4163760"/>
                <a:ext cx="1936800" cy="640080"/>
                <a:chOff x="1376280" y="4163760"/>
                <a:chExt cx="1936800" cy="640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20560" y="4163760"/>
                  <a:ext cx="18478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ípidos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280" y="4163760"/>
                  <a:ext cx="1936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13080" y="4163760"/>
                <a:ext cx="1639800" cy="640080"/>
                <a:chOff x="3313080" y="4163760"/>
                <a:chExt cx="1639800" cy="640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7360" y="4163760"/>
                  <a:ext cx="15512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3080" y="4163760"/>
                  <a:ext cx="163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2880" y="4163760"/>
                <a:ext cx="1258920" cy="640080"/>
                <a:chOff x="4952880" y="4163760"/>
                <a:chExt cx="1258920" cy="6400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97520" y="4163760"/>
                  <a:ext cx="117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2880" y="4163760"/>
                  <a:ext cx="1258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211800" y="4163760"/>
                <a:ext cx="1268280" cy="640080"/>
                <a:chOff x="6211800" y="4163760"/>
                <a:chExt cx="1268280" cy="64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56080" y="4163760"/>
                  <a:ext cx="1179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11800" y="4163760"/>
                  <a:ext cx="1268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280" y="4803840"/>
                <a:ext cx="1936800" cy="1004760"/>
                <a:chOff x="1376280" y="4803840"/>
                <a:chExt cx="1936800" cy="1004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20560" y="4803840"/>
                  <a:ext cx="18478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grasos esencia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Linoleico (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αLinolénico (m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280" y="4803840"/>
                  <a:ext cx="1936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13080" y="4803840"/>
                <a:ext cx="1639800" cy="1004760"/>
                <a:chOff x="3313080" y="4803840"/>
                <a:chExt cx="1639800" cy="1004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57360" y="4803840"/>
                  <a:ext cx="1551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13080" y="4803840"/>
                  <a:ext cx="1639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52880" y="4803840"/>
                <a:ext cx="1258920" cy="1004760"/>
                <a:chOff x="4952880" y="4803840"/>
                <a:chExt cx="1258920" cy="1004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997520" y="4803840"/>
                  <a:ext cx="117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52880" y="4803840"/>
                  <a:ext cx="12589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11800" y="4803840"/>
                <a:ext cx="1268280" cy="1004760"/>
                <a:chOff x="6211800" y="4803840"/>
                <a:chExt cx="1268280" cy="100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56080" y="4803840"/>
                  <a:ext cx="117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(644)ª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(12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11800" y="4803840"/>
                  <a:ext cx="1268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371600" y="2057400"/>
              <a:ext cx="6113520" cy="37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2057400"/>
            <a:ext cx="1522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715000"/>
            <a:ext cx="15228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7480" y="2327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5029200"/>
            <a:ext cx="14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42(368-803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4,8(4,9-54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5760" y="5954760"/>
            <a:ext cx="69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Putnam 1982, Bitman 1983, Harris 1984, Finley 1985, Innis 1988, Chen 1995, Milad 1997, Innis 1999, Gaet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5200" y="63244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ª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lgani, (Rev Chil. Nutr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-17604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6 a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1)  leche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Se puede continuar con fórmulas de in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3) Fórmulas de continuación (NAN 2, Similac advance,  Promil, Enfamil 2, Blemil plus 2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4)  leche Purita fortificada al 7,5%, con azúcar al 2,5% y cereal  instantáneo (Nestum, Blevit) al 3-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 inicia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ción sólid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con sopa-puré mixta y fruta, la que se da al mediodía (11 a 12 h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00"/>
                </a:solidFill>
                <a:latin typeface="Comic Sans MS"/>
              </a:rPr>
              <a:t>Preparación de 100 ml de Leche Purita al 7,5% + cereal al 3 ó 5% + azúcar al 2,5%</a:t>
            </a: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estándar ras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e Purita Fortific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ú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 her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completar 1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2:49:18Z</dcterms:created>
  <dc:creator>Cristian</dc:creator>
  <dc:description/>
  <dc:language>en-US</dc:language>
  <cp:lastModifiedBy>Ximena Raimann</cp:lastModifiedBy>
  <dcterms:modified xsi:type="dcterms:W3CDTF">2006-03-29T14:58:10Z</dcterms:modified>
  <cp:revision>92</cp:revision>
  <dc:subject/>
  <dc:title>Alimentación  del preescolar y escolar</dc:title>
</cp:coreProperties>
</file>