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5.jpeg" ContentType="image/jpeg"/>
  <Override PartName="/ppt/media/image26.jpeg" ContentType="image/jpeg"/>
  <Override PartName="/ppt/media/image8.wmf" ContentType="image/x-wmf"/>
  <Override PartName="/ppt/media/image61.jpeg" ContentType="image/jpeg"/>
  <Override PartName="/ppt/media/image32.png" ContentType="image/png"/>
  <Override PartName="/ppt/media/image2.png" ContentType="image/png"/>
  <Override PartName="/ppt/media/image14.png" ContentType="image/png"/>
  <Override PartName="/ppt/media/image21.gif" ContentType="image/gif"/>
  <Override PartName="/ppt/media/image10.jpeg" ContentType="image/jpeg"/>
  <Override PartName="/ppt/media/image25.png" ContentType="image/png"/>
  <Override PartName="/ppt/media/image56.jpeg" ContentType="image/jpeg"/>
  <Override PartName="/ppt/media/image33.png" ContentType="image/png"/>
  <Override PartName="/ppt/media/image29.png" ContentType="image/png"/>
  <Override PartName="/ppt/media/image31.png" ContentType="image/png"/>
  <Override PartName="/ppt/media/image13.png" ContentType="image/png"/>
  <Override PartName="/ppt/media/image1.png" ContentType="image/png"/>
  <Override PartName="/ppt/media/image27.png" ContentType="image/png"/>
  <Override PartName="/ppt/media/image28.jpeg" ContentType="image/jpeg"/>
  <Override PartName="/ppt/media/image22.png" ContentType="image/png"/>
  <Override PartName="/ppt/media/image24.jpeg" ContentType="image/jpeg"/>
  <Override PartName="/ppt/media/image3.png" ContentType="image/png"/>
  <Override PartName="/ppt/media/image15.png" ContentType="image/png"/>
  <Override PartName="/ppt/media/image57.wmf" ContentType="image/x-wmf"/>
  <Override PartName="/ppt/media/image17.png" ContentType="image/png"/>
  <Override PartName="/ppt/media/image19.png" ContentType="image/png"/>
  <Override PartName="/ppt/media/image60.jpeg" ContentType="image/jpeg"/>
  <Override PartName="/ppt/media/image30.png" ContentType="image/png"/>
  <Override PartName="/ppt/media/image16.png" ContentType="image/png"/>
  <Override PartName="/ppt/media/image49.jpeg" ContentType="image/jpeg"/>
  <Override PartName="/ppt/media/image9.png" ContentType="image/png"/>
  <Override PartName="/ppt/media/image7.wmf" ContentType="image/x-wmf"/>
  <Override PartName="/ppt/media/image12.png" ContentType="image/png"/>
  <Override PartName="/ppt/media/image59.jpeg" ContentType="image/jpeg"/>
  <Override PartName="/ppt/media/image6.png" ContentType="image/png"/>
  <Override PartName="/ppt/media/image42.jpeg" ContentType="image/jpeg"/>
  <Override PartName="/ppt/media/image18.png" ContentType="image/png"/>
  <Override PartName="/ppt/media/image58.wmf" ContentType="image/x-wmf"/>
  <Override PartName="/ppt/media/image34.jpeg" ContentType="image/jpeg"/>
  <Override PartName="/ppt/media/image37.png" ContentType="image/png"/>
  <Override PartName="/ppt/media/image35.png" ContentType="image/png"/>
  <Override PartName="/ppt/media/image36.jpeg" ContentType="image/jpeg"/>
  <Override PartName="/ppt/media/image39.wmf" ContentType="image/x-wmf"/>
  <Override PartName="/ppt/media/image40.jpeg" ContentType="image/jpeg"/>
  <Override PartName="/ppt/media/image41.jpeg" ContentType="image/jpeg"/>
  <Override PartName="/ppt/media/image54.png" ContentType="image/png"/>
  <Override PartName="/ppt/media/image43.png" ContentType="image/png"/>
  <Override PartName="/ppt/media/image38.png" ContentType="image/png"/>
  <Override PartName="/ppt/media/image44.jpeg" ContentType="image/jpeg"/>
  <Override PartName="/ppt/media/image45.jpeg" ContentType="image/jpeg"/>
  <Override PartName="/ppt/media/image20.jpeg" ContentType="image/jpeg"/>
  <Override PartName="/ppt/media/image55.png" ContentType="image/png"/>
  <Override PartName="/ppt/media/image46.png" ContentType="image/pn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4.jpeg" ContentType="image/jpeg"/>
  <Override PartName="/ppt/media/image51.png" ContentType="image/png"/>
  <Override PartName="/ppt/media/image23.png" ContentType="image/png"/>
  <Override PartName="/ppt/media/image5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30C-319E-4E74-A273-965FE528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20C-62E2-42C4-A26B-CC346D73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AFE-10E8-48E5-8490-BBB70FFC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5E6E-7BB2-4F4C-93A1-E3A5CE2A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E965-D591-40EF-BFBE-90574A71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93A6-615F-4514-9CFD-FFD0753B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7A0A-3C18-4A04-981C-0A0D416D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4320-3B7B-4550-AD70-B32868AA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BFDA-69EA-4238-91F0-59010EE0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0D05-F719-4EDF-87CC-566F7044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E7B1-A2DE-4684-97C3-6A19923B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2A60-D1FA-4EC2-816F-BCF5D345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0BFF-6AF0-48EF-90C4-0A8406B0E00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30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80880" y="685800"/>
            <a:ext cx="3837240" cy="5715000"/>
          </a:xfrm>
          <a:prstGeom prst="rect">
            <a:avLst/>
          </a:prstGeom>
          <a:ln w="57240">
            <a:solidFill>
              <a:srgbClr val="cc00ff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4267080" y="2286000"/>
            <a:ext cx="5029200" cy="2135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Dauphin"/>
              </a:rPr>
              <a:t>Cardiopatías Congénitas</a:t>
            </a:r>
            <a:r>
              <a:rPr b="1" i="1" lang="es-ES_tradnl" sz="4000" spc="-1" strike="noStrike">
                <a:solidFill>
                  <a:srgbClr val="009999"/>
                </a:solidFill>
                <a:latin typeface="Dauphi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cc00ff"/>
                </a:solidFill>
                <a:latin typeface="Dauphin"/>
              </a:rPr>
              <a:t>Cianótic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338880"/>
            <a:ext cx="8458200" cy="520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Centro Cardiovascular     Hosp. L Calvo Mack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2103480" cy="25909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286000" y="838080"/>
            <a:ext cx="803160" cy="990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33520" y="3733920"/>
            <a:ext cx="2133360" cy="26971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2362320" y="5410080"/>
            <a:ext cx="853920" cy="990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2895480" y="2362320"/>
            <a:ext cx="2041560" cy="25146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656520" y="762120"/>
            <a:ext cx="5022360" cy="106884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CLASIFICACION  D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            </a:t>
            </a: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CIA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63800" y="2849400"/>
            <a:ext cx="2171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b8e6"/>
                </a:solidFill>
                <a:latin typeface="Times New Roman"/>
              </a:rPr>
              <a:t>CEN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760" y="3828960"/>
            <a:ext cx="2713680" cy="581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b8e6"/>
                </a:solidFill>
                <a:latin typeface="Times New Roman"/>
              </a:rPr>
              <a:t>PERIF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4648320"/>
            <a:ext cx="20574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2362320"/>
            <a:ext cx="2057400" cy="25146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9144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LASIFICACION CIA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438280"/>
            <a:ext cx="2286000" cy="642600"/>
          </a:xfrm>
          <a:prstGeom prst="rect">
            <a:avLst/>
          </a:prstGeom>
          <a:solidFill>
            <a:srgbClr val="be51c1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Times New Roman"/>
              </a:rPr>
              <a:t>Perifé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5257800"/>
            <a:ext cx="1905120" cy="642600"/>
          </a:xfrm>
          <a:prstGeom prst="rect">
            <a:avLst/>
          </a:prstGeom>
          <a:solidFill>
            <a:srgbClr val="be51c1"/>
          </a:solidFill>
          <a:ln w="9360">
            <a:solidFill>
              <a:srgbClr val="ffff9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Times New Roman"/>
              </a:rPr>
              <a:t>Cent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25840" y="2209680"/>
            <a:ext cx="1731960" cy="4597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5b8e6"/>
                </a:solidFill>
                <a:latin typeface="Times New Roman"/>
              </a:rPr>
              <a:t>Fis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3419640"/>
            <a:ext cx="1828800" cy="4597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5b8e6"/>
                </a:solidFill>
                <a:latin typeface="Times New Roman"/>
              </a:rPr>
              <a:t>Pat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3151080"/>
            <a:ext cx="289584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5b8e6"/>
                </a:solidFill>
                <a:latin typeface="Times New Roman"/>
              </a:rPr>
              <a:t>Hipoglic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5b8e6"/>
                </a:solidFill>
                <a:latin typeface="Times New Roman"/>
              </a:rPr>
              <a:t>Hipoter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5b8e6"/>
                </a:solidFill>
                <a:latin typeface="Times New Roman"/>
              </a:rPr>
              <a:t>Sh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5b8e6"/>
                </a:solidFill>
                <a:latin typeface="Times New Roman"/>
              </a:rPr>
              <a:t>Hipervisco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2209680"/>
            <a:ext cx="2209680" cy="4597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5b8e6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e5b8e6"/>
                </a:solidFill>
                <a:latin typeface="Times New Roman"/>
              </a:rPr>
              <a:t>Vasomo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743200" y="2437920"/>
            <a:ext cx="685800" cy="3812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47440" y="3024360"/>
            <a:ext cx="648720" cy="50292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2971800"/>
            <a:ext cx="2895480" cy="1752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396040" y="2544840"/>
            <a:ext cx="444240" cy="54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3657600"/>
            <a:ext cx="4572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5257800"/>
            <a:ext cx="1523880" cy="685800"/>
          </a:xfrm>
          <a:custGeom>
            <a:avLst/>
            <a:gdLst>
              <a:gd name="textAreaLeft" fmla="*/ 190440 w 1523880"/>
              <a:gd name="textAreaRight" fmla="*/ 1333440 w 15238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e51c1"/>
          </a:solidFill>
          <a:ln w="9360">
            <a:solidFill>
              <a:srgbClr val="e5b8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9360" y="5257800"/>
            <a:ext cx="3304800" cy="642600"/>
          </a:xfrm>
          <a:prstGeom prst="rect">
            <a:avLst/>
          </a:prstGeom>
          <a:solidFill>
            <a:srgbClr val="be51c1"/>
          </a:solidFill>
          <a:ln w="9360">
            <a:solidFill>
              <a:srgbClr val="ffff9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Times New Roman"/>
              </a:rPr>
              <a:t>PATOLO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7280" y="304920"/>
            <a:ext cx="44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5b8e6"/>
                </a:solidFill>
                <a:latin typeface="Times New Roman"/>
              </a:rPr>
              <a:t>Cardiopatías  Cianó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11603" t="0" r="0" b="21398"/>
          <a:stretch/>
        </p:blipFill>
        <p:spPr>
          <a:xfrm>
            <a:off x="395280" y="3789360"/>
            <a:ext cx="1943280" cy="2592360"/>
          </a:xfrm>
          <a:prstGeom prst="rect">
            <a:avLst/>
          </a:prstGeom>
          <a:ln w="38160">
            <a:solidFill>
              <a:srgbClr val="d60093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4000" y="1700280"/>
            <a:ext cx="2066760" cy="1866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12280" y="254160"/>
            <a:ext cx="730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99ff"/>
                </a:solidFill>
                <a:latin typeface="Dauphin"/>
              </a:rPr>
              <a:t>Cardiopatías Congénitas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usa mas frecuente de cianosis persis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203640" y="220500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780160" y="3859200"/>
            <a:ext cx="3045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43760" y="385920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385920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385920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413244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2760" y="3068640"/>
            <a:ext cx="4003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cc66"/>
                </a:solidFill>
                <a:latin typeface="Times New Roman"/>
              </a:rPr>
              <a:t>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30320" y="3083040"/>
            <a:ext cx="3499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cc66"/>
                </a:solidFill>
                <a:latin typeface="Times New Roman"/>
              </a:rPr>
              <a:t>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76920" y="4378320"/>
            <a:ext cx="4003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cc66"/>
                </a:solidFill>
                <a:latin typeface="Times New Roman"/>
              </a:rPr>
              <a:t>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62360" y="4307040"/>
            <a:ext cx="3499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cc66"/>
                </a:solidFill>
                <a:latin typeface="Times New Roman"/>
              </a:rPr>
              <a:t>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6200" y="3319560"/>
            <a:ext cx="948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5     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35240" y="3925800"/>
            <a:ext cx="1099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25  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4840" y="26028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485640" y="1066680"/>
            <a:ext cx="51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Dauphin"/>
              </a:rPr>
              <a:t>Fisiopatología de la cia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323028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rcRect l="5202" t="0" r="9712" b="10444"/>
          <a:stretch/>
        </p:blipFill>
        <p:spPr>
          <a:xfrm>
            <a:off x="179280" y="1052640"/>
            <a:ext cx="4103640" cy="5322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77280" y="380880"/>
            <a:ext cx="43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b8e6"/>
                </a:solidFill>
                <a:latin typeface="Times New Roman"/>
              </a:rPr>
              <a:t>Cardiopatías Cianó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64920" y="2209680"/>
            <a:ext cx="44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Anomalías Estruc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53480" y="3284640"/>
            <a:ext cx="38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Factores Fun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9040" y="380880"/>
            <a:ext cx="9067680" cy="703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b8e6"/>
                </a:solidFill>
                <a:latin typeface="Times New Roman"/>
              </a:rPr>
              <a:t>Clasificación de las Cardiopatías Congénitas</a:t>
            </a:r>
            <a:r>
              <a:rPr b="1" lang="es-ES_tradnl" sz="4000" spc="-1" strike="noStrike">
                <a:solidFill>
                  <a:srgbClr val="e5b8e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2286000"/>
            <a:ext cx="2895480" cy="11912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Times New Roman"/>
              </a:rPr>
              <a:t>Con Flujo Pulmo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2438280"/>
            <a:ext cx="0" cy="9907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2209680"/>
            <a:ext cx="3048120" cy="119124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Times New Roman"/>
              </a:rPr>
              <a:t>Con Flujo Pulmo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17000" y="2287440"/>
            <a:ext cx="86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99"/>
                </a:solidFill>
                <a:latin typeface="Arial Narrow"/>
              </a:rPr>
              <a:t>N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26120" y="2819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8534520" y="2437920"/>
            <a:ext cx="0" cy="7621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38600" y="939960"/>
            <a:ext cx="3105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66"/>
                </a:solidFill>
                <a:latin typeface="Times New Roman"/>
              </a:rPr>
              <a:t>CIANO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2286000"/>
            <a:ext cx="3886200" cy="114300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1676520"/>
            <a:ext cx="1066680" cy="533160"/>
          </a:xfrm>
          <a:prstGeom prst="leftArrow">
            <a:avLst>
              <a:gd name="adj1" fmla="val 50000"/>
              <a:gd name="adj2" fmla="val 50017"/>
            </a:avLst>
          </a:prstGeom>
          <a:noFill/>
          <a:ln w="38160">
            <a:solidFill>
              <a:srgbClr val="e5b8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0800000">
            <a:off x="4495680" y="1676160"/>
            <a:ext cx="1067040" cy="533160"/>
          </a:xfrm>
          <a:prstGeom prst="leftArrow">
            <a:avLst>
              <a:gd name="adj1" fmla="val 50000"/>
              <a:gd name="adj2" fmla="val 50034"/>
            </a:avLst>
          </a:prstGeom>
          <a:noFill/>
          <a:ln w="38160">
            <a:solidFill>
              <a:srgbClr val="e5b8e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7880" y="3979800"/>
            <a:ext cx="3902040" cy="174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T de F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Atresia Pulm + C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A.P. SIN  C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C. Complejas 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C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68760" y="4065480"/>
            <a:ext cx="4746600" cy="145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T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DVP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Tronco Arteri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Cardiopatias Complej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9520" y="5410080"/>
            <a:ext cx="3471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SIN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Est. Pulmo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2440" y="5516640"/>
            <a:ext cx="3629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Estenosis Pulmo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66000" y="1100160"/>
            <a:ext cx="49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Dauphin"/>
              </a:rPr>
              <a:t>Flujo Pulmonar Disminuí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6000" y="27612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3124080" cy="3657600"/>
          </a:xfrm>
          <a:prstGeom prst="rect">
            <a:avLst/>
          </a:prstGeom>
          <a:ln w="57240">
            <a:solidFill>
              <a:srgbClr val="cc00ff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419400" y="5556240"/>
            <a:ext cx="43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c99ff"/>
                </a:solidFill>
                <a:latin typeface="Dauphin"/>
              </a:rPr>
              <a:t>Tetralogía de F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3760" y="4403880"/>
            <a:ext cx="519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13000" y="4159080"/>
            <a:ext cx="519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838080" y="3733560"/>
            <a:ext cx="129564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" y="4191120"/>
            <a:ext cx="205740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500720" y="177336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76920" y="5410080"/>
            <a:ext cx="88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5b8e6"/>
                </a:solidFill>
                <a:latin typeface="Dauphin"/>
              </a:rPr>
              <a:t>Atresia Pulmonar sin CIV   (Hipoplasia del V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0560" y="42876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2943000" cy="3657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V="1">
            <a:off x="685800" y="4572000"/>
            <a:ext cx="1295280" cy="3808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85800" y="3733560"/>
            <a:ext cx="1295280" cy="1143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52440" y="5958000"/>
            <a:ext cx="40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Ductus depend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851280" y="1557360"/>
            <a:ext cx="3673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659240" y="5410080"/>
            <a:ext cx="42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c99ff"/>
                </a:solidFill>
                <a:latin typeface="Dauphin"/>
              </a:rPr>
              <a:t>Atresia Tricuspí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9680" y="50472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2853000" cy="3657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454040" y="595800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Dauphin"/>
              </a:rPr>
              <a:t>( Requiere CIA y a/v Ductu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284720" y="1628640"/>
            <a:ext cx="3529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77680" y="5638680"/>
            <a:ext cx="80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Drenaje Venoso Pulmonar Anomalo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0560" y="42876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2820960" cy="3886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2743200" y="1752480"/>
            <a:ext cx="1271520" cy="1397160"/>
          </a:xfrm>
          <a:prstGeom prst="rect">
            <a:avLst/>
          </a:prstGeom>
          <a:ln w="9360">
            <a:solidFill>
              <a:srgbClr val="cc00ff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1755360" y="4495680"/>
            <a:ext cx="461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V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42960" y="4179960"/>
            <a:ext cx="3909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96760" y="4114800"/>
            <a:ext cx="470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90160" y="3500280"/>
            <a:ext cx="938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VD     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93760" y="2708280"/>
            <a:ext cx="9565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AD    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9200" y="506520"/>
            <a:ext cx="6775200" cy="7034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bbe0e3"/>
                </a:solidFill>
                <a:latin typeface="Times New Roman"/>
              </a:rPr>
              <a:t>CLASIFICACION  GENE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2040" y="1066680"/>
            <a:ext cx="3900960" cy="7034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bbe0e3"/>
                </a:solidFill>
                <a:latin typeface="Times New Roman"/>
              </a:rPr>
              <a:t>CARDIOPAT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8560" y="2743200"/>
            <a:ext cx="3019320" cy="581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CONGENIT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9080" y="4572000"/>
            <a:ext cx="2805120" cy="581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bbe0e3"/>
                </a:solidFill>
                <a:latin typeface="Times New Roman"/>
              </a:rPr>
              <a:t>ADQUIR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2362320"/>
            <a:ext cx="350532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ff"/>
                </a:solidFill>
                <a:latin typeface="Times New Roman"/>
              </a:rPr>
              <a:t>CIANOTIC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93080" y="3789360"/>
            <a:ext cx="2824920" cy="642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99"/>
                </a:solidFill>
                <a:latin typeface="Times New Roman"/>
              </a:rPr>
              <a:t>ROSADAS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038480" y="2590560"/>
            <a:ext cx="1067040" cy="5331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39200" y="3291840"/>
            <a:ext cx="989640" cy="7318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0640" y="6248520"/>
            <a:ext cx="7178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bbe0e3"/>
                </a:solidFill>
                <a:latin typeface="Times New Roman"/>
              </a:rPr>
              <a:t>Centro Cardiovascular       Hosp. Luis Calvo Mack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6360" y="5715000"/>
            <a:ext cx="80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5b8e6"/>
                </a:solidFill>
                <a:latin typeface="Dauphin"/>
              </a:rPr>
              <a:t>Drenaje Venoso Pulmonar Anomalo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0560" y="42876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2820960" cy="3886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2743200" y="1752480"/>
            <a:ext cx="1271520" cy="1397160"/>
          </a:xfrm>
          <a:prstGeom prst="rect">
            <a:avLst/>
          </a:prstGeom>
          <a:ln w="9360">
            <a:solidFill>
              <a:srgbClr val="cc00ff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1755360" y="4495680"/>
            <a:ext cx="461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V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42960" y="4179960"/>
            <a:ext cx="3909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96760" y="4114800"/>
            <a:ext cx="470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4419720" y="1828800"/>
            <a:ext cx="3733560" cy="3581280"/>
          </a:xfrm>
          <a:prstGeom prst="rect">
            <a:avLst/>
          </a:prstGeom>
          <a:ln w="57240">
            <a:solidFill>
              <a:srgbClr val="be51c1"/>
            </a:solidFill>
            <a:miter/>
          </a:ln>
          <a:effectLst>
            <a:outerShdw dist="125751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10520" y="5257800"/>
            <a:ext cx="757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b8e6"/>
                </a:solidFill>
                <a:latin typeface="Dauphin"/>
              </a:rPr>
              <a:t>Transposición de Grandes Arte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0560" y="42876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44480" y="5791320"/>
            <a:ext cx="50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Dauphin"/>
              </a:rPr>
              <a:t>( Ductus  y  CIA dependient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2857680" cy="3924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356000" y="1413000"/>
            <a:ext cx="36766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7880" y="11430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99"/>
                </a:solidFill>
                <a:latin typeface="Dauphin"/>
              </a:rPr>
              <a:t>Diagnós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5029200" cy="377208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-275400" y="457200"/>
            <a:ext cx="77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9999"/>
                </a:solidFill>
                <a:latin typeface="Dauphin"/>
              </a:rPr>
              <a:t>Cardiopatías Congénitas </a:t>
            </a:r>
            <a:r>
              <a:rPr b="0" lang="es-MX" sz="3600" spc="-1" strike="noStrike">
                <a:solidFill>
                  <a:srgbClr val="cc99ff"/>
                </a:solidFill>
                <a:latin typeface="Dauphin"/>
              </a:rPr>
              <a:t>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1160" y="2058840"/>
            <a:ext cx="3724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H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Examen fí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Gases Arter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R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E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ECO 2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Cateter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Times New Roman"/>
              </a:rPr>
              <a:t>Diferenciación de los Tipos de Cianos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320" y="1836720"/>
          <a:ext cx="8762760" cy="380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836720"/>
                    <a:ext cx="8762760" cy="3801960"/>
                  </a:xfrm>
                  <a:prstGeom prst="rect">
                    <a:avLst/>
                  </a:prstGeom>
                  <a:ln w="9360">
                    <a:solidFill>
                      <a:srgbClr val="ffff99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3491640" y="1111320"/>
            <a:ext cx="49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ccff"/>
                </a:solidFill>
                <a:latin typeface="Times New Roman"/>
              </a:rPr>
              <a:t>Pulmonar         Cardía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2320" y="204804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ccff"/>
                </a:solidFill>
                <a:latin typeface="Times New Roman"/>
              </a:rPr>
              <a:t>LLA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2320" y="2962440"/>
            <a:ext cx="1747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ccff"/>
                </a:solidFill>
                <a:latin typeface="Times New Roman"/>
              </a:rPr>
              <a:t>ADM.  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5040" y="3876840"/>
            <a:ext cx="26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ccff"/>
                </a:solidFill>
                <a:latin typeface="Times New Roman"/>
              </a:rPr>
              <a:t>T. HIPEROX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0880" y="4768920"/>
            <a:ext cx="160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ccff"/>
                </a:solidFill>
                <a:latin typeface="Times New Roman"/>
              </a:rPr>
              <a:t>PaCO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391520" y="1981080"/>
            <a:ext cx="0" cy="5335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67080" y="2057400"/>
            <a:ext cx="0" cy="5335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92000" y="308916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CORR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23520" y="308916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NO  NORMAL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114800" y="3809880"/>
            <a:ext cx="0" cy="5335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73600" y="388620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Times New Roman"/>
              </a:rPr>
              <a:t>Pa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91120" y="39654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20-30mm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477120" y="3886200"/>
            <a:ext cx="0" cy="5335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29040" y="3886200"/>
            <a:ext cx="163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&lt; a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70360" y="4943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191120" y="4800240"/>
            <a:ext cx="0" cy="60948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73320" y="483084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N  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924680" y="4800600"/>
            <a:ext cx="0" cy="5335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5840" y="6110280"/>
            <a:ext cx="7908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ccff"/>
                </a:solidFill>
                <a:latin typeface="Times New Roman"/>
              </a:rPr>
              <a:t>CENTRO CARDIOVASCULAR   HOSP LUIS CALVO MACKE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9560" y="482760"/>
            <a:ext cx="82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Cardiopatias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48240" y="1093680"/>
            <a:ext cx="703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Dauphin"/>
              </a:rPr>
              <a:t>Diagnóstico: Examen Fís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505320" cy="38102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257800" y="1752480"/>
            <a:ext cx="3086280" cy="411480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267080" y="4648320"/>
            <a:ext cx="2819520" cy="1600200"/>
          </a:xfrm>
          <a:prstGeom prst="rect">
            <a:avLst/>
          </a:prstGeom>
          <a:ln w="9360">
            <a:solidFill>
              <a:srgbClr val="cc00ff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4343400" y="2057400"/>
            <a:ext cx="2590920" cy="24321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9560" y="380880"/>
            <a:ext cx="82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Cardiopatias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5880" y="1066680"/>
            <a:ext cx="31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Dauphin"/>
              </a:rPr>
              <a:t>Diagnó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838080" y="4419720"/>
            <a:ext cx="27432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981080" y="1600200"/>
            <a:ext cx="5181840" cy="4376880"/>
          </a:xfrm>
          <a:prstGeom prst="rect">
            <a:avLst/>
          </a:prstGeom>
          <a:ln w="9360">
            <a:solidFill>
              <a:srgbClr val="ffff6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45" name=""/>
          <p:cNvSpPr/>
          <p:nvPr/>
        </p:nvSpPr>
        <p:spPr>
          <a:xfrm>
            <a:off x="1186200" y="380880"/>
            <a:ext cx="80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Ductus Depend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81880" y="934920"/>
            <a:ext cx="22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Dauphin"/>
              </a:rPr>
              <a:t>Diagnó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80640" y="431784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99"/>
                </a:solidFill>
                <a:latin typeface="Dauphin"/>
              </a:rPr>
              <a:t>AD            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48480" y="317484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99"/>
                </a:solidFill>
                <a:latin typeface="Dauphin"/>
              </a:rPr>
              <a:t>VD       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0960" y="6031080"/>
            <a:ext cx="86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5b8e6"/>
                </a:solidFill>
                <a:latin typeface="Dauphin"/>
              </a:rPr>
              <a:t>Centro Cardiovascular  Hosp. Luis Calvo Mack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8458200" cy="6346800"/>
          </a:xfrm>
          <a:prstGeom prst="rect">
            <a:avLst/>
          </a:prstGeom>
          <a:ln w="57240">
            <a:solidFill>
              <a:srgbClr val="be51c1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676800" y="1249200"/>
            <a:ext cx="7939440" cy="764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b8e6"/>
                </a:solidFill>
                <a:latin typeface="Dauphin"/>
              </a:rPr>
              <a:t>Tratamiento             CIRU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13320" y="167652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40320" y="2462040"/>
            <a:ext cx="5873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Dauphin"/>
              </a:rPr>
              <a:t>Manejo pre-quirúrg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22520" y="3335400"/>
            <a:ext cx="6037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5b8e6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1" lang="es-MX" sz="4000" spc="-1" strike="noStrike">
                <a:solidFill>
                  <a:srgbClr val="e5b8e6"/>
                </a:solidFill>
                <a:latin typeface="Dauphin"/>
              </a:rPr>
              <a:t>Ductus dependi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1" lang="es-MX" sz="4000" spc="-1" strike="noStrike">
                <a:solidFill>
                  <a:srgbClr val="e5b8e6"/>
                </a:solidFill>
                <a:latin typeface="Dauphin"/>
              </a:rPr>
              <a:t>CIA dependi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0960" y="6031080"/>
            <a:ext cx="86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Dauphin"/>
              </a:rPr>
              <a:t>Centro Cardiovascular  Hosp. Luis Calvo Mack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16000" y="177840"/>
            <a:ext cx="8254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Dauphin"/>
              </a:rPr>
              <a:t>Cardiopatías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743040"/>
            <a:ext cx="8381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66"/>
                </a:solidFill>
                <a:latin typeface="Dauphin"/>
              </a:rPr>
              <a:t>Ductus Dependient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80360" y="2913120"/>
            <a:ext cx="43027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T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Cardiopatías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Atresia Pulmo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3520" y="6033960"/>
            <a:ext cx="86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Dauphin"/>
              </a:rPr>
              <a:t>Centro Cardiovascular  Hosp. Luis Calvo Mack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084400" cy="25909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2590920" y="2819520"/>
            <a:ext cx="203832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962520" y="2133720"/>
            <a:ext cx="4038480" cy="3028680"/>
          </a:xfrm>
          <a:prstGeom prst="rect">
            <a:avLst/>
          </a:prstGeom>
          <a:ln w="28440">
            <a:solidFill>
              <a:srgbClr val="be51c1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762120" y="1295280"/>
            <a:ext cx="2921040" cy="3886200"/>
          </a:xfrm>
          <a:prstGeom prst="rect">
            <a:avLst/>
          </a:prstGeom>
          <a:ln w="38160">
            <a:solidFill>
              <a:srgbClr val="be51c1"/>
            </a:solidFill>
            <a:miter/>
          </a:ln>
        </p:spPr>
      </p:pic>
      <p:sp>
        <p:nvSpPr>
          <p:cNvPr id="265" name=""/>
          <p:cNvSpPr/>
          <p:nvPr/>
        </p:nvSpPr>
        <p:spPr>
          <a:xfrm>
            <a:off x="26640" y="533520"/>
            <a:ext cx="72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Dauphin"/>
              </a:rPr>
              <a:t>Cardiopatías Ductus Depend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51440" y="1371600"/>
            <a:ext cx="42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Dauphin"/>
              </a:rPr>
              <a:t>Manejo Pre-Quirúr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5562720"/>
            <a:ext cx="6636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Arial"/>
              </a:rPr>
              <a:t>PGE1 en Infusión : 0.01mcg/Kg/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1828800"/>
            <a:ext cx="8077320" cy="60166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be0e3"/>
                </a:solidFill>
                <a:latin typeface="Dauphin"/>
              </a:rPr>
              <a:t>Son aquellas Cardiopatías congénit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be0e3"/>
                </a:solidFill>
                <a:latin typeface="Dauphin"/>
              </a:rPr>
              <a:t>cuya característica principal es la </a:t>
            </a: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CIANOSIS</a:t>
            </a:r>
            <a:r>
              <a:rPr b="0" lang="es-ES_tradnl" sz="36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bbe0e3"/>
                </a:solidFill>
                <a:latin typeface="Dauphin"/>
              </a:rPr>
              <a:t>de piel y mucosas y/o la </a:t>
            </a: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INSATURACION</a:t>
            </a:r>
            <a:r>
              <a:rPr b="1" lang="es-ES_tradnl" sz="3600" spc="-1" strike="noStrike">
                <a:solidFill>
                  <a:srgbClr val="bbe0e3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bbe0e3"/>
                </a:solidFill>
                <a:latin typeface="Dauphin"/>
              </a:rPr>
              <a:t>de la sangre arterial  producto de la mezcla de sangre arterial y venosa dentro del coraz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be0e3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bbe0e3"/>
                </a:solidFill>
                <a:latin typeface="Dauphin"/>
              </a:rPr>
              <a:t>( cortocircuito o shunt D-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496080" y="480960"/>
            <a:ext cx="915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cc99ff"/>
                </a:solidFill>
                <a:latin typeface="Dauphin"/>
              </a:rPr>
              <a:t>Cardiopatías Congénitas Cianót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7560" y="487440"/>
            <a:ext cx="729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Dauphin"/>
              </a:rPr>
              <a:t>Cardiopatías que necesitan 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1066680"/>
            <a:ext cx="619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66"/>
                </a:solidFill>
                <a:latin typeface="Dauphin"/>
              </a:rPr>
              <a:t>Manejo Pre-Quirúr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2286000" cy="2895480"/>
          </a:xfrm>
          <a:prstGeom prst="rect">
            <a:avLst/>
          </a:prstGeom>
          <a:ln w="9360">
            <a:solidFill>
              <a:srgbClr val="be51c1"/>
            </a:solidFill>
            <a:miter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3505320" y="2895480"/>
            <a:ext cx="2259000" cy="2895840"/>
          </a:xfrm>
          <a:prstGeom prst="rect">
            <a:avLst/>
          </a:prstGeom>
          <a:ln w="9360">
            <a:solidFill>
              <a:srgbClr val="be51c1"/>
            </a:solidFill>
            <a:miter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6303960" y="2057400"/>
            <a:ext cx="2165400" cy="2971800"/>
          </a:xfrm>
          <a:prstGeom prst="rect">
            <a:avLst/>
          </a:prstGeom>
          <a:ln w="9360">
            <a:solidFill>
              <a:srgbClr val="be51c1"/>
            </a:solidFill>
            <a:miter/>
          </a:ln>
        </p:spPr>
      </p:pic>
      <p:sp>
        <p:nvSpPr>
          <p:cNvPr id="273" name=""/>
          <p:cNvSpPr/>
          <p:nvPr/>
        </p:nvSpPr>
        <p:spPr>
          <a:xfrm>
            <a:off x="464760" y="6019920"/>
            <a:ext cx="86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Dauphin"/>
              </a:rPr>
              <a:t>Centro Cardiovascular  Hosp. Luis Calvo Mack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42120" y="5116680"/>
            <a:ext cx="18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5b8e6"/>
                </a:solidFill>
                <a:latin typeface="Dauphin"/>
              </a:rPr>
              <a:t>Hipop. 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36080" y="228600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5b8e6"/>
                </a:solidFill>
                <a:latin typeface="Dauphin"/>
              </a:rPr>
              <a:t>Atr. Tr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67360" y="510552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5b8e6"/>
                </a:solidFill>
                <a:latin typeface="Dauphin"/>
              </a:rPr>
              <a:t>T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0240" y="457200"/>
            <a:ext cx="82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Dauphin"/>
              </a:rPr>
              <a:t>Septostomía Auricular de Rashk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7000" y="4762440"/>
            <a:ext cx="399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5b8e6"/>
                </a:solidFill>
                <a:latin typeface="Dauphin"/>
              </a:rPr>
              <a:t>  </a:t>
            </a:r>
            <a:r>
              <a:rPr b="0" lang="es-MX" sz="2400" spc="-1" strike="noStrike">
                <a:solidFill>
                  <a:srgbClr val="e5b8e6"/>
                </a:solidFill>
                <a:latin typeface="Dauphin"/>
              </a:rPr>
              <a:t>TGA –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5b8e6"/>
                </a:solidFill>
                <a:latin typeface="Dauphin"/>
              </a:rPr>
              <a:t>  </a:t>
            </a:r>
            <a:r>
              <a:rPr b="0" lang="es-MX" sz="2400" spc="-1" strike="noStrike">
                <a:solidFill>
                  <a:srgbClr val="e5b8e6"/>
                </a:solidFill>
                <a:latin typeface="Dauphin"/>
              </a:rPr>
              <a:t>Atresia Tricuspí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5b8e6"/>
                </a:solidFill>
                <a:latin typeface="Dauphin"/>
              </a:rPr>
              <a:t>  </a:t>
            </a:r>
            <a:r>
              <a:rPr b="0" lang="es-MX" sz="2400" spc="-1" strike="noStrike">
                <a:solidFill>
                  <a:srgbClr val="e5b8e6"/>
                </a:solidFill>
                <a:latin typeface="Dauphin"/>
              </a:rPr>
              <a:t>Atresia Pulmonar sin C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468360" y="1557360"/>
          <a:ext cx="2943000" cy="30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557360"/>
                    <a:ext cx="2943000" cy="309564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3780000" y="1484280"/>
            <a:ext cx="4895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380200" y="1676520"/>
            <a:ext cx="2544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3399"/>
                </a:solidFill>
                <a:latin typeface="Dauphin"/>
              </a:rPr>
              <a:t>CIRUGÍA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5960" y="6019920"/>
            <a:ext cx="8228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ENTRO CARDIOVASCULAR       HOSP. LUIS CALVO MACKE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63840" y="2432160"/>
            <a:ext cx="3188520" cy="170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e5b8e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b8e6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e5b8e6"/>
                </a:solidFill>
                <a:latin typeface="Times New Roman"/>
              </a:rPr>
              <a:t>Pali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e5b8e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b8e6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e5b8e6"/>
                </a:solidFill>
                <a:latin typeface="Times New Roman"/>
              </a:rPr>
              <a:t>Correc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47000" y="272880"/>
            <a:ext cx="719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Cardiopatías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16560" y="942840"/>
            <a:ext cx="2917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66"/>
                </a:solidFill>
                <a:latin typeface="Times New Roman"/>
              </a:rPr>
              <a:t>Trat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3962520" cy="2971800"/>
          </a:xfrm>
          <a:prstGeom prst="rect">
            <a:avLst/>
          </a:prstGeom>
          <a:ln w="38160">
            <a:solidFill>
              <a:srgbClr val="be51c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1480" y="736560"/>
            <a:ext cx="3566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irugía Correc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0160" y="203040"/>
            <a:ext cx="6427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b8e6"/>
                </a:solidFill>
                <a:latin typeface="Times New Roman"/>
              </a:rPr>
              <a:t>Cardiopatías Congénitas Cianó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4789440" y="1447920"/>
            <a:ext cx="3657600" cy="4267080"/>
          </a:xfrm>
          <a:prstGeom prst="rect">
            <a:avLst/>
          </a:prstGeom>
          <a:ln w="57240">
            <a:solidFill>
              <a:srgbClr val="be51c1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6427800" y="1565280"/>
            <a:ext cx="1520640" cy="352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372360" y="1447920"/>
            <a:ext cx="1904760" cy="685800"/>
          </a:xfrm>
          <a:prstGeom prst="rect">
            <a:avLst/>
          </a:prstGeom>
          <a:solidFill>
            <a:srgbClr val="e5b8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TETRALOG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FAL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46240" y="5195880"/>
            <a:ext cx="1727640" cy="368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99"/>
                </a:solidFill>
                <a:latin typeface="Times New Roman"/>
              </a:rPr>
              <a:t>REPAR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533520" y="1600200"/>
            <a:ext cx="3579840" cy="4191120"/>
          </a:xfrm>
          <a:prstGeom prst="rect">
            <a:avLst/>
          </a:prstGeom>
          <a:ln w="57240">
            <a:solidFill>
              <a:srgbClr val="be51c1"/>
            </a:solidFill>
            <a:miter/>
          </a:ln>
        </p:spPr>
      </p:pic>
      <p:sp>
        <p:nvSpPr>
          <p:cNvPr id="295" name=""/>
          <p:cNvSpPr/>
          <p:nvPr/>
        </p:nvSpPr>
        <p:spPr>
          <a:xfrm>
            <a:off x="3276720" y="403848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1600200"/>
            <a:ext cx="1752480" cy="380880"/>
          </a:xfrm>
          <a:prstGeom prst="rect">
            <a:avLst/>
          </a:prstGeom>
          <a:solidFill>
            <a:srgbClr val="e5b8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367080" cy="4392720"/>
          </a:xfrm>
          <a:prstGeom prst="rect">
            <a:avLst/>
          </a:prstGeom>
          <a:ln w="38160">
            <a:solidFill>
              <a:srgbClr val="be51c1"/>
            </a:solidFill>
            <a:miter/>
          </a:ln>
        </p:spPr>
      </p:pic>
      <p:sp>
        <p:nvSpPr>
          <p:cNvPr id="298" name=""/>
          <p:cNvSpPr/>
          <p:nvPr/>
        </p:nvSpPr>
        <p:spPr>
          <a:xfrm>
            <a:off x="4500720" y="2205000"/>
            <a:ext cx="35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b8e6"/>
                </a:solidFill>
                <a:latin typeface="Times New Roman"/>
              </a:rPr>
              <a:t>Ventrículo Un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b8e6"/>
                </a:solidFill>
                <a:latin typeface="Times New Roman"/>
              </a:rPr>
              <a:t>    </a:t>
            </a:r>
            <a:r>
              <a:rPr b="0" lang="es-MX" sz="3600" spc="-1" strike="noStrike">
                <a:solidFill>
                  <a:srgbClr val="e5b8e6"/>
                </a:solidFill>
                <a:latin typeface="Times New Roman"/>
              </a:rPr>
              <a:t>-Anatóm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b8e6"/>
                </a:solidFill>
                <a:latin typeface="Times New Roman"/>
              </a:rPr>
              <a:t>    </a:t>
            </a:r>
            <a:r>
              <a:rPr b="0" lang="es-MX" sz="3600" spc="-1" strike="noStrike">
                <a:solidFill>
                  <a:srgbClr val="e5b8e6"/>
                </a:solidFill>
                <a:latin typeface="Times New Roman"/>
              </a:rPr>
              <a:t>-Fun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5920" y="461880"/>
            <a:ext cx="35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5b8e6"/>
                </a:solidFill>
                <a:latin typeface="Arial"/>
              </a:rPr>
              <a:t>CIRUGIA PAL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838080" y="1905120"/>
            <a:ext cx="3429000" cy="3657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1905120"/>
            <a:ext cx="3505320" cy="3657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2664000" cy="28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3" name=""/>
          <p:cNvGraphicFramePr/>
          <p:nvPr/>
        </p:nvGraphicFramePr>
        <p:xfrm>
          <a:off x="5029200" y="2133720"/>
          <a:ext cx="282420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133720"/>
                    <a:ext cx="28242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1300680" y="5105520"/>
            <a:ext cx="5653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BANDING   TAP                      BLA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51480" y="911160"/>
            <a:ext cx="553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Times New Roman"/>
              </a:rPr>
              <a:t>CIRUGIA  PALI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91040" y="324000"/>
            <a:ext cx="6427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b8e6"/>
                </a:solidFill>
                <a:latin typeface="Times New Roman"/>
              </a:rPr>
              <a:t>Cardiopatías Congénitas Cianó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26440" y="349200"/>
            <a:ext cx="7751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Dauphin"/>
              </a:rPr>
              <a:t>Cardiopatías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1840" y="934920"/>
            <a:ext cx="61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Dauphin"/>
              </a:rPr>
              <a:t>Manejo Médico - Recién Nac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640" y="2209680"/>
            <a:ext cx="9637200" cy="399348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Frente a la sospecha de CCC debe intenta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corroborar  y precisar dg con la mayor pront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Estabilización del paciente : Respira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                            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Cardiova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                            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Meta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Uso racional del 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Infusión de PGE1 ( CC  ductus dependi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Traslado a Centro Quirúrg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9360">
            <a:solidFill>
              <a:srgbClr val="be51c1"/>
            </a:solidFill>
            <a:miter/>
          </a:ln>
        </p:spPr>
      </p:pic>
      <p:sp>
        <p:nvSpPr>
          <p:cNvPr id="312" name=""/>
          <p:cNvSpPr/>
          <p:nvPr/>
        </p:nvSpPr>
        <p:spPr>
          <a:xfrm>
            <a:off x="-42480" y="5589720"/>
            <a:ext cx="8453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99cc"/>
                </a:solidFill>
                <a:latin typeface="BrushScrD"/>
              </a:rPr>
              <a:t>Un esfuerzo que vale la pe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20360" y="6922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99cc"/>
                </a:solidFill>
                <a:latin typeface="Arial"/>
              </a:rPr>
              <a:t>JLL    TGA ope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088120" cy="6127920"/>
          </a:xfrm>
          <a:prstGeom prst="rect">
            <a:avLst/>
          </a:prstGeom>
          <a:ln w="57240">
            <a:solidFill>
              <a:srgbClr val="be51c1"/>
            </a:solidFill>
            <a:miter/>
          </a:ln>
        </p:spPr>
      </p:pic>
      <p:sp>
        <p:nvSpPr>
          <p:cNvPr id="315" name=""/>
          <p:cNvSpPr/>
          <p:nvPr/>
        </p:nvSpPr>
        <p:spPr>
          <a:xfrm rot="20729400">
            <a:off x="-282240" y="4530240"/>
            <a:ext cx="92379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99cc"/>
                </a:solidFill>
                <a:latin typeface="BrushScrD"/>
              </a:rPr>
              <a:t>Hacia donde queremos ir..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5854680" cy="5079960"/>
          </a:xfrm>
          <a:prstGeom prst="rect">
            <a:avLst/>
          </a:prstGeom>
          <a:ln w="9360">
            <a:solidFill>
              <a:srgbClr val="be51c1"/>
            </a:solidFill>
            <a:miter/>
          </a:ln>
        </p:spPr>
      </p:pic>
      <p:sp>
        <p:nvSpPr>
          <p:cNvPr id="317" name=""/>
          <p:cNvSpPr/>
          <p:nvPr/>
        </p:nvSpPr>
        <p:spPr>
          <a:xfrm>
            <a:off x="6301080" y="5516640"/>
            <a:ext cx="160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5400" spc="-1" strike="noStrike">
                <a:solidFill>
                  <a:srgbClr val="e5b8e6"/>
                </a:solidFill>
                <a:latin typeface="BrushScrD"/>
              </a:rPr>
              <a:t>Fin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-36360" y="-27000"/>
          <a:ext cx="9180360" cy="708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27000"/>
                    <a:ext cx="918036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-471960" y="620640"/>
            <a:ext cx="1005624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b8e6"/>
                </a:solidFill>
                <a:latin typeface="Dauphin"/>
              </a:rPr>
              <a:t>Cardiopatías Congénitas Cianó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5480" y="1447920"/>
            <a:ext cx="73573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99"/>
                </a:solidFill>
                <a:latin typeface="Dauphin"/>
              </a:rPr>
              <a:t>Que  es  la  Cianosi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971800"/>
            <a:ext cx="4670640" cy="2531880"/>
          </a:xfrm>
          <a:prstGeom prst="rect">
            <a:avLst/>
          </a:prstGeom>
          <a:noFill/>
          <a:ln w="9360">
            <a:solidFill>
              <a:srgbClr val="e5b8e6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3399"/>
                </a:solidFill>
                <a:latin typeface="Dauphin"/>
              </a:rPr>
              <a:t>CIANOSIS</a:t>
            </a:r>
            <a:r>
              <a:rPr b="1" lang="es-ES_tradnl" sz="4000" spc="-1" strike="noStrike">
                <a:solidFill>
                  <a:srgbClr val="009999"/>
                </a:solidFill>
                <a:latin typeface="Dauphin"/>
              </a:rPr>
              <a:t> </a:t>
            </a:r>
            <a:r>
              <a:rPr b="1" lang="es-ES_tradnl" sz="4000" spc="-1" strike="noStrike">
                <a:solidFill>
                  <a:srgbClr val="e5b8e6"/>
                </a:solidFill>
                <a:latin typeface="Dauphin"/>
              </a:rPr>
              <a:t>: es  la  coloración azulada  de  piel  y/o mucos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81720" y="5867280"/>
            <a:ext cx="9190440" cy="6426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+ de 5g de Hb  reducida en sangre ven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876240" y="2590920"/>
            <a:ext cx="2476440" cy="3124080"/>
          </a:xfrm>
          <a:prstGeom prst="rect">
            <a:avLst/>
          </a:prstGeom>
          <a:ln w="9360">
            <a:solidFill>
              <a:srgbClr val="cc99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92280" y="1905120"/>
            <a:ext cx="3270240" cy="3740040"/>
          </a:xfrm>
          <a:prstGeom prst="rect">
            <a:avLst/>
          </a:prstGeom>
          <a:ln w="76320">
            <a:solidFill>
              <a:srgbClr val="ffff99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66" name=""/>
          <p:cNvSpPr/>
          <p:nvPr/>
        </p:nvSpPr>
        <p:spPr>
          <a:xfrm>
            <a:off x="-289440" y="762120"/>
            <a:ext cx="6389640" cy="703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99"/>
                </a:solidFill>
                <a:latin typeface="Dauphin"/>
              </a:rPr>
              <a:t>Cardiopatías Congéni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75160" y="2743200"/>
            <a:ext cx="5761440" cy="19227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99"/>
                </a:solidFill>
                <a:latin typeface="Dauphin"/>
              </a:rPr>
              <a:t>Porqué somo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99"/>
                </a:solidFill>
                <a:latin typeface="Dauphin"/>
              </a:rPr>
              <a:t>rosado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2560" y="5973840"/>
            <a:ext cx="818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99"/>
                </a:solidFill>
                <a:latin typeface="Dauphin"/>
              </a:rPr>
              <a:t>Centro Cardiovascular Hospital Luis Calvo Mack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10640" y="6019920"/>
            <a:ext cx="77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5b8e6"/>
                </a:solidFill>
                <a:latin typeface="Dauphin"/>
              </a:rPr>
              <a:t>Centro Cardiovascular Hosp. Luis Calvo Mack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472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0" lang="es-ES_tradnl" sz="3600" spc="-1" strike="noStrike">
                <a:solidFill>
                  <a:srgbClr val="ffff99"/>
                </a:solidFill>
                <a:latin typeface="Monotype Corsiva"/>
              </a:rPr>
              <a:t>15g Hb                   3.5g Hb reducida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17880" y="3867120"/>
          <a:ext cx="102708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17880" y="3867120"/>
                    <a:ext cx="10270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866960" y="2550960"/>
          <a:ext cx="5408640" cy="175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66960" y="2550960"/>
                    <a:ext cx="540864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2891880" y="2743200"/>
            <a:ext cx="358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Times New Roman"/>
              </a:rPr>
              <a:t>Extracción de O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6120" y="533520"/>
            <a:ext cx="58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Congénit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403280" y="1413000"/>
            <a:ext cx="6191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2117880" y="3867120"/>
          <a:ext cx="102708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17880" y="3867120"/>
                    <a:ext cx="10270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011240" y="2340000"/>
          <a:ext cx="2484360" cy="94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11240" y="2340000"/>
                    <a:ext cx="248436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380880" y="2000160"/>
            <a:ext cx="3124440" cy="2571840"/>
          </a:xfrm>
          <a:prstGeom prst="rect">
            <a:avLst/>
          </a:prstGeom>
          <a:ln w="76320">
            <a:solidFill>
              <a:srgbClr val="ff3399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</p:pic>
      <p:sp>
        <p:nvSpPr>
          <p:cNvPr id="83" name=""/>
          <p:cNvSpPr/>
          <p:nvPr/>
        </p:nvSpPr>
        <p:spPr>
          <a:xfrm>
            <a:off x="261720" y="4687920"/>
            <a:ext cx="308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Dauphin"/>
              </a:rPr>
              <a:t>Piel y mucos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96960" y="4648320"/>
            <a:ext cx="58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Dauphin"/>
              </a:rPr>
              <a:t>Mucho flujo y poca extr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75600" y="1447920"/>
            <a:ext cx="496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Dauphin"/>
              </a:rPr>
              <a:t>Porque  somos rosado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960" y="685800"/>
            <a:ext cx="51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5b8e6"/>
                </a:solidFill>
                <a:latin typeface="Dauphin"/>
              </a:rPr>
              <a:t>Cardiopatías Congén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780000" y="2133720"/>
            <a:ext cx="482436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28080" y="609588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Dauphin"/>
              </a:rPr>
              <a:t>Centro Cardiovascular Hosp. Luis Calvo Mack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28440" y="3803760"/>
            <a:ext cx="481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Hipoperfusión Tis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Hipoter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Sh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90920" y="3809880"/>
            <a:ext cx="458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Insaturación Arte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Cardía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Pulmo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560" y="42876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12200" y="907920"/>
            <a:ext cx="62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c99ff"/>
                </a:solidFill>
                <a:latin typeface="Dauphin"/>
              </a:rPr>
              <a:t>Fisiopatología de la Cian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3456000" cy="1729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859280" y="1989000"/>
            <a:ext cx="352908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5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5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109800" y="314280"/>
            <a:ext cx="94482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b8e6"/>
                </a:solidFill>
                <a:latin typeface="Dauphin"/>
              </a:rPr>
              <a:t>Cardiopatías Congénitas Cianó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1773360"/>
            <a:ext cx="5638680" cy="6426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99"/>
                </a:solidFill>
                <a:latin typeface="Dauphin"/>
              </a:rPr>
              <a:t>Porque  somos  rosado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676520"/>
            <a:ext cx="3429000" cy="419076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2700360" cy="3352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25960" y="2844720"/>
            <a:ext cx="608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Oxigen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Débito Adecu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Distribución del Déb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Ausencia de Shunts D-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  </a:t>
            </a: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cardíacos y/o pulmona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23:11:38Z</dcterms:created>
  <dc:creator> Monica</dc:creator>
  <dc:description/>
  <dc:language>en-US</dc:language>
  <cp:lastModifiedBy> Monica</cp:lastModifiedBy>
  <dcterms:modified xsi:type="dcterms:W3CDTF">2006-05-25T17:03:35Z</dcterms:modified>
  <cp:revision>15</cp:revision>
  <dc:subject/>
  <dc:title>Diapositiva 1</dc:title>
</cp:coreProperties>
</file>