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6.pct" ContentType="image/x-pict"/>
  <Override PartName="/ppt/media/image11.pct" ContentType="image/x-pict"/>
  <Override PartName="/ppt/media/image9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2E3-53EF-4BA6-B54C-D645A359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D36-2332-41B7-91AF-59113942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5E6-4591-4C58-868B-EF02C744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CE1-A466-4C77-8E1C-E557885A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5665-B159-4388-9170-3DAB93C3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5A1D-135F-4825-B39F-D899F1E1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3A38-C4A9-4F24-9D36-B1749E1E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4134-D9AF-4F9A-8A7C-11E82D04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441C-A1AE-41FD-B18D-32D55A8B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3346-B11A-4076-A041-E36145FA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76D7-405E-4F68-AE3B-1144A2A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3ED-DB52-4BC8-9E73-554A95FF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4FFB-1A5C-41A3-BAC0-D76BD84E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56DE-9AA7-41E4-A960-936996DD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841E-B8D8-475C-8C49-B5E14D11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ED9-70A5-4B25-B8D7-61F5F6DB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D28B-7280-4BC2-979D-62C81024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A9D-2A93-407F-93DA-22BF311B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5E6-EC8E-4BC9-A0E5-E2A6645B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0E7-48F2-4A50-930A-9E1FF422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754-0DF0-4D76-AED4-555E2DFE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FDF-AD39-4349-A333-895E5FC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F18-F0C2-43E0-8B48-C4C9CEF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09C-02E8-470E-AA05-0E3003C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0FC3-1CDC-4941-AB70-F344DEE257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197E-2B72-4B8A-BB30-14E75CC3A9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9760" y="1143000"/>
            <a:ext cx="746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SUFICIENCI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ARDIA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7280" y="5410080"/>
            <a:ext cx="519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O CARDIO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P. LUIS C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533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FICIENCIA  CARDIAC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ISIOPATOLOGIA            Sobrecarga de PR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440" y="632448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5000" y="160020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520" y="2362320"/>
            <a:ext cx="30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6480" y="44197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8680" y="2819520"/>
            <a:ext cx="398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enosis  valvula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upra o subvalv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artación 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4876920"/>
            <a:ext cx="10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1440" y="640080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153280" cy="44193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8560" y="295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7160" y="905040"/>
            <a:ext cx="81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       Mala CONTRACT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9160" y="190188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787480"/>
            <a:ext cx="276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nflama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póx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abó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gener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diopá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676520"/>
            <a:ext cx="8534160" cy="4343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7080" y="196920"/>
            <a:ext cx="859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    RESTRICCION  DIASTO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4720" y="190512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55880" y="2948040"/>
            <a:ext cx="43092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RESTRI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C.  CONSTRI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P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HIPERTRO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60" y="632448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HOSP. LUIS C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-533520" y="-1676520"/>
          <a:ext cx="10058400" cy="960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-1676520"/>
                    <a:ext cx="10058400" cy="9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85800" y="990720"/>
            <a:ext cx="7543800" cy="52578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-1447920"/>
          <a:ext cx="10058400" cy="883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7920"/>
                    <a:ext cx="10058400" cy="883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914400" y="533520"/>
            <a:ext cx="7086600" cy="586728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-380880" y="-1143000"/>
          <a:ext cx="105156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1143000"/>
                    <a:ext cx="105156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914400" y="762120"/>
            <a:ext cx="7086600" cy="55623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8480" y="86508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CANISMOS DE COMPENS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09920" y="121932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6800" y="2236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8800" y="2693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INA-A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4040" y="345600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4280" y="2879640"/>
            <a:ext cx="193320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O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89548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4572000"/>
            <a:ext cx="380880" cy="1371600"/>
          </a:xfrm>
          <a:prstGeom prst="upArrow">
            <a:avLst>
              <a:gd name="adj1" fmla="val 50000"/>
              <a:gd name="adj2" fmla="val 90028"/>
            </a:avLst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9920" y="4376880"/>
            <a:ext cx="462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ono Arteri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ono Veno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Retención agua y 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2362320"/>
            <a:ext cx="990360" cy="304560"/>
          </a:xfrm>
          <a:prstGeom prst="leftArrow">
            <a:avLst>
              <a:gd name="adj1" fmla="val 50000"/>
              <a:gd name="adj2" fmla="val 81294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743200"/>
            <a:ext cx="457200" cy="1600200"/>
          </a:xfrm>
          <a:prstGeom prst="downArrow">
            <a:avLst>
              <a:gd name="adj1" fmla="val 50000"/>
              <a:gd name="adj2" fmla="val 87500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20040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9625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4480" y="817560"/>
            <a:ext cx="71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COMPENS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38840" y="121932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15920" y="2614680"/>
            <a:ext cx="453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ILA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(L.de Starl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HIPERTR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(L.de Lapl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2133720"/>
          <a:ext cx="28195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28195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1600" y="606600"/>
            <a:ext cx="698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0000" y="2101680"/>
            <a:ext cx="4764960" cy="33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nam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 Fí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x Tor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CO 2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tudio Hemodin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5840" y="6095880"/>
            <a:ext cx="75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O  CARDIOVASCULAR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09560" y="606600"/>
            <a:ext cx="69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A CARDIA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G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88520" y="2220840"/>
            <a:ext cx="40042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DIOMEG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PATOMEG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. PULMO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. VISC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80" y="5985000"/>
            <a:ext cx="87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HOSP L CALVO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219320"/>
            <a:ext cx="3657600" cy="44193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93320" y="76320"/>
            <a:ext cx="71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5440" y="1251000"/>
            <a:ext cx="34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0440" y="2286000"/>
            <a:ext cx="46018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eer DEBI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orde a DEMAN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4640" y="5867280"/>
            <a:ext cx="70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ntro Cardiovascular  Hosp. Luis C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1906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490360" y="1219320"/>
            <a:ext cx="28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TO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5160" y="457200"/>
            <a:ext cx="698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53200" y="1905120"/>
            <a:ext cx="325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Taquicar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li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alid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Sudo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000" y="6095880"/>
            <a:ext cx="86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  HOSP. LUIS C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343400" cy="3255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71480" y="83808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: 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21480" y="4702320"/>
            <a:ext cx="12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080" y="1905120"/>
            <a:ext cx="4767840" cy="399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 diagnóstic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Congén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diomiopa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ocard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. Pericárd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qu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rritm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8600" y="6324480"/>
            <a:ext cx="71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O CARDIOVASCULAR  HOSP.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97880" y="2209680"/>
            <a:ext cx="8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5600" y="6262560"/>
            <a:ext cx="76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O  CARDIOVASCULAR 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47800" y="40644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95600" y="6262560"/>
            <a:ext cx="76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O  CARDIOVASCULAR 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9560" y="406440"/>
            <a:ext cx="78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 CARDIACA :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42200" y="1371600"/>
            <a:ext cx="51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ETERISMO    CARD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21000" y="623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9760" y="2708280"/>
            <a:ext cx="4484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.  INTERVE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4880" y="6080040"/>
            <a:ext cx="72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NTRO CARDIOVASCULAR   HOSP 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82080" y="6508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7920" y="120960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DAS 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2014560"/>
            <a:ext cx="6721560" cy="40183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MENTACION  FRACCIONADA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T. ENERGICO INF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HIPERT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O DE 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CION DE LA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70120" y="60012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25720" y="12096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9560" y="1892160"/>
            <a:ext cx="7351200" cy="4189320"/>
          </a:xfrm>
          <a:prstGeom prst="rect">
            <a:avLst/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ARGA  :               DIURÉ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STCARGA :             VASODILA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TRACTILIDAD :  INOTRO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EC. CARDIACA :     ANTIARRIT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ARCA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82080" y="3808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inotróp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40760" y="2133720"/>
            <a:ext cx="55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ildigoxina  ( Lanitop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MR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3400" y="2919240"/>
            <a:ext cx="387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osis: 5 Gama / Kg / d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895480"/>
            <a:ext cx="4038480" cy="25146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2895480"/>
            <a:ext cx="3048120" cy="25146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44560" y="90504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EJO  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21000" y="380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9160" y="3276720"/>
            <a:ext cx="27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urét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9680" y="1981080"/>
            <a:ext cx="4813920" cy="137376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 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UROSEMI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0,5-1 mg/Kg dosis c/8-1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2560" y="792000"/>
            <a:ext cx="58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EJO FARMACOLO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9680" y="4343400"/>
            <a:ext cx="4813920" cy="137376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horradores de Potas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PIRONOLACT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5-3 mg/Kg dosis c/8-1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2360" y="326088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76520"/>
            <a:ext cx="8382240" cy="4724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21000" y="380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25800" y="83808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EJO  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9720" y="1614600"/>
            <a:ext cx="42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asodilatado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2520" y="2666880"/>
            <a:ext cx="7922520" cy="29574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rteriales       : Hidralaz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Venosos          : Nitri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Mixtos            : Captopril, Enalapr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UFICIENCIA  CARDIA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520" y="601992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80" y="1812960"/>
            <a:ext cx="823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s aquel estado fisiopatológico y clínico  que  se  produce  cuando  las demandas  de flujo de  los  tejidos no son   satisfechas  adecuadamente,   y  cuando  la  causa de  esta  alteración  esta  a  nivel del coraz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3880"/>
            <a:ext cx="8458200" cy="41911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96080" y="1454040"/>
            <a:ext cx="184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TE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2760" y="318960"/>
            <a:ext cx="82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 CARDIACA :  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4320" y="6248520"/>
            <a:ext cx="74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O CARDIOVASCULAR  HOSP.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8400" y="990720"/>
            <a:ext cx="418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3200400" cy="2457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406920" cy="2819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96960" y="533412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A-CIV-DUCTUS-CAV-CoAo-FALLOT-TGA 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22320" y="14191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  CORREC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990720"/>
            <a:ext cx="8305920" cy="51814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680" y="30636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21960" y="14479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SIMPLE o  CE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809720" y="2082960"/>
            <a:ext cx="4591080" cy="3377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-4495680" y="-1523880"/>
            <a:ext cx="14554080" cy="10707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15480" y="289548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NDING  T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9840" y="369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182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360" y="45072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50240" y="2438280"/>
            <a:ext cx="39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 PAL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447920"/>
            <a:ext cx="8153280" cy="46479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1600" y="3962520"/>
            <a:ext cx="483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. UNICO ANATOMICO O  FUN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OS ESPECIALES  DE  CIV Y C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5867280"/>
            <a:ext cx="10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entro Cardiovascular    Hospital L C Mack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0320" y="669960"/>
            <a:ext cx="53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8640" y="1828800"/>
            <a:ext cx="4473720" cy="825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C =  VE  x  F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6960" y="350532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733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0960" y="3254400"/>
            <a:ext cx="398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3520"/>
            <a:ext cx="2971800" cy="495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219320"/>
            <a:ext cx="3505320" cy="4724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480" y="476280"/>
            <a:ext cx="88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240" y="4648320"/>
            <a:ext cx="30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720" y="5181480"/>
            <a:ext cx="36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ol. Diastólic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8960" y="160020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155268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0880" y="3014640"/>
            <a:ext cx="37119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. Intratorac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. Intrapericar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ono Ven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ct. mu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1560" y="475452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R.   AU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2280" y="528624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ANCE  MIO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700280"/>
          <a:ext cx="30668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0280"/>
                    <a:ext cx="30668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254600" y="3013200"/>
            <a:ext cx="221400" cy="4377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5200" y="3106800"/>
            <a:ext cx="176040" cy="33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219320"/>
            <a:ext cx="3505320" cy="3657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80" y="476280"/>
            <a:ext cx="88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0560" y="3714840"/>
            <a:ext cx="3359160" cy="1117800"/>
            <a:chOff x="610560" y="3714840"/>
            <a:chExt cx="3359160" cy="1117800"/>
          </a:xfrm>
        </p:grpSpPr>
        <p:sp>
          <p:nvSpPr>
            <p:cNvPr id="116" name=""/>
            <p:cNvSpPr/>
            <p:nvPr/>
          </p:nvSpPr>
          <p:spPr>
            <a:xfrm>
              <a:off x="610560" y="3714840"/>
              <a:ext cx="3052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OSTCARG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3080" y="4141800"/>
              <a:ext cx="335664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uerza que se opo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la eyec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38080" y="5486400"/>
            <a:ext cx="2438280" cy="941400"/>
            <a:chOff x="838080" y="5486400"/>
            <a:chExt cx="2438280" cy="941400"/>
          </a:xfrm>
        </p:grpSpPr>
        <p:sp>
          <p:nvSpPr>
            <p:cNvPr id="119" name=""/>
            <p:cNvSpPr/>
            <p:nvPr/>
          </p:nvSpPr>
          <p:spPr>
            <a:xfrm>
              <a:off x="838080" y="5486400"/>
              <a:ext cx="1069560" cy="941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4760" y="5769000"/>
              <a:ext cx="555840" cy="423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207160" y="5486400"/>
              <a:ext cx="1069200" cy="941400"/>
              <a:chOff x="2207160" y="5486400"/>
              <a:chExt cx="1069200" cy="941400"/>
            </a:xfrm>
          </p:grpSpPr>
          <p:sp>
            <p:nvSpPr>
              <p:cNvPr id="122" name=""/>
              <p:cNvSpPr/>
              <p:nvPr/>
            </p:nvSpPr>
            <p:spPr>
              <a:xfrm>
                <a:off x="2207160" y="5486400"/>
                <a:ext cx="1069200" cy="9414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35320" y="5626440"/>
                <a:ext cx="812520" cy="659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533520" y="4910040"/>
            <a:ext cx="861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EY de LAPLACE :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ensión en la f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371600"/>
          <a:ext cx="1905120" cy="21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190512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 rot="3172800">
            <a:off x="662400" y="1729800"/>
            <a:ext cx="776160" cy="336600"/>
          </a:xfrm>
          <a:custGeom>
            <a:avLst/>
            <a:gdLst>
              <a:gd name="textAreaLeft" fmla="*/ 96840 w 776160"/>
              <a:gd name="textAreaRight" fmla="*/ 679320 w 776160"/>
              <a:gd name="textAreaTop" fmla="*/ 84240 h 336600"/>
              <a:gd name="textAreaBottom" fmla="*/ 252720 h 336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876920"/>
            <a:ext cx="8229600" cy="17524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5029200"/>
            <a:ext cx="533520" cy="380880"/>
          </a:xfrm>
          <a:custGeom>
            <a:avLst/>
            <a:gdLst>
              <a:gd name="textAreaLeft" fmla="*/ 8316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5697360"/>
            <a:ext cx="5086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. Intracav x Radio vent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osor de la 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6095880"/>
            <a:ext cx="4038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4280" y="1467000"/>
            <a:ext cx="414324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ion  Intracavi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olumen Vent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Grosor de la 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2096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1360" y="25909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. 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057400"/>
            <a:ext cx="609480" cy="1371600"/>
          </a:xfrm>
          <a:custGeom>
            <a:avLst/>
            <a:gdLst>
              <a:gd name="textAreaLeft" fmla="*/ 389520 w 609480"/>
              <a:gd name="textAreaRight" fmla="*/ 609840 w 6094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4400" y="2057400"/>
            <a:ext cx="26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. Pe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act. Art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ol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3172800">
            <a:off x="694080" y="1743840"/>
            <a:ext cx="776520" cy="336600"/>
          </a:xfrm>
          <a:custGeom>
            <a:avLst/>
            <a:gdLst>
              <a:gd name="textAreaLeft" fmla="*/ 96840 w 776520"/>
              <a:gd name="textAreaRight" fmla="*/ 679680 w 776520"/>
              <a:gd name="textAreaTop" fmla="*/ 84240 h 336600"/>
              <a:gd name="textAreaBottom" fmla="*/ 252720 h 336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609480" y="1219320"/>
            <a:ext cx="2819520" cy="3047760"/>
            <a:chOff x="609480" y="1219320"/>
            <a:chExt cx="2819520" cy="3047760"/>
          </a:xfrm>
        </p:grpSpPr>
        <p:graphicFrame>
          <p:nvGraphicFramePr>
            <p:cNvPr id="139" name=""/>
            <p:cNvGraphicFramePr/>
            <p:nvPr/>
          </p:nvGraphicFramePr>
          <p:xfrm>
            <a:off x="609480" y="1219320"/>
            <a:ext cx="2819520" cy="304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219320"/>
                      <a:ext cx="281952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 flipV="1">
              <a:off x="1473480" y="2809440"/>
              <a:ext cx="432000" cy="397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2482200" y="3339360"/>
              <a:ext cx="432000" cy="5961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553840" y="2743200"/>
              <a:ext cx="6480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8600" y="1066680"/>
            <a:ext cx="4114800" cy="5181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440" y="4362480"/>
            <a:ext cx="39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7560" y="4921200"/>
            <a:ext cx="40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elocidad  de  acor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miento de la f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5800" y="247680"/>
            <a:ext cx="87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7560" y="1852560"/>
            <a:ext cx="472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op. Intrin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stim. adrenér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3352680"/>
            <a:ext cx="40388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ecarga ( + 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stcarga ( -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5867280"/>
            <a:ext cx="10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entro Cardiovascular    Hospital L C Mack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50320" y="669960"/>
            <a:ext cx="53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8640" y="1828800"/>
            <a:ext cx="4473720" cy="825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C =  VE  x  F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86960" y="350532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3733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0960" y="3254400"/>
            <a:ext cx="398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676520"/>
            <a:ext cx="1752840" cy="1295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33520"/>
            <a:ext cx="2971800" cy="495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1440" y="609588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0720" y="22212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8560" y="76212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5400" y="71604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brecarga  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8520" y="236232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UNT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7520" y="3038400"/>
            <a:ext cx="299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IA   CIV  Duc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nal -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onco Ateri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íst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1640" y="4921200"/>
            <a:ext cx="43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UF. VALV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6600" y="1523880"/>
            <a:ext cx="37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22:08:43Z</dcterms:created>
  <dc:creator>Ecocardiagrafía</dc:creator>
  <dc:description/>
  <dc:language>en-US</dc:language>
  <cp:lastModifiedBy>José Manuel Guajardo</cp:lastModifiedBy>
  <dcterms:modified xsi:type="dcterms:W3CDTF">2006-06-20T20:29:57Z</dcterms:modified>
  <cp:revision>62</cp:revision>
  <dc:subject/>
  <dc:title>Sin título de diapositiva</dc:title>
</cp:coreProperties>
</file>