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8063-8DD0-4D0E-929E-2C5665C630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sistant strains of bacteria are present in a population, exposure to antimicrobial drugs favors their survi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antimicrobial selection pressure is one key to preventing antimicrobial resistance and preserving the utility of available drugs for as long as pos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of every new class of antimicrobial drug is followed by emergence of resista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1950s, penicillin-resista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ere a major threat in hospitals and nurs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1970s, methicillin-resista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d emerged and spread, a phenomenon that encouraged widespread use of vancomyc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90s, vancomycin-resistant enterococci emerged and rapidly spread; most of these organisms are resistant to other traditional first-line antimicrobial dru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e century, the firs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rains with reduced susceptibility to vancomycin were documented, prompting concerns th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ully resistant to vancomycin may be on the horiz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June 2002 the first case of vancomycin-resista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12 Steps to Prevent Antimicrobial Resistance: Hospitalized Adults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ervention program is the first “12 Steps” to be launched because hospital patients are at especially high risk for serious antimicrobial-resistant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year nearly 2 million patients in the United States get an infection in a hosp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ose patients, about 90,000 die as a result of their inf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70% of the bacteria that cause hospital-acquired infections are resistant to at least one of the drugs most commonly used to treat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s infected with antimicrobial-resistant organisms are more likely to have longer hospital stays and require treatment with second-or third-choice drugs that may be less effective, more toxic, and/or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272-A555-4015-A77E-5A53BF80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BA0-DD93-4D74-B05A-CBE98B8A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3E4-18D7-4DD4-B28F-920CC27B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91E-484D-4141-82B6-153258B6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857-4029-4394-9787-93307BBD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2AB-4E83-4B7D-9C3D-461FF393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801-7C6B-415E-B7D5-118EBE22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E9F-3234-41F6-ACD0-82F479D4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411-D2C2-4DEB-A8D3-12D7F085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1F2-4D3F-4175-92C6-E2059FC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575-A36A-4B71-9821-E18C6765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98F-E5ED-48F2-9E8D-36911B88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7810-43D6-40E1-AC24-E49F67658D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92556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Uso y abuso de antimicrobianos en pediatr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ra María Elena Santolaya de Pabl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ediatra Infectólog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rofesor Asociado Pediatr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Hospital de niños Luis calvo Macken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antiago, Ch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omic Sans MS"/>
              </a:rPr>
              <a:t>Antimicrobianos de uso ambulatorio en I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106 millones de prescripciones 1999 (10% total de prescripcion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50-75% pacientes con dg de IRA= 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cuánto saben los médicos de atención primaria sobre IRA, uso apropiado abs y resistencia bacterian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ID 2003;37:853-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9" dur="1" fill="hold"/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Méto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scuelas de medicina con programas de formación en MI, MF, 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Aprobación comité ética y directores de progra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ncuesta anónima residentes 1°, 2° y 3er añ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22 preguntas escala Like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 preguntas múltiple elec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9,5% “tenemos un conocimiento promedio o sobre el promedio en tto de IRA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2,8% no se siente “confiado” en sus decisiones de tto de IRA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2%: al menos 1 charla de IRA último añ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7% conocían las guías de tto de I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4910040" cy="662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92360" y="1484280"/>
            <a:ext cx="3816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421000"/>
            <a:ext cx="439236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3573360"/>
            <a:ext cx="3384720" cy="360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4149720"/>
            <a:ext cx="432108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5300640"/>
            <a:ext cx="3240000" cy="360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5877000"/>
            <a:ext cx="4537080" cy="28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40040" y="304920"/>
            <a:ext cx="3711600" cy="655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87640" y="5805360"/>
            <a:ext cx="3600360" cy="503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abemos poco de “cuanto saben” los residentes que atienden pacientes en atención prima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Los encuestados se sienten satisfechos con sus conocimien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Dicen conocer las guí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&gt;90% tuvo una “clase” de IRA reciente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2/3 encuestados prescriben abs en pacientes con exudado farínge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Nada que ver con recomendaciones ID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Sobre uso de abs: subestimado en este estud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Indicación abs en infecciones virales: “resfrío, bronquitis, rinitis purulenta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o anterior indica más un error médico que una presión del pac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Discusión, resistenc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obre uso abs aumenta la resistencia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in embar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1/3 precribe abs, dg incier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econocen R problema n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prevalencia R en su institució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esistencia SGA a PNC: 63,5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-1676880"/>
            <a:ext cx="89154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buso antimicrobiano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Conclusiones de 8 Focus Group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38433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ocupaciones pacie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arga nasal ver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 prescripción “consulta perdida”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cesidad retorno a trabaj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1360" y="2285640"/>
            <a:ext cx="4292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ocupaciones méd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iente espera “tratamient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agnóstico inci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terminar consult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ión de ti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4343400"/>
            <a:ext cx="54144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86400" y="4343400"/>
            <a:ext cx="54144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59436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"/>
              </a:rPr>
              <a:t>Barden L. Clin Pediatr. 1998;37:665-67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9400" y="5611680"/>
            <a:ext cx="535788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Indicación antimicrobi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13120" y="4089240"/>
            <a:ext cx="226836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 nivel del hospi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omic Sans MS"/>
              </a:rPr>
              <a:t>Aumento en uso antimicrobian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Niños cada vez más peque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Mayor número de inmunodeprim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irugías más complej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ispositivos y próte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Nuevos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B-lactám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Macról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et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Quinolo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Oxazolidino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Glicopépt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streptogrami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Pept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ól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Glicilcicli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114800" cy="391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¿por qué abusamos de los antimicrobianos?.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o antipirét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 el antibiótico busque el foco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icio antimicrobianos antes de cultiv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&gt; enfermedad, … &gt; antimicrobian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de combinaciones innecesar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remos evitar infeccio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olongación innecesaria de tratami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mpiricismo vertical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9810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uso de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¿es malo de verdad o es una obsesión de los infectólogo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nsecuencias del abuso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No respue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sarrollo de resiste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fectos advers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Sobreestimación de espectati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Falsa tranquili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574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79280" y="2189160"/>
            <a:ext cx="3843360" cy="4326120"/>
            <a:chOff x="179280" y="2189160"/>
            <a:chExt cx="3843360" cy="4326120"/>
          </a:xfrm>
        </p:grpSpPr>
        <p:sp>
          <p:nvSpPr>
            <p:cNvPr id="124" name=""/>
            <p:cNvSpPr/>
            <p:nvPr/>
          </p:nvSpPr>
          <p:spPr>
            <a:xfrm>
              <a:off x="179280" y="2189160"/>
              <a:ext cx="3843360" cy="432612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42920" y="2646360"/>
              <a:ext cx="2133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pas resist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c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12720" y="3227760"/>
              <a:ext cx="1064880" cy="835920"/>
              <a:chOff x="612720" y="3227760"/>
              <a:chExt cx="1064880" cy="835920"/>
            </a:xfrm>
          </p:grpSpPr>
          <p:sp>
            <p:nvSpPr>
              <p:cNvPr id="127" name=""/>
              <p:cNvSpPr/>
              <p:nvPr/>
            </p:nvSpPr>
            <p:spPr>
              <a:xfrm rot="1032000">
                <a:off x="678240" y="3352320"/>
                <a:ext cx="933480" cy="58608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314200">
                <a:off x="980640" y="3551400"/>
                <a:ext cx="476280" cy="2466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817000" y="4233240"/>
              <a:ext cx="1040040" cy="777240"/>
              <a:chOff x="2817000" y="4233240"/>
              <a:chExt cx="1040040" cy="777240"/>
            </a:xfrm>
          </p:grpSpPr>
          <p:sp>
            <p:nvSpPr>
              <p:cNvPr id="130" name=""/>
              <p:cNvSpPr/>
              <p:nvPr/>
            </p:nvSpPr>
            <p:spPr>
              <a:xfrm rot="20837400">
                <a:off x="2869920" y="4328640"/>
                <a:ext cx="933840" cy="58608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19600">
                <a:off x="3176640" y="4486680"/>
                <a:ext cx="476640" cy="2466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026720" y="5151240"/>
              <a:ext cx="1049400" cy="798840"/>
              <a:chOff x="1026720" y="5151240"/>
              <a:chExt cx="1049400" cy="798840"/>
            </a:xfrm>
          </p:grpSpPr>
          <p:sp>
            <p:nvSpPr>
              <p:cNvPr id="133" name=""/>
              <p:cNvSpPr/>
              <p:nvPr/>
            </p:nvSpPr>
            <p:spPr>
              <a:xfrm rot="861000">
                <a:off x="1084320" y="5257440"/>
                <a:ext cx="93348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143800">
                <a:off x="1388160" y="5452920"/>
                <a:ext cx="47628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27760" y="4158360"/>
              <a:ext cx="1099080" cy="955440"/>
              <a:chOff x="527760" y="4158360"/>
              <a:chExt cx="1099080" cy="955440"/>
            </a:xfrm>
          </p:grpSpPr>
          <p:sp>
            <p:nvSpPr>
              <p:cNvPr id="136" name=""/>
              <p:cNvSpPr/>
              <p:nvPr/>
            </p:nvSpPr>
            <p:spPr>
              <a:xfrm rot="19921200">
                <a:off x="610560" y="4343040"/>
                <a:ext cx="93348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1203400">
                <a:off x="911520" y="4480920"/>
                <a:ext cx="47628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844280" y="4628520"/>
              <a:ext cx="1039680" cy="777240"/>
              <a:chOff x="1844280" y="4628520"/>
              <a:chExt cx="1039680" cy="777240"/>
            </a:xfrm>
          </p:grpSpPr>
          <p:sp>
            <p:nvSpPr>
              <p:cNvPr id="139" name=""/>
              <p:cNvSpPr/>
              <p:nvPr/>
            </p:nvSpPr>
            <p:spPr>
              <a:xfrm rot="20837400">
                <a:off x="1897200" y="4723920"/>
                <a:ext cx="933480" cy="58608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19600">
                <a:off x="2203920" y="4882320"/>
                <a:ext cx="476280" cy="2466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527480" y="3371400"/>
              <a:ext cx="1432800" cy="1239120"/>
              <a:chOff x="1527480" y="3371400"/>
              <a:chExt cx="1432800" cy="1239120"/>
            </a:xfrm>
          </p:grpSpPr>
          <p:sp>
            <p:nvSpPr>
              <p:cNvPr id="142" name=""/>
              <p:cNvSpPr/>
              <p:nvPr/>
            </p:nvSpPr>
            <p:spPr>
              <a:xfrm rot="1654200">
                <a:off x="1634400" y="3610080"/>
                <a:ext cx="121860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937000">
                <a:off x="2025720" y="3863160"/>
                <a:ext cx="62208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937000">
                <a:off x="1836000" y="388584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54200">
                <a:off x="2260080" y="3722760"/>
                <a:ext cx="3070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54200">
                <a:off x="2345760" y="3844800"/>
                <a:ext cx="3070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687400">
                <a:off x="2115000" y="4085280"/>
                <a:ext cx="27072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453400" y="5162040"/>
              <a:ext cx="1039320" cy="776880"/>
              <a:chOff x="2453400" y="5162040"/>
              <a:chExt cx="1039320" cy="776880"/>
            </a:xfrm>
          </p:grpSpPr>
          <p:sp>
            <p:nvSpPr>
              <p:cNvPr id="149" name=""/>
              <p:cNvSpPr/>
              <p:nvPr/>
            </p:nvSpPr>
            <p:spPr>
              <a:xfrm rot="20837400">
                <a:off x="2506320" y="5257440"/>
                <a:ext cx="93348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19600">
                <a:off x="2813040" y="5415840"/>
                <a:ext cx="47628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2590560" y="1523880"/>
            <a:ext cx="5962680" cy="4326120"/>
            <a:chOff x="2590560" y="1523880"/>
            <a:chExt cx="5962680" cy="4326120"/>
          </a:xfrm>
        </p:grpSpPr>
        <p:sp>
          <p:nvSpPr>
            <p:cNvPr id="152" name=""/>
            <p:cNvSpPr/>
            <p:nvPr/>
          </p:nvSpPr>
          <p:spPr>
            <a:xfrm>
              <a:off x="4707720" y="1523880"/>
              <a:ext cx="3845520" cy="432612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42920" y="4884840"/>
              <a:ext cx="2197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pas resistent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domin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590560" y="3084480"/>
              <a:ext cx="2265840" cy="1140120"/>
              <a:chOff x="2590560" y="3084480"/>
              <a:chExt cx="2265840" cy="1140120"/>
            </a:xfrm>
          </p:grpSpPr>
          <p:sp>
            <p:nvSpPr>
              <p:cNvPr id="155" name=""/>
              <p:cNvSpPr/>
              <p:nvPr/>
            </p:nvSpPr>
            <p:spPr>
              <a:xfrm>
                <a:off x="2590560" y="3673440"/>
                <a:ext cx="2265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xposición 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ntimicrobianos</a:t>
                </a: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72640" y="3084480"/>
                <a:ext cx="1969920" cy="538200"/>
              </a:xfrm>
              <a:custGeom>
                <a:avLst/>
                <a:gdLst>
                  <a:gd name="textAreaLeft" fmla="*/ 307800 w 1969920"/>
                  <a:gd name="textAreaRight" fmla="*/ 1723680 w 1969920"/>
                  <a:gd name="textAreaTop" fmla="*/ 134640 h 538200"/>
                  <a:gd name="textAreaBottom" fmla="*/ 4039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913440" y="2149920"/>
              <a:ext cx="1421640" cy="1370880"/>
              <a:chOff x="6913440" y="2149920"/>
              <a:chExt cx="1421640" cy="1370880"/>
            </a:xfrm>
          </p:grpSpPr>
          <p:sp>
            <p:nvSpPr>
              <p:cNvPr id="158" name=""/>
              <p:cNvSpPr/>
              <p:nvPr/>
            </p:nvSpPr>
            <p:spPr>
              <a:xfrm rot="2429400">
                <a:off x="7014600" y="2454120"/>
                <a:ext cx="121896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711600">
                <a:off x="7396920" y="2727720"/>
                <a:ext cx="62172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711600">
                <a:off x="7225920" y="266688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429400">
                <a:off x="7703280" y="26208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429400">
                <a:off x="7758720" y="273456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3463200">
                <a:off x="7466040" y="2928240"/>
                <a:ext cx="27036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065920" y="1955520"/>
              <a:ext cx="1159560" cy="1527480"/>
              <a:chOff x="5065920" y="1955520"/>
              <a:chExt cx="1159560" cy="1527480"/>
            </a:xfrm>
          </p:grpSpPr>
          <p:sp>
            <p:nvSpPr>
              <p:cNvPr id="165" name=""/>
              <p:cNvSpPr/>
              <p:nvPr/>
            </p:nvSpPr>
            <p:spPr>
              <a:xfrm rot="6781200">
                <a:off x="4959720" y="2380680"/>
                <a:ext cx="1371600" cy="6771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8063400">
                <a:off x="5264280" y="2683440"/>
                <a:ext cx="699840" cy="2844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8063400">
                <a:off x="5517720" y="2326680"/>
                <a:ext cx="279360" cy="170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6781200">
                <a:off x="5584320" y="269028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6781200">
                <a:off x="5454000" y="280548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7814400">
                <a:off x="5370120" y="2715840"/>
                <a:ext cx="304920" cy="676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868440" y="3936600"/>
              <a:ext cx="1235160" cy="788040"/>
              <a:chOff x="6868440" y="3936600"/>
              <a:chExt cx="1235160" cy="788040"/>
            </a:xfrm>
          </p:grpSpPr>
          <p:sp>
            <p:nvSpPr>
              <p:cNvPr id="172" name=""/>
              <p:cNvSpPr/>
              <p:nvPr/>
            </p:nvSpPr>
            <p:spPr>
              <a:xfrm rot="75000">
                <a:off x="6876360" y="3949560"/>
                <a:ext cx="121896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357200">
                <a:off x="7273440" y="4158360"/>
                <a:ext cx="62208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357200">
                <a:off x="7103880" y="435204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75000">
                <a:off x="7421760" y="40212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75000">
                <a:off x="7554600" y="40986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108200">
                <a:off x="7415640" y="4408200"/>
                <a:ext cx="27072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941440" y="1665360"/>
              <a:ext cx="1212480" cy="1529640"/>
              <a:chOff x="5941440" y="1665360"/>
              <a:chExt cx="1212480" cy="1529640"/>
            </a:xfrm>
          </p:grpSpPr>
          <p:sp>
            <p:nvSpPr>
              <p:cNvPr id="179" name=""/>
              <p:cNvSpPr/>
              <p:nvPr/>
            </p:nvSpPr>
            <p:spPr>
              <a:xfrm rot="14631600">
                <a:off x="5861880" y="2091240"/>
                <a:ext cx="1371600" cy="6771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5914400">
                <a:off x="6137640" y="2193840"/>
                <a:ext cx="700200" cy="28512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5914400">
                <a:off x="6632640" y="2554560"/>
                <a:ext cx="279360" cy="17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4631600">
                <a:off x="6251400" y="228492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4631600">
                <a:off x="6236280" y="212076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5665400">
                <a:off x="6453000" y="2283480"/>
                <a:ext cx="304920" cy="6732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115600" y="3614760"/>
              <a:ext cx="1317960" cy="933120"/>
              <a:chOff x="5115600" y="3614760"/>
              <a:chExt cx="1317960" cy="933120"/>
            </a:xfrm>
          </p:grpSpPr>
          <p:sp>
            <p:nvSpPr>
              <p:cNvPr id="186" name=""/>
              <p:cNvSpPr/>
              <p:nvPr/>
            </p:nvSpPr>
            <p:spPr>
              <a:xfrm rot="21091800">
                <a:off x="5164920" y="3700440"/>
                <a:ext cx="121896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774000">
                <a:off x="5558040" y="3892320"/>
                <a:ext cx="62208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774000">
                <a:off x="5415480" y="414468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1091800">
                <a:off x="5673960" y="37674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1091800">
                <a:off x="5821920" y="382896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525000">
                <a:off x="5722200" y="4146120"/>
                <a:ext cx="27072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286320" y="3134880"/>
              <a:ext cx="1039680" cy="776880"/>
              <a:chOff x="6286320" y="3134880"/>
              <a:chExt cx="1039680" cy="776880"/>
            </a:xfrm>
          </p:grpSpPr>
          <p:sp>
            <p:nvSpPr>
              <p:cNvPr id="193" name=""/>
              <p:cNvSpPr/>
              <p:nvPr/>
            </p:nvSpPr>
            <p:spPr>
              <a:xfrm rot="20837400">
                <a:off x="6339240" y="3230280"/>
                <a:ext cx="93384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519600">
                <a:off x="6645960" y="3388320"/>
                <a:ext cx="47664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lección de cepas resistentes a antimicrobian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712800" y="2344680"/>
          <a:ext cx="7870680" cy="37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2344680"/>
                    <a:ext cx="7870680" cy="3768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1080" y="-1495800"/>
            <a:ext cx="826452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o reciente de antimicrobianos- infección por cepas no sensibles de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 pneumonia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331600" y="6195960"/>
            <a:ext cx="347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ell, Am Fam Phys 1997;55:16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2349360"/>
            <a:ext cx="2735280" cy="374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36560" y="809640"/>
            <a:ext cx="58629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4600" y="784080"/>
            <a:ext cx="5860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6600" y="1955880"/>
            <a:ext cx="1180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7960" y="2076480"/>
            <a:ext cx="11451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. aur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82720" y="1422360"/>
            <a:ext cx="1154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62640" y="1541520"/>
            <a:ext cx="1186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Penici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67400" y="2303640"/>
            <a:ext cx="880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1950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89360" y="1803240"/>
            <a:ext cx="216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68200" y="1922400"/>
            <a:ext cx="170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aur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penici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86440" y="2917800"/>
            <a:ext cx="685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92440" y="4229280"/>
            <a:ext cx="18446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33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volución de resistencia e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. aureu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897200" y="2133720"/>
            <a:ext cx="87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027760" y="1422360"/>
            <a:ext cx="3574440" cy="1397520"/>
            <a:chOff x="5027760" y="1422360"/>
            <a:chExt cx="3574440" cy="1397520"/>
          </a:xfrm>
        </p:grpSpPr>
        <p:sp>
          <p:nvSpPr>
            <p:cNvPr id="216" name=""/>
            <p:cNvSpPr/>
            <p:nvPr/>
          </p:nvSpPr>
          <p:spPr>
            <a:xfrm>
              <a:off x="5027760" y="1422360"/>
              <a:ext cx="126540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89200" y="1803240"/>
              <a:ext cx="22806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7320" y="1541520"/>
              <a:ext cx="11588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Arial"/>
                </a:rPr>
                <a:t>Meticil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67520" y="2303640"/>
              <a:ext cx="8802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970s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66960" y="1905120"/>
              <a:ext cx="22352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. aure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icilina-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MRS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14960" y="2133720"/>
              <a:ext cx="880560" cy="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21400" y="1752480"/>
              <a:ext cx="0" cy="304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303640" y="1752480"/>
            <a:ext cx="0" cy="3049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862600" y="2666880"/>
            <a:ext cx="3000600" cy="2417760"/>
            <a:chOff x="5862600" y="2666880"/>
            <a:chExt cx="3000600" cy="2417760"/>
          </a:xfrm>
        </p:grpSpPr>
        <p:sp>
          <p:nvSpPr>
            <p:cNvPr id="225" name=""/>
            <p:cNvSpPr/>
            <p:nvPr/>
          </p:nvSpPr>
          <p:spPr>
            <a:xfrm>
              <a:off x="5862600" y="4229280"/>
              <a:ext cx="25142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942520" y="2666880"/>
              <a:ext cx="2920680" cy="2291400"/>
              <a:chOff x="5942520" y="2666880"/>
              <a:chExt cx="2920680" cy="2291400"/>
            </a:xfrm>
          </p:grpSpPr>
          <p:sp>
            <p:nvSpPr>
              <p:cNvPr id="227" name=""/>
              <p:cNvSpPr/>
              <p:nvPr/>
            </p:nvSpPr>
            <p:spPr>
              <a:xfrm>
                <a:off x="7351560" y="3570120"/>
                <a:ext cx="788400" cy="4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42520" y="4348080"/>
                <a:ext cx="2007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nterococc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 a vancomici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042600" y="4729320"/>
                <a:ext cx="8604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452720" y="3048120"/>
                <a:ext cx="1410480" cy="2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c99"/>
                    </a:solidFill>
                    <a:latin typeface="Arial"/>
                  </a:rPr>
                  <a:t>Vancomici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9000" y="3753000"/>
                <a:ext cx="88020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1990s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45200" y="2666880"/>
                <a:ext cx="0" cy="99072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45200" y="3505320"/>
                <a:ext cx="0" cy="68580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112880" y="3124080"/>
                <a:ext cx="27144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3843360" y="3200400"/>
            <a:ext cx="3200040" cy="2976840"/>
            <a:chOff x="3843360" y="3200400"/>
            <a:chExt cx="3200040" cy="2976840"/>
          </a:xfrm>
        </p:grpSpPr>
        <p:sp>
          <p:nvSpPr>
            <p:cNvPr id="236" name=""/>
            <p:cNvSpPr/>
            <p:nvPr/>
          </p:nvSpPr>
          <p:spPr>
            <a:xfrm>
              <a:off x="4605120" y="3505320"/>
              <a:ext cx="0" cy="68580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843360" y="3200400"/>
              <a:ext cx="3200040" cy="2976840"/>
              <a:chOff x="3843360" y="3200400"/>
              <a:chExt cx="3200040" cy="2976840"/>
            </a:xfrm>
          </p:grpSpPr>
          <p:sp>
            <p:nvSpPr>
              <p:cNvPr id="238" name=""/>
              <p:cNvSpPr/>
              <p:nvPr/>
            </p:nvSpPr>
            <p:spPr>
              <a:xfrm>
                <a:off x="5212440" y="3200400"/>
                <a:ext cx="7383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199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46960" y="4348080"/>
                <a:ext cx="1568880" cy="18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 aure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 intermed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ancomici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43360" y="47293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43800" y="5014800"/>
                <a:ext cx="10630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sista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40920" y="5302080"/>
                <a:ext cx="11451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</a:rPr>
                  <a:t>S. aure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VIS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05120" y="3505320"/>
                <a:ext cx="243828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0" y="3398760"/>
            <a:ext cx="3690720" cy="2817720"/>
            <a:chOff x="0" y="3398760"/>
            <a:chExt cx="3690720" cy="2817720"/>
          </a:xfrm>
        </p:grpSpPr>
        <p:sp>
          <p:nvSpPr>
            <p:cNvPr id="245" name=""/>
            <p:cNvSpPr/>
            <p:nvPr/>
          </p:nvSpPr>
          <p:spPr>
            <a:xfrm>
              <a:off x="54720" y="3463920"/>
              <a:ext cx="3108240" cy="2752560"/>
            </a:xfrm>
            <a:custGeom>
              <a:avLst/>
              <a:gdLst/>
              <a:ahLst/>
              <a:rect l="l" t="t" r="r" b="b"/>
              <a:pathLst>
                <a:path w="5682" h="4992">
                  <a:moveTo>
                    <a:pt x="0" y="2261"/>
                  </a:moveTo>
                  <a:lnTo>
                    <a:pt x="1598" y="2096"/>
                  </a:lnTo>
                  <a:lnTo>
                    <a:pt x="681" y="1402"/>
                  </a:lnTo>
                  <a:lnTo>
                    <a:pt x="1809" y="1648"/>
                  </a:lnTo>
                  <a:lnTo>
                    <a:pt x="436" y="266"/>
                  </a:lnTo>
                  <a:lnTo>
                    <a:pt x="2187" y="1321"/>
                  </a:lnTo>
                  <a:lnTo>
                    <a:pt x="1906" y="155"/>
                  </a:lnTo>
                  <a:lnTo>
                    <a:pt x="2564" y="1185"/>
                  </a:lnTo>
                  <a:lnTo>
                    <a:pt x="2760" y="0"/>
                  </a:lnTo>
                  <a:lnTo>
                    <a:pt x="3047" y="1173"/>
                  </a:lnTo>
                  <a:lnTo>
                    <a:pt x="3780" y="194"/>
                  </a:lnTo>
                  <a:lnTo>
                    <a:pt x="3423" y="1321"/>
                  </a:lnTo>
                  <a:lnTo>
                    <a:pt x="5267" y="211"/>
                  </a:lnTo>
                  <a:lnTo>
                    <a:pt x="3799" y="1631"/>
                  </a:lnTo>
                  <a:lnTo>
                    <a:pt x="5382" y="1340"/>
                  </a:lnTo>
                  <a:lnTo>
                    <a:pt x="4051" y="2151"/>
                  </a:lnTo>
                  <a:lnTo>
                    <a:pt x="5682" y="2418"/>
                  </a:lnTo>
                  <a:lnTo>
                    <a:pt x="4051" y="2696"/>
                  </a:lnTo>
                  <a:lnTo>
                    <a:pt x="5137" y="3427"/>
                  </a:lnTo>
                  <a:lnTo>
                    <a:pt x="3799" y="3229"/>
                  </a:lnTo>
                  <a:lnTo>
                    <a:pt x="5473" y="4366"/>
                  </a:lnTo>
                  <a:lnTo>
                    <a:pt x="3464" y="3526"/>
                  </a:lnTo>
                  <a:lnTo>
                    <a:pt x="3780" y="4503"/>
                  </a:lnTo>
                  <a:lnTo>
                    <a:pt x="3047" y="3677"/>
                  </a:lnTo>
                  <a:lnTo>
                    <a:pt x="2783" y="4992"/>
                  </a:lnTo>
                  <a:lnTo>
                    <a:pt x="2564" y="3677"/>
                  </a:lnTo>
                  <a:lnTo>
                    <a:pt x="1755" y="4466"/>
                  </a:lnTo>
                  <a:lnTo>
                    <a:pt x="2118" y="3526"/>
                  </a:lnTo>
                  <a:lnTo>
                    <a:pt x="533" y="4422"/>
                  </a:lnTo>
                  <a:lnTo>
                    <a:pt x="1772" y="3146"/>
                  </a:lnTo>
                  <a:lnTo>
                    <a:pt x="543" y="3260"/>
                  </a:lnTo>
                  <a:lnTo>
                    <a:pt x="1582" y="2639"/>
                  </a:lnTo>
                  <a:lnTo>
                    <a:pt x="0" y="2261"/>
                  </a:lnTo>
                  <a:lnTo>
                    <a:pt x="0" y="2261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3398760"/>
              <a:ext cx="3106800" cy="2754360"/>
            </a:xfrm>
            <a:custGeom>
              <a:avLst/>
              <a:gdLst/>
              <a:ahLst/>
              <a:rect l="l" t="t" r="r" b="b"/>
              <a:pathLst>
                <a:path w="5680" h="4994">
                  <a:moveTo>
                    <a:pt x="0" y="2263"/>
                  </a:moveTo>
                  <a:lnTo>
                    <a:pt x="1596" y="2097"/>
                  </a:lnTo>
                  <a:lnTo>
                    <a:pt x="679" y="1402"/>
                  </a:lnTo>
                  <a:lnTo>
                    <a:pt x="1807" y="1650"/>
                  </a:lnTo>
                  <a:lnTo>
                    <a:pt x="432" y="270"/>
                  </a:lnTo>
                  <a:lnTo>
                    <a:pt x="2184" y="1323"/>
                  </a:lnTo>
                  <a:lnTo>
                    <a:pt x="1900" y="155"/>
                  </a:lnTo>
                  <a:lnTo>
                    <a:pt x="2560" y="1185"/>
                  </a:lnTo>
                  <a:lnTo>
                    <a:pt x="2756" y="0"/>
                  </a:lnTo>
                  <a:lnTo>
                    <a:pt x="3041" y="1173"/>
                  </a:lnTo>
                  <a:lnTo>
                    <a:pt x="3776" y="194"/>
                  </a:lnTo>
                  <a:lnTo>
                    <a:pt x="3417" y="1323"/>
                  </a:lnTo>
                  <a:lnTo>
                    <a:pt x="5263" y="213"/>
                  </a:lnTo>
                  <a:lnTo>
                    <a:pt x="3795" y="1635"/>
                  </a:lnTo>
                  <a:lnTo>
                    <a:pt x="5378" y="1342"/>
                  </a:lnTo>
                  <a:lnTo>
                    <a:pt x="4045" y="2153"/>
                  </a:lnTo>
                  <a:lnTo>
                    <a:pt x="5680" y="2418"/>
                  </a:lnTo>
                  <a:lnTo>
                    <a:pt x="4045" y="2696"/>
                  </a:lnTo>
                  <a:lnTo>
                    <a:pt x="5133" y="3429"/>
                  </a:lnTo>
                  <a:lnTo>
                    <a:pt x="3795" y="3231"/>
                  </a:lnTo>
                  <a:lnTo>
                    <a:pt x="5471" y="4370"/>
                  </a:lnTo>
                  <a:lnTo>
                    <a:pt x="3462" y="3526"/>
                  </a:lnTo>
                  <a:lnTo>
                    <a:pt x="3776" y="4507"/>
                  </a:lnTo>
                  <a:lnTo>
                    <a:pt x="3041" y="3677"/>
                  </a:lnTo>
                  <a:lnTo>
                    <a:pt x="2779" y="4994"/>
                  </a:lnTo>
                  <a:lnTo>
                    <a:pt x="2560" y="3677"/>
                  </a:lnTo>
                  <a:lnTo>
                    <a:pt x="1755" y="4467"/>
                  </a:lnTo>
                  <a:lnTo>
                    <a:pt x="2114" y="3526"/>
                  </a:lnTo>
                  <a:lnTo>
                    <a:pt x="533" y="4424"/>
                  </a:lnTo>
                  <a:lnTo>
                    <a:pt x="1771" y="3146"/>
                  </a:lnTo>
                  <a:lnTo>
                    <a:pt x="543" y="3260"/>
                  </a:lnTo>
                  <a:lnTo>
                    <a:pt x="1579" y="2642"/>
                  </a:lnTo>
                  <a:lnTo>
                    <a:pt x="0" y="2263"/>
                  </a:lnTo>
                  <a:lnTo>
                    <a:pt x="0" y="2263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2448000" y="4476600"/>
              <a:ext cx="1028880" cy="474480"/>
              <a:chOff x="2448000" y="4476600"/>
              <a:chExt cx="1028880" cy="474480"/>
            </a:xfrm>
          </p:grpSpPr>
          <p:sp>
            <p:nvSpPr>
              <p:cNvPr id="248" name=""/>
              <p:cNvSpPr/>
              <p:nvPr/>
            </p:nvSpPr>
            <p:spPr>
              <a:xfrm>
                <a:off x="2448000" y="4476600"/>
                <a:ext cx="638640" cy="474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28280" y="4595760"/>
                <a:ext cx="948600" cy="2289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 2002 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759400" y="4971960"/>
              <a:ext cx="931320" cy="0"/>
            </a:xfrm>
            <a:prstGeom prst="line">
              <a:avLst/>
            </a:prstGeom>
            <a:ln w="57240">
              <a:solidFill>
                <a:srgbClr val="ffff99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2560" y="4376880"/>
              <a:ext cx="1757880" cy="1020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 aureus R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ncomic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7160" y="-617400"/>
            <a:ext cx="863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¿Cómo racionalizar uso antimicrobianos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25840" y="2666880"/>
            <a:ext cx="3817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48320" y="2209680"/>
            <a:ext cx="3954240" cy="2285640"/>
            <a:chOff x="4648320" y="2209680"/>
            <a:chExt cx="3954240" cy="228564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rcRect l="0" t="31171" r="0" b="52852"/>
            <a:stretch/>
          </p:blipFill>
          <p:spPr>
            <a:xfrm>
              <a:off x="4648320" y="3532680"/>
              <a:ext cx="395424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rcRect l="0" t="0" r="0" b="75611"/>
            <a:stretch/>
          </p:blipFill>
          <p:spPr>
            <a:xfrm>
              <a:off x="4648320" y="2209680"/>
              <a:ext cx="3954240" cy="146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stric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20000" t="0" r="31114" b="0"/>
          <a:stretch/>
        </p:blipFill>
        <p:spPr>
          <a:xfrm>
            <a:off x="5181480" y="4572000"/>
            <a:ext cx="2292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0"/>
            <a:ext cx="81993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2 etap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 preveni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istencia a  antibiótic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407880" y="3413160"/>
            <a:ext cx="9555840" cy="3431880"/>
            <a:chOff x="-407880" y="3413160"/>
            <a:chExt cx="9555840" cy="3431880"/>
          </a:xfrm>
        </p:grpSpPr>
        <p:grpSp>
          <p:nvGrpSpPr>
            <p:cNvPr id="262" name=""/>
            <p:cNvGrpSpPr/>
            <p:nvPr/>
          </p:nvGrpSpPr>
          <p:grpSpPr>
            <a:xfrm>
              <a:off x="198720" y="3603600"/>
              <a:ext cx="4907160" cy="2692440"/>
              <a:chOff x="198720" y="3603600"/>
              <a:chExt cx="4907160" cy="269244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720" y="6296040"/>
                <a:ext cx="4907160" cy="0"/>
              </a:xfrm>
              <a:prstGeom prst="line">
                <a:avLst/>
              </a:prstGeom>
              <a:ln w="254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0040" y="6057720"/>
                <a:ext cx="4695480" cy="1800"/>
              </a:xfrm>
              <a:prstGeom prst="line">
                <a:avLst/>
              </a:prstGeom>
              <a:ln w="254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160" y="5813280"/>
                <a:ext cx="4482360" cy="0"/>
              </a:xfrm>
              <a:prstGeom prst="line">
                <a:avLst/>
              </a:prstGeom>
              <a:ln w="254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878760" y="5568480"/>
                <a:ext cx="4226760" cy="1800"/>
              </a:xfrm>
              <a:prstGeom prst="line">
                <a:avLst/>
              </a:prstGeom>
              <a:ln w="254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1076040" y="5320800"/>
                <a:ext cx="4028040" cy="324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1317960" y="5078520"/>
                <a:ext cx="3787920" cy="144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529280" y="4836960"/>
                <a:ext cx="3576240" cy="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1728360" y="4578120"/>
                <a:ext cx="3377160" cy="1404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59840" y="4346640"/>
                <a:ext cx="3145680" cy="468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243520" y="4093920"/>
                <a:ext cx="2862000" cy="612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60600" y="3846600"/>
                <a:ext cx="2644920" cy="0"/>
              </a:xfrm>
              <a:prstGeom prst="line">
                <a:avLst/>
              </a:prstGeom>
              <a:ln w="254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56800" y="3603600"/>
                <a:ext cx="2448720" cy="0"/>
              </a:xfrm>
              <a:prstGeom prst="line">
                <a:avLst/>
              </a:prstGeom>
              <a:ln w="254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-407880" y="3413160"/>
              <a:ext cx="5667120" cy="34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ar  contagi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  Aislar  patóge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  Detener tratami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  Decir no a la Van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  No tratar coloniz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  No tratar contamin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   Participación exper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  Uso datos loc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  Control antimicrobi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 Actuar directamente sobre el patóge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Sacar catéte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Vacun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46560" y="3635280"/>
              <a:ext cx="400140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ff"/>
                  </a:solidFill>
                  <a:latin typeface="Arial"/>
                </a:rPr>
                <a:t>Prevenir transmis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Arial"/>
                </a:rPr>
                <a:t>Uso racional antimicrobi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Diagnóstico y tratamiento efec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Arial"/>
                </a:rPr>
                <a:t>Prevenir infec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2286000"/>
            <a:ext cx="9144000" cy="736560"/>
            <a:chOff x="0" y="2286000"/>
            <a:chExt cx="9144000" cy="736560"/>
          </a:xfrm>
        </p:grpSpPr>
        <p:sp>
          <p:nvSpPr>
            <p:cNvPr id="278" name=""/>
            <p:cNvSpPr/>
            <p:nvPr/>
          </p:nvSpPr>
          <p:spPr>
            <a:xfrm>
              <a:off x="0" y="2516040"/>
              <a:ext cx="9144000" cy="274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72280" y="2468520"/>
              <a:ext cx="40165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cc"/>
                  </a:solidFill>
                  <a:latin typeface="Arial"/>
                </a:rPr>
                <a:t>12 Steps to Prevent Antimicrobial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84600" y="2286000"/>
              <a:ext cx="661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"/>
          <p:cNvSpPr/>
          <p:nvPr/>
        </p:nvSpPr>
        <p:spPr>
          <a:xfrm>
            <a:off x="1523880" y="1295280"/>
            <a:ext cx="72392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Centers for Disease Control and Pre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National Center for Infectious Dise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Division of Healthcare Quality 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Restri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Ley de venta restringida de antimicrobianos (receta médica), 199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16002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Uso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194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atología infecciosa y no infeccio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NC-sulf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arece un milagro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atología no infecciosa e infeccio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ientos de molécul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No le pidamos milagro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Venta de antimicrobianos, por grupos, (USD). Chile, 1998 - 2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80880" y="1981080"/>
          <a:ext cx="8382240" cy="4159440"/>
        </p:xfrm>
        <a:graphic>
          <a:graphicData uri="http://schemas.openxmlformats.org/drawingml/2006/table">
            <a:tbl>
              <a:tblPr/>
              <a:tblGrid>
                <a:gridCol w="3353040"/>
                <a:gridCol w="1752480"/>
                <a:gridCol w="1676520"/>
                <a:gridCol w="160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upo antibió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icilinas amplio espec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747.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227.9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405.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rólidos y simi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763.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448.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553.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icilinas m-red espec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2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275.5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272.7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falospor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488.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93.8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944.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uorquinol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075.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15.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392.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trimoxaz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316.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767.6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071.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traciclinas y asoci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966.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65.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69.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ranfenic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9.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45.848.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38.915.9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32.141.8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57200" y="62485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Fuente:  IMS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6002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¿a quié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l personal de salud: los prescriptor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 los periodis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 la población gene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  los niñ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ara termin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Antimicrobianos: Uno de los avances más importantes en la medicina siglo X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Magia...tratar de solucionar todo con el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quilibrio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uando están indicados: perfec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uando no están indicados: antimicrobianos pueden ser reemplazados por un poco de tiempo, una explicación, un consuelo, una observación estricta, un control médico, un par de exámenes de laborator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676520"/>
            <a:ext cx="9144000" cy="304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ntimicrobianos hoy.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¿estamos abusan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omic Sans MS"/>
              </a:rPr>
              <a:t>¿Estamos abusan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5793480" y="594360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v Med Chile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2057400"/>
          <a:ext cx="8305920" cy="39528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          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a de antimicrobi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80880" y="2362320"/>
          <a:ext cx="8305920" cy="3316320"/>
        </p:xfrm>
        <a:graphic>
          <a:graphicData uri="http://schemas.openxmlformats.org/drawingml/2006/table">
            <a:tbl>
              <a:tblPr/>
              <a:tblGrid>
                <a:gridCol w="4419720"/>
                <a:gridCol w="1371600"/>
                <a:gridCol w="1219320"/>
                <a:gridCol w="12952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-9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Mercado farmacéutico total US$ (M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ntibióticos US$ (M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3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dades (M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Penicilinas amplio espectro o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Macról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efalosporinas o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Quinol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2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19040" y="2209680"/>
          <a:ext cx="8305920" cy="39528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141720"/>
            <a:ext cx="8280360" cy="718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¿Cómo medir el consumo de antimicrobiano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Unidades de envase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(IMS Healt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ato cuantitativo...pero poco seg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DDD/1.000 habs-d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nsumo de la dosis diaria definida específica de un antimicrobiano por cada 1.000 habs en un dí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DD/1.000 habs-día = 3   “3 habs de cada 1.000 consumen cada día la DDD específica de un antimicrobiano, en la población en estudi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DDD/1000 habs/día, Chile,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1996-19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ntimicrobiano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1996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moxicil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4,612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5,57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MX-ác clavulánico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357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5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Eritromi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560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6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laritromi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216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4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zitromi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203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37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efadroxilo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122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15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efuroxim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015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02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iprofloxa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211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3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C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CL" sz="1600" spc="-1" strike="noStrike">
                <a:solidFill>
                  <a:srgbClr val="000000"/>
                </a:solidFill>
                <a:latin typeface="Comic Sans MS"/>
              </a:rPr>
              <a:t>Rev Med Chile 200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Uso y abuso de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ntimicrobian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238880" cy="484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 nivel ambulato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Do Resident Physicians Use Antibiotics Appropiately in Treating Upper Respiratory Infections?. A Survey of 11 Pro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lin Infect Dis 2003;37:853-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12:44:34Z</dcterms:created>
  <dc:creator>mariela</dc:creator>
  <dc:description/>
  <dc:language>en-US</dc:language>
  <cp:lastModifiedBy>usuario</cp:lastModifiedBy>
  <dcterms:modified xsi:type="dcterms:W3CDTF">2006-04-29T22:45:00Z</dcterms:modified>
  <cp:revision>58</cp:revision>
  <dc:subject/>
  <dc:title>Sociedad Chilena Infectología- Prevención resistencia bacteriana</dc:title>
</cp:coreProperties>
</file>