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wmf" ContentType="image/x-wmf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1E33-3ECE-4CAE-8366-58CDF93E933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resistant strains of bacteria are present in a population, exposure to antimicrobial drugs favors their surviv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ing antimicrobial selection pressure is one key to preventing antimicrobial resistance and preserving the utility of available drugs for as long as possi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of every new class of antimicrobial drug is followed by emergence of resista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1950s, penicillin-resistan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. aure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ere a major threat in hospitals and nurs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1970s, methicillin-resistan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. aure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ad emerged and spread, a phenomenon that encouraged widespread use of vancomyc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90s, vancomycin-resistant enterococci emerged and rapidly spread; most of these organisms are resistant to other traditional first-line antimicrobial dru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end of the century, the firs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. aure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rains with reduced susceptibility to vancomycin were documented, prompting concerns th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. aure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ully resistant to vancomycin may be on the horiz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June 2002 the first case of vancomycin-resistan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. aure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as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“12 Steps to Prevent Antimicrobial Resistance: Hospitalized Adults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tervention program is the first “12 Steps” to be launched because hospital patients are at especially high risk for serious antimicrobial-resistant inf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year nearly 2 million patients in the United States get an infection in a hospi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ose patients, about 90,000 die as a result of their inf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70% of the bacteria that cause hospital-acquired infections are resistant to at least one of the drugs most commonly used to treat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s infected with antimicrobial-resistant organisms are more likely to have longer hospital stays and require treatment with second-or third-choice drugs that may be less effective, more toxic, and/or more expen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C42E-4328-427C-89F1-1A0BF99A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A998-BDBC-4731-8AA9-DFA6E2F2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2326-3A9A-433E-9D9D-3F09B1CD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21B1-BB08-4964-900C-D1205657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467-9138-4566-9BAA-0E41FD3C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CBB3-1EAF-4C39-8BD7-24AEC812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0CA3-DBB6-4BC6-94BA-6C97D095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4DD5-0A2B-400F-9EEF-B6D6A64D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A60-80F5-4C4B-8B15-B957EDD8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11F1-F1CE-4735-92CB-A0488AAC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7533-423C-4F75-9423-99F54911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3D5-AAB0-430D-92D4-F24FF841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CB34-FB0C-4ED9-97FC-633EB596C75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92556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Uso y abuso de antimicrobianos en pediatrí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Dra María Elena Santolaya de Pabl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Pediatra Infectólog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Profesor Asociado Pediatr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Hospital de niños Luis calvo Macken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Santiago, Chi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omic Sans MS"/>
              </a:rPr>
              <a:t>Antimicrobianos de uso ambulatorio en I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106 millones de prescripciones 1999 (10% total de prescripcion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50-75% pacientes con dg de IRA= a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¿cuánto saben los médicos de atención primaria sobre IRA, uso apropiado abs y resistencia bacterian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95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ID 2003;37:853-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9" dur="1" fill="hold"/>
                                  <p:tgtEl>
                                    <p:spTgt spid="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Métod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Escuelas de medicina con programas de formación en MI, MF, 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Aprobación comité ética y directores de progra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Encuesta anónima residentes 1°, 2° y 3er añ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22 preguntas escala Like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9 preguntas múltiple elecci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99,5% “tenemos un conocimiento promedio o sobre el promedio en tto de IRA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2,8% no se siente “confiado” en sus decisiones de tto de IRA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92%: al menos 1 charla de IRA último añ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97% conocían las guías de tto de I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4910040" cy="6629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92360" y="1484280"/>
            <a:ext cx="3816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421000"/>
            <a:ext cx="4392360" cy="287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3573360"/>
            <a:ext cx="3384720" cy="360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4149720"/>
            <a:ext cx="4321080" cy="287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5300640"/>
            <a:ext cx="3240000" cy="360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63640" y="5877000"/>
            <a:ext cx="4537080" cy="288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840040" y="304920"/>
            <a:ext cx="3711600" cy="6553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987640" y="5805360"/>
            <a:ext cx="3600360" cy="503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Discus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Sabemos poco de “cuanto saben” los residentes que atienden pacientes en atención primar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Los encuestados se sienten satisfechos con sus conocimien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Dicen conocer las guía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&gt;90% tuvo una “clase” de IRA reciente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Discus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2/3 encuestados prescriben abs en pacientes con exudado farínge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Nada que ver con recomendaciones ID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Sobre uso de abs: subestimado en este estud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Indicación abs en infecciones virales: “resfrío, bronquitis, rinitis purulenta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Lo anterior indica más un error médico que una presión del paci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Discusión, resistenc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Sobre uso abs aumenta la resistencia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sin embar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1/3 precribe abs, dg incier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Reconocen R problema naci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¿prevalencia R en su institució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Resistencia SGA a PNC: 63,5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-1676880"/>
            <a:ext cx="8915400" cy="33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buso antimicrobiano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Conclusiones de 8 Focus Group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38433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ocupaciones pacien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carga nasal ver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 prescripción “consulta perdida”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cesidad retorno a trabaj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1360" y="2285640"/>
            <a:ext cx="42926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ocupaciones médi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iente espera “tratamient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agnóstico incier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Cómo terminar consulta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ión de ti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4343400"/>
            <a:ext cx="541440" cy="6094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486400" y="4343400"/>
            <a:ext cx="541440" cy="6094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0" y="594360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"/>
              </a:rPr>
              <a:t>Barden L. Clin Pediatr. 1998;37:665-67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89400" y="5611680"/>
            <a:ext cx="535788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Indicación antimicrobi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913120" y="4089240"/>
            <a:ext cx="2268360" cy="13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A nivel del hospi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omic Sans MS"/>
              </a:rPr>
              <a:t>Aumento en uso antimicrobian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Niños cada vez más pequeñ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Mayor número de inmunodeprimi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Cirugías más complej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Dispositivos y próte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Nuevos antimicrobia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B-lactámi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Macróli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Cet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ó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li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Quinolon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Oxazolidinon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Glicopépti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Estreptogramin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Pept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óli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Glicilciclin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4114800" cy="391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¿por qué abusamos de los antimicrobianos?..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como antipiréti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que el antibiótico busque el foco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icio antimicrobianos antes de cultiv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&gt; enfermedad, … &gt; antimicrobian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de combinaciones innecesari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Queremos evitar infeccio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olongación innecesaria de tratami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mpiricismo verticalis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9810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uso de antimicrobia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¿es malo de verdad o es una obsesión de los infectólogo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Consecuencias del abuso antimicrobia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No respues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Desarrollo de resistenc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Efectos advers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Sobreestimación de espectati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Falsa tranquilid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05740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179280" y="2189160"/>
            <a:ext cx="3843360" cy="4326120"/>
            <a:chOff x="179280" y="2189160"/>
            <a:chExt cx="3843360" cy="4326120"/>
          </a:xfrm>
        </p:grpSpPr>
        <p:sp>
          <p:nvSpPr>
            <p:cNvPr id="124" name=""/>
            <p:cNvSpPr/>
            <p:nvPr/>
          </p:nvSpPr>
          <p:spPr>
            <a:xfrm>
              <a:off x="179280" y="2189160"/>
              <a:ext cx="3843360" cy="432612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75393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42920" y="2646360"/>
              <a:ext cx="2133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pas resist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scas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612720" y="3227760"/>
              <a:ext cx="1064880" cy="835920"/>
              <a:chOff x="612720" y="3227760"/>
              <a:chExt cx="1064880" cy="835920"/>
            </a:xfrm>
          </p:grpSpPr>
          <p:sp>
            <p:nvSpPr>
              <p:cNvPr id="127" name=""/>
              <p:cNvSpPr/>
              <p:nvPr/>
            </p:nvSpPr>
            <p:spPr>
              <a:xfrm rot="1032000">
                <a:off x="678240" y="3352320"/>
                <a:ext cx="933480" cy="58608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2314200">
                <a:off x="980640" y="3551400"/>
                <a:ext cx="476280" cy="24660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817000" y="4233240"/>
              <a:ext cx="1040040" cy="777240"/>
              <a:chOff x="2817000" y="4233240"/>
              <a:chExt cx="1040040" cy="777240"/>
            </a:xfrm>
          </p:grpSpPr>
          <p:sp>
            <p:nvSpPr>
              <p:cNvPr id="130" name=""/>
              <p:cNvSpPr/>
              <p:nvPr/>
            </p:nvSpPr>
            <p:spPr>
              <a:xfrm rot="20837400">
                <a:off x="2869920" y="4328640"/>
                <a:ext cx="933840" cy="58608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519600">
                <a:off x="3176640" y="4486680"/>
                <a:ext cx="476640" cy="24660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1026720" y="5151240"/>
              <a:ext cx="1049400" cy="798840"/>
              <a:chOff x="1026720" y="5151240"/>
              <a:chExt cx="1049400" cy="798840"/>
            </a:xfrm>
          </p:grpSpPr>
          <p:sp>
            <p:nvSpPr>
              <p:cNvPr id="133" name=""/>
              <p:cNvSpPr/>
              <p:nvPr/>
            </p:nvSpPr>
            <p:spPr>
              <a:xfrm rot="861000">
                <a:off x="1084320" y="5257440"/>
                <a:ext cx="933480" cy="58572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2143800">
                <a:off x="1388160" y="5452920"/>
                <a:ext cx="476280" cy="24624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527760" y="4158360"/>
              <a:ext cx="1099080" cy="955440"/>
              <a:chOff x="527760" y="4158360"/>
              <a:chExt cx="1099080" cy="955440"/>
            </a:xfrm>
          </p:grpSpPr>
          <p:sp>
            <p:nvSpPr>
              <p:cNvPr id="136" name=""/>
              <p:cNvSpPr/>
              <p:nvPr/>
            </p:nvSpPr>
            <p:spPr>
              <a:xfrm rot="19921200">
                <a:off x="610560" y="4343040"/>
                <a:ext cx="933480" cy="58572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21203400">
                <a:off x="911520" y="4480920"/>
                <a:ext cx="476280" cy="24624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1844280" y="4628520"/>
              <a:ext cx="1039680" cy="777240"/>
              <a:chOff x="1844280" y="4628520"/>
              <a:chExt cx="1039680" cy="777240"/>
            </a:xfrm>
          </p:grpSpPr>
          <p:sp>
            <p:nvSpPr>
              <p:cNvPr id="139" name=""/>
              <p:cNvSpPr/>
              <p:nvPr/>
            </p:nvSpPr>
            <p:spPr>
              <a:xfrm rot="20837400">
                <a:off x="1897200" y="4723920"/>
                <a:ext cx="933480" cy="58608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19600">
                <a:off x="2203920" y="4882320"/>
                <a:ext cx="476280" cy="24660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1527480" y="3371400"/>
              <a:ext cx="1432800" cy="1239120"/>
              <a:chOff x="1527480" y="3371400"/>
              <a:chExt cx="1432800" cy="1239120"/>
            </a:xfrm>
          </p:grpSpPr>
          <p:sp>
            <p:nvSpPr>
              <p:cNvPr id="142" name=""/>
              <p:cNvSpPr/>
              <p:nvPr/>
            </p:nvSpPr>
            <p:spPr>
              <a:xfrm rot="1654200">
                <a:off x="1634400" y="3610080"/>
                <a:ext cx="1218600" cy="76176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937000">
                <a:off x="2025720" y="3863160"/>
                <a:ext cx="622080" cy="32076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937000">
                <a:off x="1836000" y="3885840"/>
                <a:ext cx="248040" cy="1922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654200">
                <a:off x="2260080" y="3722760"/>
                <a:ext cx="307080" cy="2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54200">
                <a:off x="2345760" y="3844800"/>
                <a:ext cx="307080" cy="2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687400">
                <a:off x="2115000" y="4085280"/>
                <a:ext cx="270720" cy="7596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2453400" y="5162040"/>
              <a:ext cx="1039320" cy="776880"/>
              <a:chOff x="2453400" y="5162040"/>
              <a:chExt cx="1039320" cy="776880"/>
            </a:xfrm>
          </p:grpSpPr>
          <p:sp>
            <p:nvSpPr>
              <p:cNvPr id="149" name=""/>
              <p:cNvSpPr/>
              <p:nvPr/>
            </p:nvSpPr>
            <p:spPr>
              <a:xfrm rot="20837400">
                <a:off x="2506320" y="5257440"/>
                <a:ext cx="933480" cy="58572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519600">
                <a:off x="2813040" y="5415840"/>
                <a:ext cx="476280" cy="24624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2590560" y="1523880"/>
            <a:ext cx="5962680" cy="4326120"/>
            <a:chOff x="2590560" y="1523880"/>
            <a:chExt cx="5962680" cy="4326120"/>
          </a:xfrm>
        </p:grpSpPr>
        <p:sp>
          <p:nvSpPr>
            <p:cNvPr id="152" name=""/>
            <p:cNvSpPr/>
            <p:nvPr/>
          </p:nvSpPr>
          <p:spPr>
            <a:xfrm>
              <a:off x="4707720" y="1523880"/>
              <a:ext cx="3845520" cy="432612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75393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42920" y="4884840"/>
              <a:ext cx="21970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pas resistent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domina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2590560" y="3084480"/>
              <a:ext cx="2265840" cy="1140120"/>
              <a:chOff x="2590560" y="3084480"/>
              <a:chExt cx="2265840" cy="1140120"/>
            </a:xfrm>
          </p:grpSpPr>
          <p:sp>
            <p:nvSpPr>
              <p:cNvPr id="155" name=""/>
              <p:cNvSpPr/>
              <p:nvPr/>
            </p:nvSpPr>
            <p:spPr>
              <a:xfrm>
                <a:off x="2590560" y="3673440"/>
                <a:ext cx="2265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Exposición 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ntimicrobianos</a:t>
                </a:r>
                <a:r>
                  <a:rPr b="1" lang="en-US" sz="1800" spc="-1" strike="noStrike">
                    <a:solidFill>
                      <a:srgbClr val="ff6600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672640" y="3084480"/>
                <a:ext cx="1969920" cy="538200"/>
              </a:xfrm>
              <a:custGeom>
                <a:avLst/>
                <a:gdLst>
                  <a:gd name="textAreaLeft" fmla="*/ 307800 w 1969920"/>
                  <a:gd name="textAreaRight" fmla="*/ 1723680 w 1969920"/>
                  <a:gd name="textAreaTop" fmla="*/ 134640 h 538200"/>
                  <a:gd name="textAreaBottom" fmla="*/ 403920 h 538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913440" y="2149920"/>
              <a:ext cx="1421640" cy="1370880"/>
              <a:chOff x="6913440" y="2149920"/>
              <a:chExt cx="1421640" cy="1370880"/>
            </a:xfrm>
          </p:grpSpPr>
          <p:sp>
            <p:nvSpPr>
              <p:cNvPr id="158" name=""/>
              <p:cNvSpPr/>
              <p:nvPr/>
            </p:nvSpPr>
            <p:spPr>
              <a:xfrm rot="2429400">
                <a:off x="7014600" y="2454120"/>
                <a:ext cx="1218960" cy="76176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711600">
                <a:off x="7396920" y="2727720"/>
                <a:ext cx="621720" cy="32076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3711600">
                <a:off x="7225920" y="2666880"/>
                <a:ext cx="248040" cy="1922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429400">
                <a:off x="7703280" y="262080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429400">
                <a:off x="7758720" y="273456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3463200">
                <a:off x="7466040" y="2928240"/>
                <a:ext cx="270360" cy="7596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5065920" y="1955520"/>
              <a:ext cx="1159560" cy="1527480"/>
              <a:chOff x="5065920" y="1955520"/>
              <a:chExt cx="1159560" cy="1527480"/>
            </a:xfrm>
          </p:grpSpPr>
          <p:sp>
            <p:nvSpPr>
              <p:cNvPr id="165" name=""/>
              <p:cNvSpPr/>
              <p:nvPr/>
            </p:nvSpPr>
            <p:spPr>
              <a:xfrm rot="6781200">
                <a:off x="4959720" y="2380680"/>
                <a:ext cx="1371600" cy="67716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8063400">
                <a:off x="5264280" y="2683440"/>
                <a:ext cx="699840" cy="28440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8063400">
                <a:off x="5517720" y="2326680"/>
                <a:ext cx="279360" cy="17028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6781200">
                <a:off x="5584320" y="269028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6781200">
                <a:off x="5454000" y="280548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7814400">
                <a:off x="5370120" y="2715840"/>
                <a:ext cx="304920" cy="676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868440" y="3936600"/>
              <a:ext cx="1235160" cy="788040"/>
              <a:chOff x="6868440" y="3936600"/>
              <a:chExt cx="1235160" cy="788040"/>
            </a:xfrm>
          </p:grpSpPr>
          <p:sp>
            <p:nvSpPr>
              <p:cNvPr id="172" name=""/>
              <p:cNvSpPr/>
              <p:nvPr/>
            </p:nvSpPr>
            <p:spPr>
              <a:xfrm rot="75000">
                <a:off x="6876360" y="3949560"/>
                <a:ext cx="1218960" cy="76176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357200">
                <a:off x="7273440" y="4158360"/>
                <a:ext cx="622080" cy="32076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357200">
                <a:off x="7103880" y="4352040"/>
                <a:ext cx="248040" cy="1922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75000">
                <a:off x="7421760" y="402120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75000">
                <a:off x="7554600" y="409860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108200">
                <a:off x="7415640" y="4408200"/>
                <a:ext cx="270720" cy="7596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941440" y="1665360"/>
              <a:ext cx="1212480" cy="1529640"/>
              <a:chOff x="5941440" y="1665360"/>
              <a:chExt cx="1212480" cy="1529640"/>
            </a:xfrm>
          </p:grpSpPr>
          <p:sp>
            <p:nvSpPr>
              <p:cNvPr id="179" name=""/>
              <p:cNvSpPr/>
              <p:nvPr/>
            </p:nvSpPr>
            <p:spPr>
              <a:xfrm rot="14631600">
                <a:off x="5861880" y="2091240"/>
                <a:ext cx="1371600" cy="67716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5914400">
                <a:off x="6137640" y="2193840"/>
                <a:ext cx="700200" cy="28512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5914400">
                <a:off x="6632640" y="2554560"/>
                <a:ext cx="279360" cy="1706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4631600">
                <a:off x="6251400" y="228492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4631600">
                <a:off x="6236280" y="212076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5665400">
                <a:off x="6453000" y="2283480"/>
                <a:ext cx="304920" cy="6732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115600" y="3614760"/>
              <a:ext cx="1317960" cy="933120"/>
              <a:chOff x="5115600" y="3614760"/>
              <a:chExt cx="1317960" cy="933120"/>
            </a:xfrm>
          </p:grpSpPr>
          <p:sp>
            <p:nvSpPr>
              <p:cNvPr id="186" name=""/>
              <p:cNvSpPr/>
              <p:nvPr/>
            </p:nvSpPr>
            <p:spPr>
              <a:xfrm rot="21091800">
                <a:off x="5164920" y="3700440"/>
                <a:ext cx="1218960" cy="76176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774000">
                <a:off x="5558040" y="3892320"/>
                <a:ext cx="622080" cy="32076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774000">
                <a:off x="5415480" y="4144680"/>
                <a:ext cx="248040" cy="1922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21091800">
                <a:off x="5673960" y="376740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21091800">
                <a:off x="5821920" y="3828960"/>
                <a:ext cx="293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525000">
                <a:off x="5722200" y="4146120"/>
                <a:ext cx="270720" cy="7596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6286320" y="3134880"/>
              <a:ext cx="1039680" cy="776880"/>
              <a:chOff x="6286320" y="3134880"/>
              <a:chExt cx="1039680" cy="776880"/>
            </a:xfrm>
          </p:grpSpPr>
          <p:sp>
            <p:nvSpPr>
              <p:cNvPr id="193" name=""/>
              <p:cNvSpPr/>
              <p:nvPr/>
            </p:nvSpPr>
            <p:spPr>
              <a:xfrm rot="20837400">
                <a:off x="6339240" y="3230280"/>
                <a:ext cx="933840" cy="585720"/>
              </a:xfrm>
              <a:prstGeom prst="ellipse">
                <a:avLst/>
              </a:prstGeom>
              <a:solidFill>
                <a:srgbClr val="6666ff"/>
              </a:solidFill>
              <a:ln w="1260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519600">
                <a:off x="6645960" y="3388320"/>
                <a:ext cx="476640" cy="24624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lección de cepas resistentes a antimicrobian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712800" y="2344680"/>
          <a:ext cx="7870680" cy="37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2344680"/>
                    <a:ext cx="7870680" cy="3768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41080" y="-1495800"/>
            <a:ext cx="826452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so reciente de antimicrobianos- infección por cepas no sensibles de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 pneumonia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5331600" y="6195960"/>
            <a:ext cx="3478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ell, Am Fam Phys 1997;55:16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2349360"/>
            <a:ext cx="2735280" cy="3743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636560" y="809640"/>
            <a:ext cx="58629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4600" y="784080"/>
            <a:ext cx="5860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6600" y="1955880"/>
            <a:ext cx="1180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7960" y="2076480"/>
            <a:ext cx="11451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. aure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82720" y="1422360"/>
            <a:ext cx="11541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62640" y="1541520"/>
            <a:ext cx="11865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Penici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67400" y="2303640"/>
            <a:ext cx="8802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1950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89360" y="1803240"/>
            <a:ext cx="2168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68200" y="1922400"/>
            <a:ext cx="1707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aure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penici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86440" y="2917800"/>
            <a:ext cx="685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92440" y="4229280"/>
            <a:ext cx="184464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33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volución de resistencia e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. aureu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1897200" y="2133720"/>
            <a:ext cx="87948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027760" y="1422360"/>
            <a:ext cx="3574440" cy="1397520"/>
            <a:chOff x="5027760" y="1422360"/>
            <a:chExt cx="3574440" cy="1397520"/>
          </a:xfrm>
        </p:grpSpPr>
        <p:sp>
          <p:nvSpPr>
            <p:cNvPr id="216" name=""/>
            <p:cNvSpPr/>
            <p:nvPr/>
          </p:nvSpPr>
          <p:spPr>
            <a:xfrm>
              <a:off x="5027760" y="1422360"/>
              <a:ext cx="126540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89200" y="1803240"/>
              <a:ext cx="22806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7320" y="1541520"/>
              <a:ext cx="115884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Arial"/>
                </a:rPr>
                <a:t>Meticil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67520" y="2303640"/>
              <a:ext cx="88020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1970s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66960" y="1905120"/>
              <a:ext cx="22352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. aure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icilina-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MRS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14960" y="2133720"/>
              <a:ext cx="880560" cy="0"/>
            </a:xfrm>
            <a:prstGeom prst="line">
              <a:avLst/>
            </a:prstGeom>
            <a:ln w="572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21400" y="1752480"/>
              <a:ext cx="0" cy="304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303640" y="1752480"/>
            <a:ext cx="0" cy="3049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862600" y="2666880"/>
            <a:ext cx="3000600" cy="2417760"/>
            <a:chOff x="5862600" y="2666880"/>
            <a:chExt cx="3000600" cy="2417760"/>
          </a:xfrm>
        </p:grpSpPr>
        <p:sp>
          <p:nvSpPr>
            <p:cNvPr id="225" name=""/>
            <p:cNvSpPr/>
            <p:nvPr/>
          </p:nvSpPr>
          <p:spPr>
            <a:xfrm>
              <a:off x="5862600" y="4229280"/>
              <a:ext cx="251424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5942520" y="2666880"/>
              <a:ext cx="2920680" cy="2291400"/>
              <a:chOff x="5942520" y="2666880"/>
              <a:chExt cx="2920680" cy="2291400"/>
            </a:xfrm>
          </p:grpSpPr>
          <p:sp>
            <p:nvSpPr>
              <p:cNvPr id="227" name=""/>
              <p:cNvSpPr/>
              <p:nvPr/>
            </p:nvSpPr>
            <p:spPr>
              <a:xfrm>
                <a:off x="7351560" y="3570120"/>
                <a:ext cx="788400" cy="40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942520" y="4348080"/>
                <a:ext cx="20077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Enterococc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 a vancomicin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042600" y="4729320"/>
                <a:ext cx="8604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452720" y="3048120"/>
                <a:ext cx="1410480" cy="20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cc99"/>
                    </a:solidFill>
                    <a:latin typeface="Arial"/>
                  </a:rPr>
                  <a:t>Vancomici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9000" y="3753000"/>
                <a:ext cx="88020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[1990s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045200" y="2666880"/>
                <a:ext cx="0" cy="990720"/>
              </a:xfrm>
              <a:prstGeom prst="line">
                <a:avLst/>
              </a:prstGeom>
              <a:ln w="572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045200" y="3505320"/>
                <a:ext cx="0" cy="685800"/>
              </a:xfrm>
              <a:prstGeom prst="line">
                <a:avLst/>
              </a:prstGeom>
              <a:ln w="572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7112880" y="3124080"/>
                <a:ext cx="27144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" name=""/>
          <p:cNvGrpSpPr/>
          <p:nvPr/>
        </p:nvGrpSpPr>
        <p:grpSpPr>
          <a:xfrm>
            <a:off x="3843360" y="3200400"/>
            <a:ext cx="3200040" cy="2976840"/>
            <a:chOff x="3843360" y="3200400"/>
            <a:chExt cx="3200040" cy="2976840"/>
          </a:xfrm>
        </p:grpSpPr>
        <p:sp>
          <p:nvSpPr>
            <p:cNvPr id="236" name=""/>
            <p:cNvSpPr/>
            <p:nvPr/>
          </p:nvSpPr>
          <p:spPr>
            <a:xfrm>
              <a:off x="4605120" y="3505320"/>
              <a:ext cx="0" cy="685800"/>
            </a:xfrm>
            <a:prstGeom prst="line">
              <a:avLst/>
            </a:prstGeom>
            <a:ln w="572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3843360" y="3200400"/>
              <a:ext cx="3200040" cy="2976840"/>
              <a:chOff x="3843360" y="3200400"/>
              <a:chExt cx="3200040" cy="2976840"/>
            </a:xfrm>
          </p:grpSpPr>
          <p:sp>
            <p:nvSpPr>
              <p:cNvPr id="238" name=""/>
              <p:cNvSpPr/>
              <p:nvPr/>
            </p:nvSpPr>
            <p:spPr>
              <a:xfrm>
                <a:off x="5212440" y="3200400"/>
                <a:ext cx="7383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[1997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846960" y="4348080"/>
                <a:ext cx="1568880" cy="18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 aure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 intermed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ancomicin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843360" y="4729320"/>
                <a:ext cx="3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943800" y="5014800"/>
                <a:ext cx="106308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sista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940920" y="5302080"/>
                <a:ext cx="11451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Arial"/>
                  </a:rPr>
                  <a:t>S. aure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VISA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05120" y="3505320"/>
                <a:ext cx="2438280" cy="0"/>
              </a:xfrm>
              <a:prstGeom prst="line">
                <a:avLst/>
              </a:prstGeom>
              <a:ln w="572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" name=""/>
          <p:cNvGrpSpPr/>
          <p:nvPr/>
        </p:nvGrpSpPr>
        <p:grpSpPr>
          <a:xfrm>
            <a:off x="0" y="3398760"/>
            <a:ext cx="3690720" cy="2817720"/>
            <a:chOff x="0" y="3398760"/>
            <a:chExt cx="3690720" cy="2817720"/>
          </a:xfrm>
        </p:grpSpPr>
        <p:sp>
          <p:nvSpPr>
            <p:cNvPr id="245" name=""/>
            <p:cNvSpPr/>
            <p:nvPr/>
          </p:nvSpPr>
          <p:spPr>
            <a:xfrm>
              <a:off x="54720" y="3463920"/>
              <a:ext cx="3108240" cy="2752560"/>
            </a:xfrm>
            <a:custGeom>
              <a:avLst/>
              <a:gdLst/>
              <a:ahLst/>
              <a:rect l="l" t="t" r="r" b="b"/>
              <a:pathLst>
                <a:path w="5682" h="4992">
                  <a:moveTo>
                    <a:pt x="0" y="2261"/>
                  </a:moveTo>
                  <a:lnTo>
                    <a:pt x="1598" y="2096"/>
                  </a:lnTo>
                  <a:lnTo>
                    <a:pt x="681" y="1402"/>
                  </a:lnTo>
                  <a:lnTo>
                    <a:pt x="1809" y="1648"/>
                  </a:lnTo>
                  <a:lnTo>
                    <a:pt x="436" y="266"/>
                  </a:lnTo>
                  <a:lnTo>
                    <a:pt x="2187" y="1321"/>
                  </a:lnTo>
                  <a:lnTo>
                    <a:pt x="1906" y="155"/>
                  </a:lnTo>
                  <a:lnTo>
                    <a:pt x="2564" y="1185"/>
                  </a:lnTo>
                  <a:lnTo>
                    <a:pt x="2760" y="0"/>
                  </a:lnTo>
                  <a:lnTo>
                    <a:pt x="3047" y="1173"/>
                  </a:lnTo>
                  <a:lnTo>
                    <a:pt x="3780" y="194"/>
                  </a:lnTo>
                  <a:lnTo>
                    <a:pt x="3423" y="1321"/>
                  </a:lnTo>
                  <a:lnTo>
                    <a:pt x="5267" y="211"/>
                  </a:lnTo>
                  <a:lnTo>
                    <a:pt x="3799" y="1631"/>
                  </a:lnTo>
                  <a:lnTo>
                    <a:pt x="5382" y="1340"/>
                  </a:lnTo>
                  <a:lnTo>
                    <a:pt x="4051" y="2151"/>
                  </a:lnTo>
                  <a:lnTo>
                    <a:pt x="5682" y="2418"/>
                  </a:lnTo>
                  <a:lnTo>
                    <a:pt x="4051" y="2696"/>
                  </a:lnTo>
                  <a:lnTo>
                    <a:pt x="5137" y="3427"/>
                  </a:lnTo>
                  <a:lnTo>
                    <a:pt x="3799" y="3229"/>
                  </a:lnTo>
                  <a:lnTo>
                    <a:pt x="5473" y="4366"/>
                  </a:lnTo>
                  <a:lnTo>
                    <a:pt x="3464" y="3526"/>
                  </a:lnTo>
                  <a:lnTo>
                    <a:pt x="3780" y="4503"/>
                  </a:lnTo>
                  <a:lnTo>
                    <a:pt x="3047" y="3677"/>
                  </a:lnTo>
                  <a:lnTo>
                    <a:pt x="2783" y="4992"/>
                  </a:lnTo>
                  <a:lnTo>
                    <a:pt x="2564" y="3677"/>
                  </a:lnTo>
                  <a:lnTo>
                    <a:pt x="1755" y="4466"/>
                  </a:lnTo>
                  <a:lnTo>
                    <a:pt x="2118" y="3526"/>
                  </a:lnTo>
                  <a:lnTo>
                    <a:pt x="533" y="4422"/>
                  </a:lnTo>
                  <a:lnTo>
                    <a:pt x="1772" y="3146"/>
                  </a:lnTo>
                  <a:lnTo>
                    <a:pt x="543" y="3260"/>
                  </a:lnTo>
                  <a:lnTo>
                    <a:pt x="1582" y="2639"/>
                  </a:lnTo>
                  <a:lnTo>
                    <a:pt x="0" y="2261"/>
                  </a:lnTo>
                  <a:lnTo>
                    <a:pt x="0" y="2261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3398760"/>
              <a:ext cx="3106800" cy="2754360"/>
            </a:xfrm>
            <a:custGeom>
              <a:avLst/>
              <a:gdLst/>
              <a:ahLst/>
              <a:rect l="l" t="t" r="r" b="b"/>
              <a:pathLst>
                <a:path w="5680" h="4994">
                  <a:moveTo>
                    <a:pt x="0" y="2263"/>
                  </a:moveTo>
                  <a:lnTo>
                    <a:pt x="1596" y="2097"/>
                  </a:lnTo>
                  <a:lnTo>
                    <a:pt x="679" y="1402"/>
                  </a:lnTo>
                  <a:lnTo>
                    <a:pt x="1807" y="1650"/>
                  </a:lnTo>
                  <a:lnTo>
                    <a:pt x="432" y="270"/>
                  </a:lnTo>
                  <a:lnTo>
                    <a:pt x="2184" y="1323"/>
                  </a:lnTo>
                  <a:lnTo>
                    <a:pt x="1900" y="155"/>
                  </a:lnTo>
                  <a:lnTo>
                    <a:pt x="2560" y="1185"/>
                  </a:lnTo>
                  <a:lnTo>
                    <a:pt x="2756" y="0"/>
                  </a:lnTo>
                  <a:lnTo>
                    <a:pt x="3041" y="1173"/>
                  </a:lnTo>
                  <a:lnTo>
                    <a:pt x="3776" y="194"/>
                  </a:lnTo>
                  <a:lnTo>
                    <a:pt x="3417" y="1323"/>
                  </a:lnTo>
                  <a:lnTo>
                    <a:pt x="5263" y="213"/>
                  </a:lnTo>
                  <a:lnTo>
                    <a:pt x="3795" y="1635"/>
                  </a:lnTo>
                  <a:lnTo>
                    <a:pt x="5378" y="1342"/>
                  </a:lnTo>
                  <a:lnTo>
                    <a:pt x="4045" y="2153"/>
                  </a:lnTo>
                  <a:lnTo>
                    <a:pt x="5680" y="2418"/>
                  </a:lnTo>
                  <a:lnTo>
                    <a:pt x="4045" y="2696"/>
                  </a:lnTo>
                  <a:lnTo>
                    <a:pt x="5133" y="3429"/>
                  </a:lnTo>
                  <a:lnTo>
                    <a:pt x="3795" y="3231"/>
                  </a:lnTo>
                  <a:lnTo>
                    <a:pt x="5471" y="4370"/>
                  </a:lnTo>
                  <a:lnTo>
                    <a:pt x="3462" y="3526"/>
                  </a:lnTo>
                  <a:lnTo>
                    <a:pt x="3776" y="4507"/>
                  </a:lnTo>
                  <a:lnTo>
                    <a:pt x="3041" y="3677"/>
                  </a:lnTo>
                  <a:lnTo>
                    <a:pt x="2779" y="4994"/>
                  </a:lnTo>
                  <a:lnTo>
                    <a:pt x="2560" y="3677"/>
                  </a:lnTo>
                  <a:lnTo>
                    <a:pt x="1755" y="4467"/>
                  </a:lnTo>
                  <a:lnTo>
                    <a:pt x="2114" y="3526"/>
                  </a:lnTo>
                  <a:lnTo>
                    <a:pt x="533" y="4424"/>
                  </a:lnTo>
                  <a:lnTo>
                    <a:pt x="1771" y="3146"/>
                  </a:lnTo>
                  <a:lnTo>
                    <a:pt x="543" y="3260"/>
                  </a:lnTo>
                  <a:lnTo>
                    <a:pt x="1579" y="2642"/>
                  </a:lnTo>
                  <a:lnTo>
                    <a:pt x="0" y="2263"/>
                  </a:lnTo>
                  <a:lnTo>
                    <a:pt x="0" y="2263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2448000" y="4476600"/>
              <a:ext cx="1028880" cy="474480"/>
              <a:chOff x="2448000" y="4476600"/>
              <a:chExt cx="1028880" cy="474480"/>
            </a:xfrm>
          </p:grpSpPr>
          <p:sp>
            <p:nvSpPr>
              <p:cNvPr id="248" name=""/>
              <p:cNvSpPr/>
              <p:nvPr/>
            </p:nvSpPr>
            <p:spPr>
              <a:xfrm>
                <a:off x="2448000" y="4476600"/>
                <a:ext cx="638640" cy="474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528280" y="4595760"/>
                <a:ext cx="948600" cy="2289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 2002 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759400" y="4971960"/>
              <a:ext cx="931320" cy="0"/>
            </a:xfrm>
            <a:prstGeom prst="line">
              <a:avLst/>
            </a:prstGeom>
            <a:ln w="57240">
              <a:solidFill>
                <a:srgbClr val="ffff99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2560" y="4376880"/>
              <a:ext cx="1757880" cy="10209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 aureus R 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ncomic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17160" y="-617400"/>
            <a:ext cx="863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¿Cómo racionalizar uso antimicrobianos?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25840" y="2666880"/>
            <a:ext cx="3817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648320" y="2209680"/>
            <a:ext cx="3954240" cy="2285640"/>
            <a:chOff x="4648320" y="2209680"/>
            <a:chExt cx="3954240" cy="228564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rcRect l="0" t="31171" r="0" b="52852"/>
            <a:stretch/>
          </p:blipFill>
          <p:spPr>
            <a:xfrm>
              <a:off x="4648320" y="3532680"/>
              <a:ext cx="3954240" cy="96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"/>
            <a:srcRect l="0" t="0" r="0" b="75611"/>
            <a:stretch/>
          </p:blipFill>
          <p:spPr>
            <a:xfrm>
              <a:off x="4648320" y="2209680"/>
              <a:ext cx="3954240" cy="146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45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stricció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rcRect l="20000" t="0" r="31114" b="0"/>
          <a:stretch/>
        </p:blipFill>
        <p:spPr>
          <a:xfrm>
            <a:off x="5181480" y="4572000"/>
            <a:ext cx="2292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0"/>
            <a:ext cx="819936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12 etapa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ara preveni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istencia a  antibiótic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-407880" y="3413160"/>
            <a:ext cx="9555840" cy="3431880"/>
            <a:chOff x="-407880" y="3413160"/>
            <a:chExt cx="9555840" cy="3431880"/>
          </a:xfrm>
        </p:grpSpPr>
        <p:grpSp>
          <p:nvGrpSpPr>
            <p:cNvPr id="262" name=""/>
            <p:cNvGrpSpPr/>
            <p:nvPr/>
          </p:nvGrpSpPr>
          <p:grpSpPr>
            <a:xfrm>
              <a:off x="198720" y="3603600"/>
              <a:ext cx="4907160" cy="2692440"/>
              <a:chOff x="198720" y="3603600"/>
              <a:chExt cx="4907160" cy="2692440"/>
            </a:xfrm>
          </p:grpSpPr>
          <p:sp>
            <p:nvSpPr>
              <p:cNvPr id="263" name=""/>
              <p:cNvSpPr/>
              <p:nvPr/>
            </p:nvSpPr>
            <p:spPr>
              <a:xfrm>
                <a:off x="198720" y="6296040"/>
                <a:ext cx="4907160" cy="0"/>
              </a:xfrm>
              <a:prstGeom prst="line">
                <a:avLst/>
              </a:prstGeom>
              <a:ln w="254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0040" y="6057720"/>
                <a:ext cx="4695480" cy="1800"/>
              </a:xfrm>
              <a:prstGeom prst="line">
                <a:avLst/>
              </a:prstGeom>
              <a:ln w="254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160" y="5813280"/>
                <a:ext cx="4482360" cy="0"/>
              </a:xfrm>
              <a:prstGeom prst="line">
                <a:avLst/>
              </a:prstGeom>
              <a:ln w="2541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878760" y="5568480"/>
                <a:ext cx="4226760" cy="1800"/>
              </a:xfrm>
              <a:prstGeom prst="line">
                <a:avLst/>
              </a:prstGeom>
              <a:ln w="2541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1076040" y="5320800"/>
                <a:ext cx="4028040" cy="3240"/>
              </a:xfrm>
              <a:prstGeom prst="line">
                <a:avLst/>
              </a:prstGeom>
              <a:ln w="254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1317960" y="5078520"/>
                <a:ext cx="3787920" cy="1440"/>
              </a:xfrm>
              <a:prstGeom prst="line">
                <a:avLst/>
              </a:prstGeom>
              <a:ln w="254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529280" y="4836960"/>
                <a:ext cx="3576240" cy="0"/>
              </a:xfrm>
              <a:prstGeom prst="line">
                <a:avLst/>
              </a:prstGeom>
              <a:ln w="254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1728360" y="4578120"/>
                <a:ext cx="3377160" cy="14040"/>
              </a:xfrm>
              <a:prstGeom prst="line">
                <a:avLst/>
              </a:prstGeom>
              <a:ln w="254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59840" y="4346640"/>
                <a:ext cx="3145680" cy="4680"/>
              </a:xfrm>
              <a:prstGeom prst="line">
                <a:avLst/>
              </a:prstGeom>
              <a:ln w="254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243520" y="4093920"/>
                <a:ext cx="2862000" cy="6120"/>
              </a:xfrm>
              <a:prstGeom prst="line">
                <a:avLst/>
              </a:prstGeom>
              <a:ln w="254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60600" y="3846600"/>
                <a:ext cx="2644920" cy="0"/>
              </a:xfrm>
              <a:prstGeom prst="line">
                <a:avLst/>
              </a:prstGeom>
              <a:ln w="254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656800" y="3603600"/>
                <a:ext cx="2448720" cy="0"/>
              </a:xfrm>
              <a:prstGeom prst="line">
                <a:avLst/>
              </a:prstGeom>
              <a:ln w="254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-407880" y="3413160"/>
              <a:ext cx="5667120" cy="34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ffff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ar  contagi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  Aislar  patóge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   Detener tratamien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  Decir no a la Van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  No tratar coloniz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   No tratar contamina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   Participación exper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  Uso datos loc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   Control antimicrobian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  Actuar directamente sobre el patóge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  Sacar catéte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  Vacun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46560" y="3635280"/>
              <a:ext cx="4001400" cy="26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ff"/>
                  </a:solidFill>
                  <a:latin typeface="Arial"/>
                </a:rPr>
                <a:t>Prevenir transmis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Arial"/>
                </a:rPr>
                <a:t>Uso racional antimicrobian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Diagnóstico y tratamiento efec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Arial"/>
                </a:rPr>
                <a:t>Prevenir infec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0" y="2286000"/>
            <a:ext cx="9144000" cy="736560"/>
            <a:chOff x="0" y="2286000"/>
            <a:chExt cx="9144000" cy="736560"/>
          </a:xfrm>
        </p:grpSpPr>
        <p:sp>
          <p:nvSpPr>
            <p:cNvPr id="278" name=""/>
            <p:cNvSpPr/>
            <p:nvPr/>
          </p:nvSpPr>
          <p:spPr>
            <a:xfrm>
              <a:off x="0" y="2516040"/>
              <a:ext cx="9144000" cy="274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33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72280" y="2468520"/>
              <a:ext cx="401652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cc"/>
                  </a:solidFill>
                  <a:latin typeface="Arial"/>
                </a:rPr>
                <a:t>12 Steps to Prevent Antimicrobial Resist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0" name="" descr=""/>
            <p:cNvPicPr/>
            <p:nvPr/>
          </p:nvPicPr>
          <p:blipFill>
            <a:blip r:embed="rId1"/>
            <a:stretch/>
          </p:blipFill>
          <p:spPr>
            <a:xfrm>
              <a:off x="84600" y="2286000"/>
              <a:ext cx="661680" cy="73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1" name=""/>
          <p:cNvSpPr/>
          <p:nvPr/>
        </p:nvSpPr>
        <p:spPr>
          <a:xfrm>
            <a:off x="1523880" y="1295280"/>
            <a:ext cx="72392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Centers for Disease Control and Pre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National Center for Infectious Dise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Division of Healthcare Quality Pro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Restric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Ley de venta restringida de antimicrobianos (receta médica), 199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1085760"/>
            <a:ext cx="9144000" cy="46864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160020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Uso antimicrobian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194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Patología infecciosa y no infeccio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PNC-sulf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Parece un milagro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Patología no infecciosa e infeccio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Cientos de molécul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No le pidamos milagro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Venta de antimicrobianos, por grupos, (USD). Chile, 1998 - 2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80880" y="1981080"/>
          <a:ext cx="8382240" cy="4159440"/>
        </p:xfrm>
        <a:graphic>
          <a:graphicData uri="http://schemas.openxmlformats.org/drawingml/2006/table">
            <a:tbl>
              <a:tblPr/>
              <a:tblGrid>
                <a:gridCol w="3353040"/>
                <a:gridCol w="1752480"/>
                <a:gridCol w="1676520"/>
                <a:gridCol w="1600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upo antibiót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nicilinas amplio espec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.747.2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.227.9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405.4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crólidos y simil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.763.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.448.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.553.6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nicilinas m-red espec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121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275.5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272.7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falospori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488.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193.8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944.8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uorquinol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075.8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115.2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392.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trimoxaz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316.2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767.6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071.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traciclinas y asoci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966.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665.9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569.5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oranfenic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9.4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1.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2.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45.848.1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38.915.9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32.141.8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457200" y="62485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Fuente:  IMS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60020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¿a quié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Al personal de salud: los prescriptor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A los periodis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A la población gener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A  los niñ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-147600"/>
            <a:ext cx="9144000" cy="71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Para termin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Antimicrobianos: Uno de los avances más importantes en la medicina siglo X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Magia...tratar de solucionar todo con ell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Equilibrio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Cuando están indicados: perfec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Cuando no están indicados: antimicrobianos pueden ser reemplazados por un poco de tiempo, una explicación, un consuelo, una observación estricta, un control médico, un par de exámenes de laboratori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676520"/>
            <a:ext cx="9144000" cy="3045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Antimicrobianos hoy.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¿estamos abusand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omic Sans MS"/>
              </a:rPr>
              <a:t>¿Estamos abusand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5793480" y="5943600"/>
            <a:ext cx="19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v Med Chile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80880" y="2057400"/>
          <a:ext cx="8305920" cy="39528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                    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a de antimicrobia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80880" y="2362320"/>
          <a:ext cx="8305920" cy="3316320"/>
        </p:xfrm>
        <a:graphic>
          <a:graphicData uri="http://schemas.openxmlformats.org/drawingml/2006/table">
            <a:tbl>
              <a:tblPr/>
              <a:tblGrid>
                <a:gridCol w="4419720"/>
                <a:gridCol w="1371600"/>
                <a:gridCol w="1219320"/>
                <a:gridCol w="12952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-97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Mercado farmacéutico total US$ (Mil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1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Antibióticos US$ (Mil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3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dades (Mil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12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Penicilinas amplio espectro o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1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Macról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1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Cefalosporinas o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1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Quinol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+2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19040" y="2209680"/>
          <a:ext cx="8305920" cy="39528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141720"/>
            <a:ext cx="8280360" cy="7189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4000" spc="-1" strike="noStrike">
                <a:solidFill>
                  <a:srgbClr val="000000"/>
                </a:solidFill>
                <a:latin typeface="Comic Sans MS"/>
              </a:rPr>
              <a:t>¿Cómo medir el consumo de antimicrobiano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Unidades de envase</a:t>
            </a: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(IMS Health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Dato cuantitativo...pero poco segu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DDD/1.000 habs-dí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onsumo de la dosis diaria definida específica de un antimicrobiano por cada 1.000 habs en un dí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DDD/1.000 habs-día = 3   “3 habs de cada 1.000 consumen cada día la DDD específica de un antimicrobiano, en la población en estudi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mic Sans MS"/>
              </a:rPr>
              <a:t>DDD/1000 habs/día, Chile,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Comic Sans MS"/>
              </a:rPr>
              <a:t>1996-199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ntimicrobiano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1996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moxicilina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4,612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5,57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MX-ác clavulánico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357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51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Eritromicina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560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63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laritromicina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216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41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zitromicina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203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37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efadroxilo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122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15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efuroxima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015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02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iprofloxacina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211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0,3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CL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s-CL" sz="1600" spc="-1" strike="noStrike">
                <a:solidFill>
                  <a:srgbClr val="000000"/>
                </a:solidFill>
                <a:latin typeface="Comic Sans MS"/>
              </a:rPr>
              <a:t>Rev Med Chile 200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Uso y abuso de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antimicrobian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238880" cy="4843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17524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A nivel ambulator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Do Resident Physicians Use Antibiotics Appropiately in Treating Upper Respiratory Infections?. A Survey of 11 Pro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Clin Infect Dis 2003;37:853-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3T12:44:34Z</dcterms:created>
  <dc:creator>mariela</dc:creator>
  <dc:description/>
  <dc:language>en-US</dc:language>
  <cp:lastModifiedBy>usuario</cp:lastModifiedBy>
  <dcterms:modified xsi:type="dcterms:W3CDTF">2006-04-29T22:45:00Z</dcterms:modified>
  <cp:revision>58</cp:revision>
  <dc:subject/>
  <dc:title>Sociedad Chilena Infectología- Prevención resistencia bacteriana</dc:title>
</cp:coreProperties>
</file>