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862-8C82-4230-A8DB-8FF1B770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4AA6-47AE-4F8F-97DA-77DE6C84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1181-D3D3-48CE-BAE0-26527D78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72DC-EDC2-462B-82DA-4AFE24B5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D38C-F724-4C71-900B-C11F8A2E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B9DB-7E74-4713-B624-1C427757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081F-DB3A-4505-AC78-F03BBDD5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CA4E-F0B9-4566-8DA3-42EB4D8D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C0FE-87C8-4C67-9D9C-70F95128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5E96-7708-4BDF-82B6-545F98DD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FE5D-17B8-483C-8E21-A30434A6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ED81-A3D8-4D04-B361-E616CDA4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30C0-DC9E-4604-B9C4-57D31C8D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7BD1-56D4-4A2D-A586-8CC82DBC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16B7-EA6A-4D67-9F27-03FD7A88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9BBC-8504-4A22-81CC-546CCB01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A16A-00D2-41F9-8349-39085AAA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C238-E9C6-4AE0-B428-C768AA16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A09-2D3C-4A1E-9B4F-C02E3784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2EA-EDA6-4A56-8406-7BC8D19E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88B-BA88-4668-BA71-5F495440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2EB6-5570-4113-924F-E7A4BF0A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269-3411-47AE-9C58-A3A87CB0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A24-AAA1-41A6-8F92-C8395770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29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B67E-6B2A-473E-983B-06FE18C0ABF4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3793-2AFF-437C-A63E-9799A3B22104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Comic Sans MS"/>
              </a:rPr>
              <a:t>Caso clín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Lactante 1 año, previamente s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Consulta por fiebre (39°C), decaimiento, dificultad respirato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Ex físico: Semiología condensación lóbulo inferior izquier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Rx tórax: Neumonía L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Tto: Claritromicina, 15 mg/Kg/día, c/12 h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Kinesiterapia respirato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Por qué es importante analizar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e tema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583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uctas dispares en la comunidad méd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ptos poco claros sobre significado fieb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zación de diagnósticos poco fundament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o indiscriminado antimicrobia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uen manejo de esta situación requie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Méd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ocimiento actualiz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nsamiento científ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Humil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Sistema de salu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s de atención adecu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sibilidad de controlar pac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lidad 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</a:rPr>
              <a:t>vs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ant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99"/>
                </a:solidFill>
                <a:latin typeface="Tahoma"/>
              </a:rPr>
              <a:t>Mensajes educativos a los pad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La fiebre es una respuesta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s un síntoma, no una enferme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nfréntela con cal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La fiebre persistirá hasta la resolución de la enferme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JR Avner y MD Baker. Emerg Med Clin North Am, 200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99"/>
                </a:solidFill>
                <a:latin typeface="Tahoma"/>
              </a:rPr>
              <a:t>Mensaje al personal de salu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ahoma"/>
              </a:rPr>
              <a:t>La fiebre es un fenómeno adaptativo que de paso advierte sobre la presencia de una noxa y, salvo excepciones, no debe considerarse el problema en s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o típ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adre consulta con su hijo de 8 meses porque presenta “fiebre”.  Al momento de la consulta se registra T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rectal de 40°C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87520" y="152280"/>
            <a:ext cx="4318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444600"/>
            <a:ext cx="868680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155520"/>
            <a:ext cx="9144000" cy="6515280"/>
            <a:chOff x="0" y="155520"/>
            <a:chExt cx="9144000" cy="65152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0" y="155520"/>
              <a:ext cx="9144000" cy="65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 txBox="1"/>
            <p:nvPr/>
          </p:nvSpPr>
          <p:spPr>
            <a:xfrm>
              <a:off x="0" y="155520"/>
              <a:ext cx="9144000" cy="651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iterios de grave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aimiento o irritabilidad mar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lide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hazo significativo de alimen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ómitos incoercibles, diarrea profu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icultad respirato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omiso hemodinám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nómenos hemorragípa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omiso de parénqui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Comic Sans MS"/>
              </a:rPr>
              <a:t>72 horas más tar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Paciente acude a terapia kinés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Ha recibido su tto según ind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Kinesiólogo “grav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Trasladado Urgencia Hospital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nfrentamiento pacien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Anamn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8 horas de fieb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limentación regu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Vomitos, diarrea (-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ificultad respirat (-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Único enfermo cas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pidemiología (-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Examen fís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Hemodinámicam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 es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ien perfund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rritable, ac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in signos loc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frentamiento diag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d debe saber si el niño está grave o no,... no se apresure en hacer un diagnós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d debe estar al d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be hacer primero un planteamiento sindromático: fundamentalmente clínic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ndariamente: Planteamiento etiológic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ínico + laborato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sibilidades diagnósticas en un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ctante febri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Causas más frecuentes: Representan cerca del 80% de los ca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3333cc"/>
                </a:solidFill>
                <a:latin typeface="Tahoma"/>
              </a:rPr>
              <a:t>Etiología viral</a:t>
            </a:r>
            <a:r>
              <a:rPr b="0" i="1" lang="es-MX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Respiratorias :Rhinovirus, VRS, parainfluenza, influenza, adenovirus, enteroviru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igestivas: Rotavirus, astroviru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Asociadas a exantemas: Varicela, enterovirus, herpes 6, parvoviru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sibilidades diagnósticas en un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ctante febri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Causas menos frecuentes: Representan  entre el 10 al 15% de los ca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Infecciones bacterianas “no invasoras”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Dg muy abus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aringoamigdalitis (</a:t>
            </a:r>
            <a:r>
              <a:rPr b="0" i="1" lang="es-MX" sz="2400" spc="-1" strike="noStrike">
                <a:solidFill>
                  <a:srgbClr val="000000"/>
                </a:solidFill>
                <a:latin typeface="Tahoma"/>
              </a:rPr>
              <a:t>S pyogenes)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Improbable &lt; 2 a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titis media aguda (</a:t>
            </a:r>
            <a:r>
              <a:rPr b="0" i="1" lang="es-MX" sz="2400" spc="-1" strike="noStrike">
                <a:solidFill>
                  <a:srgbClr val="000000"/>
                </a:solidFill>
                <a:latin typeface="Tahoma"/>
              </a:rPr>
              <a:t>S. pneumoniae, H influenzae)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Otoscopía es parte del examen físico lactante febr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inusitis (</a:t>
            </a:r>
            <a:r>
              <a:rPr b="0" i="1" lang="es-MX" sz="2400" spc="-1" strike="noStrike">
                <a:solidFill>
                  <a:srgbClr val="000000"/>
                </a:solidFill>
                <a:latin typeface="Tahoma"/>
              </a:rPr>
              <a:t>S. pneumoniae, H influenzae):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Dg difíc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nfección urinaria (</a:t>
            </a:r>
            <a:r>
              <a:rPr b="0" i="1" lang="es-MX" sz="2400" spc="-1" strike="noStrike">
                <a:solidFill>
                  <a:srgbClr val="000000"/>
                </a:solidFill>
                <a:latin typeface="Tahoma"/>
              </a:rPr>
              <a:t>E. coli):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g microbiológ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sibilidades diagnósticas en un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ctante febri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Causas poco frecuentes: &lt; 5% de los ca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Infecciones bacterianas invaso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Requiere dg rápido. Potencialmente mort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Neumonía (distinguir de “neumonitis”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eningit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ielonefrit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Osteomielitis, artrit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almonelos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sibilidades diagnósticas en un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ctante febri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Causas raras: &lt; 1%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Fiebre asociada a cuadros infecciosos poco frecuentes o afecciones no infeccios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tum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esenquimopatí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nfermedades autoinmu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¿Y 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hora 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q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ué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frontar las hipótesis más probables c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mnes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en fís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ecedentes epidemiológ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racional de exám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lanteamiento diagnós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ahoma"/>
              </a:rPr>
              <a:t>Signos y síntomas sugieren IB no invasora, sin signos de gravedad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(10-15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l diagnóstico presuntivo de amigdalitis estreptocócica debe ser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certificado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cada vez que sea posibl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Un diagnóstico clínico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fundamentado</a:t>
            </a: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e otitis media aguda amerita tratamient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l diagnóstico de sinusitis aguda debe basarse en criterios clínicos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estrictos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.  Rx tiene poco valor diagnóstic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La infección urinaria requiere del apoyo de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laboratorio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antes de pensar en trat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ratamiento antimicrobiano necesario...pero tranqui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85920" y="581040"/>
            <a:ext cx="6572160" cy="56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62000" y="0"/>
            <a:ext cx="522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ciente con fiebre, con o sin localización, con signos y síntomas de gravedad (5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tención inmedi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xploración de laborato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ratamiento agres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80880" y="-130320"/>
            <a:ext cx="9982080" cy="69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El paciente presenta fiebre sin otros hallazgos clínicos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esafío import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Hay que hacerse cargo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Riesgo “bacteremia ocult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7160" y="313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El manejo del niño febril requie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Valoración de grave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lanteamientos diagnós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Conductas basadas 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ocimientos actualizad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Buena anamnesis y examen clín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Uso juicioso de exáme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Un seguimiento adecu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Tahoma"/>
              </a:rPr>
              <a:t>Lecturas recomendada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Bonadio W. Pediatr Infect Dis J 1993</a:t>
            </a:r>
            <a:r>
              <a:rPr b="0" lang="es-MX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Kramer M, ED Shapiro. Pediatrics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Bonadio W. Pediatr Clin North Am, 1998</a:t>
            </a:r>
            <a:r>
              <a:rPr b="0" lang="es-MX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Alpern E. Pediatrics 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Avner J. Emerg Med Clin North Am  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Klein J. Pediatr Infect Dis J  200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Tahoma"/>
              </a:rPr>
              <a:t>Bacteriemia ocul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Defini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Hallazgo de hemocultivo 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(+)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 en pacien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in foco infeccioso aparente y q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“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e ve clinicamente bien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Tahoma"/>
              </a:rPr>
              <a:t>Trascendencia de la bacteriemia oculta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Evolución hacia su resolución espontánea (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.pneumoniae &gt; 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90%) 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hacia localización metastásic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(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H. influenzae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: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25-44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Trascendencia de la bacteriemia oculta </a:t>
            </a:r>
            <a:br>
              <a:rPr sz="2800"/>
            </a:b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por 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.pneumoniae</a:t>
            </a:r>
            <a:r>
              <a:rPr b="0" i="1" lang="es-MX" sz="3200" spc="-1" strike="noStrike">
                <a:solidFill>
                  <a:srgbClr val="0033cc"/>
                </a:solidFill>
                <a:latin typeface="Tahoma"/>
              </a:rPr>
              <a:t>. </a:t>
            </a:r>
            <a:br>
              <a:rPr sz="3200"/>
            </a:br>
            <a:r>
              <a:rPr b="0" i="1" lang="es-MX" sz="32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s-MX" sz="32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s-MX" sz="1800" spc="-1" strike="noStrike">
                <a:solidFill>
                  <a:srgbClr val="0033cc"/>
                </a:solidFill>
                <a:latin typeface="Tahoma"/>
              </a:rPr>
              <a:t>S. Bandyopadhyay et al. Arch Pediatr Adolesc Med 2002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2.641 lactantes febr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Hemocultivo a 1.202 paci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37 (3%) con bacteriemia ocul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33cc"/>
                </a:solidFill>
                <a:latin typeface="Tahoma"/>
              </a:rPr>
              <a:t>Streptococcus pneumoniae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: 31 (84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Curso desfavorable: 2 (0,08%), una MB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Conceptos en bacteriemia oculta: Manejo conservador pero activo.</a:t>
            </a:r>
            <a:br>
              <a:rPr sz="2800"/>
            </a:b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s-MX" sz="1800" spc="-1" strike="noStrike">
                <a:solidFill>
                  <a:srgbClr val="0033cc"/>
                </a:solidFill>
                <a:latin typeface="Tahoma"/>
              </a:rPr>
              <a:t>ER Alpern et al. Pediatrics 2000</a:t>
            </a: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5.901 lactantes en S. Urgenci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Tº rectal 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&gt;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 39º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Frecuencia bacteriemia: 1,9%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Hemocultivo (+): 14,9 hrs </a:t>
            </a:r>
            <a:r>
              <a:rPr b="0" lang="es-MX" sz="2800" spc="-1" strike="noStrike" u="sng">
                <a:solidFill>
                  <a:srgbClr val="0033cc"/>
                </a:solidFill>
                <a:uFillTx/>
                <a:latin typeface="Tahoma"/>
              </a:rPr>
              <a:t>+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 5,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Conceptos en bacteriemia oculta.</a:t>
            </a:r>
            <a:br>
              <a:rPr sz="2800"/>
            </a:b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s-MX" sz="1800" spc="-1" strike="noStrike">
                <a:solidFill>
                  <a:srgbClr val="0033cc"/>
                </a:solidFill>
                <a:latin typeface="Tahoma"/>
              </a:rPr>
              <a:t>ER Alpern et al. Pediatrics  2000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.pneumoniae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: 82,9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H.influenzae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 b: 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Resolución espontánea: 95,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Foco establecido al 2º control: 0,3%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Infección severa: 0,03%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MBA (1) y sepsis fulminante (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Utilidad de hemograma y PCR en el estudio del lactante febril (n: 77).</a:t>
            </a:r>
            <a:br>
              <a:rPr sz="2400"/>
            </a:b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i="1" lang="es-MX" sz="1800" spc="-1" strike="noStrike">
                <a:solidFill>
                  <a:srgbClr val="0033cc"/>
                </a:solidFill>
                <a:latin typeface="Tahoma"/>
              </a:rPr>
              <a:t>PN Pulliam et al. Pediatrics, 2001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82600" y="2017800"/>
          <a:ext cx="7772400" cy="312264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  <a:gridCol w="1295280"/>
                <a:gridCol w="1295280"/>
              </a:tblGrid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Valor de c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VP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VP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Leucocitos/mm</a:t>
                      </a:r>
                      <a:r>
                        <a:rPr b="0" lang="es-MX" sz="1800" spc="-1" strike="noStrike" baseline="30000">
                          <a:solidFill>
                            <a:srgbClr val="0033c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RAN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mm</a:t>
                      </a:r>
                      <a:r>
                        <a:rPr b="0" lang="es-MX" sz="1800" spc="-1" strike="noStrike" baseline="30000">
                          <a:solidFill>
                            <a:srgbClr val="0033c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0.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PCR mg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ra situación clínica habitu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Paciente de 8 meses, fiebre (38,3°C) de 12 horas de evolución, rechazo alimentación, gran irritabil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Antecedentes epidemiológicos: (-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Examen físico: Signos de gravedad: palidez, falta reactividad, leve inestabilidad hemodinám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No hay signos de focal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Dg y manej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aciente en riesgo de una infección bacteriana invasora o de una infección viral de curso sever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 justi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tención inmedi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ntensa investigación etiológica (hemograma, PCR, hemocultivos, Rx tórax, examen de orina y urocultivo, eventual punción lumbar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Hospitalización y comienzo precoz de antimicrobianos mientras se aclara el diagnós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El paciente presenta fiebre, buen estado general y sintomatología compatible con un cuadro viral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stos pacientes representarán 8/10 consultas por fiebre y </a:t>
            </a: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NO DEBEN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recibir antimicrobia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Tratamiento indicado: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Seguimiento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de su enferme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4000680" y="-2286000"/>
            <a:ext cx="1714536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Comic Sans MS"/>
              </a:rPr>
              <a:t>Caso clín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Hemocultivos: (+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¿qué imagin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f01"/>
                </a:solidFill>
                <a:latin typeface="Comic Sans MS"/>
              </a:rPr>
              <a:t>Streptococcus pneumonia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 ni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ño con fiebre</a:t>
            </a: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: Un desafío para el personal de salu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12:06:36Z</dcterms:created>
  <dc:creator>Miguel O'Ryan</dc:creator>
  <dc:description/>
  <dc:language>en-US</dc:language>
  <cp:lastModifiedBy>Maria Elena Santolaya de Pablo</cp:lastModifiedBy>
  <dcterms:modified xsi:type="dcterms:W3CDTF">2005-04-20T02:05:40Z</dcterms:modified>
  <cp:revision>24</cp:revision>
  <dc:subject/>
  <dc:title>El Lactante febril: Un Desafío Para el Pediatra y Médico General</dc:title>
</cp:coreProperties>
</file>