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201-FA4C-45DD-9E3B-8955F8E8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E9A-8EE2-46FC-A0D6-85EEEEFC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BDC9-D8AE-4E96-BF2E-2F570FED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070-5046-455C-A7F3-C08311D5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4B0-4504-4719-9089-79F4C8DE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6D5-DBDF-42FE-A780-FBF7AFA9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D81-30E0-4E87-95EC-D7208BFA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19C-FEA7-43AD-8410-605B1241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CFEC-BB04-4D27-B8EF-BEB0CD99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803-D792-4DEF-AA3D-48EFF725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B60-CC12-4BF9-9E1A-C8D2AB5C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D29D-3F4F-4FAC-9430-F2A29A63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08D2-6CAF-4A99-9D03-31C55D811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ea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14400" y="1496880"/>
            <a:ext cx="72388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doscop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endoscopia tiene utilidad para diagnosticar várices esofágicas y/o gástricas. Además es un medio por el cual se pueden tratar las várices esofág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 continuación se muestran endoscopias normales (ya conocidas) y cuatro de pacientes con Hipertensión 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10080" y="4191120"/>
            <a:ext cx="3505320" cy="2286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doscopia 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10080" y="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410080" y="2209680"/>
            <a:ext cx="350532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2133720"/>
            <a:ext cx="533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 observa introducción del endoscopio (a izquierda la laring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yecto y mucosa de aspecto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cosa de aspecto normal, es posible apreciar las características de gel y adherencia del muc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576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767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233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8101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94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doscopia 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84872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08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0" y="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ces Esofá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4800600" cy="3130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191120" y="2948040"/>
            <a:ext cx="49528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276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2767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673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533520"/>
            <a:ext cx="3200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árices Gas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051000"/>
            <a:ext cx="4800600" cy="3273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51814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206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2067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633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2666880" y="26812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60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3" dur="1" fill="hold"/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eatosis y fib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1251000"/>
            <a:ext cx="761976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ib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437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ódulos rodeados de tejido fibro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106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143000" y="1214280"/>
          <a:ext cx="6781680" cy="48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4280"/>
                    <a:ext cx="678168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suficiencia Hepática: Síndromes asoci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cté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está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demat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morragíp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T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cefalopatía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c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pato 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pato pulmo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. Horm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ipertensión por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3760" y="52560"/>
            <a:ext cx="9120240" cy="6400800"/>
            <a:chOff x="23760" y="52560"/>
            <a:chExt cx="9120240" cy="640080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429080" y="52560"/>
              <a:ext cx="4714920" cy="64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3760" y="52560"/>
              <a:ext cx="4395960" cy="640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90476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Características clínicas del paciente con daño hepático inducido po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0"/>
            <a:ext cx="9268920" cy="6400800"/>
            <a:chOff x="0" y="0"/>
            <a:chExt cx="9268920" cy="64008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595400" cy="64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571640" y="0"/>
              <a:ext cx="4697280" cy="640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320" y="216000"/>
            <a:ext cx="899136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51:20Z</dcterms:created>
  <dc:creator>Usuario</dc:creator>
  <dc:description/>
  <dc:language>en-US</dc:language>
  <cp:lastModifiedBy>Usuario</cp:lastModifiedBy>
  <dcterms:modified xsi:type="dcterms:W3CDTF">2007-10-19T21:51:43Z</dcterms:modified>
  <cp:revision>1</cp:revision>
  <dc:subject/>
  <dc:title>Esteatosis</dc:title>
</cp:coreProperties>
</file>