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93C-6662-4137-B4C1-AB224F51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D38-CA7A-4EFE-9EBA-3FAB0A62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448-E13F-4FFC-8FC6-6A84EB94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083-71B9-4748-8A41-F1189B69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5F8E-77E3-4CEF-9EA3-553A7AD8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F887-1214-46B5-BED1-2A7321BD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1061-11CC-4AF7-9608-E6DE304E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1866-CA0C-4E92-8D95-F96CD066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0B55-B223-4F63-A9D0-CE4EE921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607F-79B8-465D-8A85-7EC197FB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CC4B-AA2F-46EE-B7C9-7820AD32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526-7293-4FF5-99F8-64A0DED9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F414-505C-481B-94BC-702B875F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143D-2887-4F6B-A95E-0896FAEC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8AFD-7809-4083-B982-19566732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3B31-8655-4CC7-B3A5-4C745EB0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2271-4ACA-40B6-B2FC-30F72DE3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158-211C-4908-ACE3-3AD64CE9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C9D-241D-4A10-84AD-38997B1C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E82-8429-4F4E-B149-82E8559A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862-F164-4135-820E-C4F228ED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CD3-1585-475E-B12A-68BCE07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2E3-851E-4922-BCDB-23E02D1F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6D5-708A-4609-8494-2D75888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6F4D-B790-480F-ACCD-2BD29E95931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8B44-E349-47B1-B14F-62CD3B4DCAF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arrollo Ocupac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535280" cy="4135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3429000"/>
            <a:ext cx="7920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Clase Inaugural</a:t>
            </a:r>
            <a:r>
              <a:rPr b="0" lang="es-ES_tradnl" sz="2400" spc="-1" strike="noStrike">
                <a:solidFill>
                  <a:srgbClr val="33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Curso 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Modelos de Intervención de Terapia Ocupacional en la Salud de Niños y Adolescentes 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Tahoma"/>
              </a:rPr>
              <a:t>T.O. Paula Soto R.  ETOUCh  Marzo 2008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Factores del Individu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s Corpo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unciones Corpo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piri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Trabajo Grup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alizar en pequeños grupos de 5 compañeros,  la necesidad de intervención de Terapia Ocupacional para el caso asignado, a partir de los componentes descritos en el Marco de Trabajo de la AO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Ocup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336666"/>
                </a:solidFill>
                <a:uFillTx/>
                <a:latin typeface="Arial"/>
              </a:rPr>
              <a:t>Actividades cotidiana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en que el individuo se </a:t>
            </a:r>
            <a:r>
              <a:rPr b="1" lang="es-ES_tradnl" sz="3000" spc="-1" strike="noStrike" u="sng">
                <a:solidFill>
                  <a:srgbClr val="336666"/>
                </a:solidFill>
                <a:uFillTx/>
                <a:latin typeface="Arial"/>
              </a:rPr>
              <a:t>involuc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y que representan un </a:t>
            </a:r>
            <a:r>
              <a:rPr b="1" lang="es-ES_tradnl" sz="3000" spc="-1" strike="noStrike" u="sng">
                <a:solidFill>
                  <a:srgbClr val="336666"/>
                </a:solidFill>
                <a:uFillTx/>
                <a:latin typeface="Arial"/>
              </a:rPr>
              <a:t>sentid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para sí mismo,  y un </a:t>
            </a:r>
            <a:r>
              <a:rPr b="1" lang="es-ES_tradnl" sz="3000" spc="-1" strike="noStrike" u="sng">
                <a:solidFill>
                  <a:srgbClr val="336666"/>
                </a:solidFill>
                <a:uFillTx/>
                <a:latin typeface="Arial"/>
              </a:rPr>
              <a:t>significad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para la </a:t>
            </a:r>
            <a:r>
              <a:rPr b="1" lang="es-ES_tradnl" sz="3000" spc="-1" strike="noStrike" u="sng">
                <a:solidFill>
                  <a:srgbClr val="336666"/>
                </a:solidFill>
                <a:uFillTx/>
                <a:latin typeface="Arial"/>
              </a:rPr>
              <a:t>cultura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 que está inmer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co de Trabajo , AOTA 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volucrarse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é sentido tiene para un niño o adolescente involucrarse en actividade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é sentido tiene para sus padr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ómo se manifiest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acta esto en su desarrollo? Porqué y c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onfiguración del foco de la T.O. en los primeros estadios del desarrol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09520" y="2058120"/>
            <a:ext cx="6924600" cy="4602600"/>
            <a:chOff x="1109520" y="2058120"/>
            <a:chExt cx="6924600" cy="4602600"/>
          </a:xfrm>
        </p:grpSpPr>
        <p:sp>
          <p:nvSpPr>
            <p:cNvPr id="98" name="_s41991"/>
            <p:cNvSpPr/>
            <p:nvPr/>
          </p:nvSpPr>
          <p:spPr>
            <a:xfrm>
              <a:off x="3635280" y="2712960"/>
              <a:ext cx="1873080" cy="1871280"/>
            </a:xfrm>
            <a:prstGeom prst="ellipse">
              <a:avLst/>
            </a:prstGeom>
            <a:solidFill>
              <a:srgbClr val="cccccc">
                <a:alpha val="50000"/>
              </a:srgbClr>
            </a:solidFill>
            <a:ln w="468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99" name="_s41992"/>
            <p:cNvSpPr/>
            <p:nvPr/>
          </p:nvSpPr>
          <p:spPr>
            <a:xfrm>
              <a:off x="3635280" y="2058120"/>
              <a:ext cx="187308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Contexto</a:t>
              </a:r>
              <a:endParaRPr b="0" lang="en-US" sz="1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0" name="_s41997"/>
            <p:cNvSpPr/>
            <p:nvPr/>
          </p:nvSpPr>
          <p:spPr>
            <a:xfrm>
              <a:off x="4251240" y="3068640"/>
              <a:ext cx="1872720" cy="1871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1" name="_s41998"/>
            <p:cNvSpPr/>
            <p:nvPr/>
          </p:nvSpPr>
          <p:spPr>
            <a:xfrm>
              <a:off x="6159240" y="2973960"/>
              <a:ext cx="187272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Patrones de Desempeño</a:t>
              </a:r>
              <a:endParaRPr b="0" lang="en-US" sz="1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2" name="_s41999"/>
            <p:cNvSpPr/>
            <p:nvPr/>
          </p:nvSpPr>
          <p:spPr>
            <a:xfrm>
              <a:off x="4251240" y="3778920"/>
              <a:ext cx="1872720" cy="1871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3" name="_s42000"/>
            <p:cNvSpPr/>
            <p:nvPr/>
          </p:nvSpPr>
          <p:spPr>
            <a:xfrm>
              <a:off x="6161040" y="5274000"/>
              <a:ext cx="18730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Habilidades para el desempeño</a:t>
              </a:r>
              <a:endParaRPr b="0" lang="en-US" sz="1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4" name="_s42001"/>
            <p:cNvSpPr/>
            <p:nvPr/>
          </p:nvSpPr>
          <p:spPr>
            <a:xfrm>
              <a:off x="3637440" y="4134600"/>
              <a:ext cx="1872720" cy="187128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4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5" name="_s42002"/>
            <p:cNvSpPr/>
            <p:nvPr/>
          </p:nvSpPr>
          <p:spPr>
            <a:xfrm>
              <a:off x="3637440" y="6193440"/>
              <a:ext cx="187272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Áreas de Desempeño</a:t>
              </a:r>
              <a:endParaRPr b="0" lang="en-US" sz="1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6" name="_s41993"/>
            <p:cNvSpPr/>
            <p:nvPr/>
          </p:nvSpPr>
          <p:spPr>
            <a:xfrm>
              <a:off x="3021120" y="3781080"/>
              <a:ext cx="1872720" cy="1871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7" name="_s41994"/>
            <p:cNvSpPr/>
            <p:nvPr/>
          </p:nvSpPr>
          <p:spPr>
            <a:xfrm>
              <a:off x="1111680" y="5277600"/>
              <a:ext cx="18727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Factores del Individuo</a:t>
              </a:r>
              <a:endParaRPr b="0" lang="en-US" sz="1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8" name="_s41995"/>
            <p:cNvSpPr/>
            <p:nvPr/>
          </p:nvSpPr>
          <p:spPr>
            <a:xfrm>
              <a:off x="3019320" y="3070080"/>
              <a:ext cx="1872720" cy="1871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9" name="_s41996"/>
            <p:cNvSpPr/>
            <p:nvPr/>
          </p:nvSpPr>
          <p:spPr>
            <a:xfrm>
              <a:off x="1109520" y="2975760"/>
              <a:ext cx="1873080" cy="4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Demandas de la Actividad</a:t>
              </a:r>
              <a:endParaRPr b="0" lang="en-US" sz="1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Estadios del desarroll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ctante (0 a 12 me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* Etapa Intermedia  (12 a 24 me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-escolar / 1ª infancia  (2 a 5-6 añ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colar / 2ª infancia (6 a 11-12 añ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úber (11 a 14 añ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dolescente (14 a 18 añ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Áreas de Desempeñ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VD Bás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VD Instrument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Jue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empo Li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Habilidades para el Desempeñ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oto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 Procesa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 Comunicación e Intera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Patrones de Desempeñ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ábi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ut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Arial"/>
              </a:rPr>
              <a:t>Demandas de la Activid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os y sus propie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pa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manda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cuencias y Tie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iones requeri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s y Funciones Corpor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20:41:37Z</dcterms:created>
  <dc:creator>Terapia</dc:creator>
  <dc:description/>
  <dc:language>en-US</dc:language>
  <cp:lastModifiedBy>Paula Soto Reyes</cp:lastModifiedBy>
  <dcterms:modified xsi:type="dcterms:W3CDTF">2008-03-13T00:21:45Z</dcterms:modified>
  <cp:revision>22</cp:revision>
  <dc:subject/>
  <dc:title>Desarrollo Ocupacional en el  pre - adolescente</dc:title>
</cp:coreProperties>
</file>