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B0F-A3E5-453F-AF50-64EFEFC9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9AD-5B99-40A5-BDC8-58A0EF9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99B-3602-46D7-A65D-FF4D27D5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444-9520-401D-A208-3F8B827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1E8-6BB7-4BDA-BA96-4492DFF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3CE-CC3A-49EF-9273-05A5661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AFE-C599-4DAC-9CD1-84BE2D26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A5D-8C59-48A4-85C5-AAB136B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441-A59E-4B67-8A10-6690F0D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54C-F385-4F37-9B03-C9A1BF7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A48-7C04-4FB8-80E7-C4DBB8D4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3A5-1977-423B-8D0F-C00C74C4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242-0BE3-4CC2-9C0B-63EC719AA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6668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” -  DISEÑO OCUPACIONAL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SDE EL MARCO DE REFERENCI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ADAPTACIÓN OCUPACIONAL</a:t>
            </a:r>
            <a:br>
              <a:rPr sz="1800"/>
            </a:b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JANETTE SCHKADE SALLY SCHULTZ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334120"/>
            <a:ext cx="40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aura Rueda  -  Paula S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9144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AVD en Personas con Discapacidad Psíqu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Propósito global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crementar el funcionamiento psicosocial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mentar el desenvolvimiento autónomo en la comun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Razonamiento Clí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ceso de reflexión sobre las necesidades únicas de las personas, los recursos disponibles y de los procesos apropiados de interven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plicación del sentido comú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Fundamentación del trabajo de AVD en Psiquiatría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enfermedad mental en un alto porcentaje de los casos,cursa con un deterioro en los aspectos básicos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utocuidado y autonomía fun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rganización del ritmo de v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ocimiento del entorn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anejo de los recursos sociales que les rod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ún, contando con  habilidades físicas para su desarrollo y habitualmente necesidades conscientes de la importancia de estas actividad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Proceso de Valor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ntecedentes Gener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la persona y su context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específica de AVD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focadas en el contexto de desempeñ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 de Contexto de Desemp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nálisis de rutinas habitu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os sociales, costumbres y rit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texto de Desempeñ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Aspectos Tempora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” Cuales AVD se deben desarroll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 Edad cronológica, Edad de desarrollo, etapa ciclo vital, situación psicoafec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intervención, significar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cer ver la necesidad de autocuid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ablecer un ritmo de vida salud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grar la mayor participación en tareas domé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anzar un nivel cultural mínimo que facilite su autonom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umentar el interés por su entorno socio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Contexto de Desempeñ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Aspectos Medioambientale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intervención, significará un análisis de 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ísicos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pectos tangibles, materiales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ociales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sos sociales, códigos morales, lengua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ulturales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valores, costumbres y r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nálisis y Planificació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objetivos med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egociar” con los intereses, valores, roles, y moti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lecer los medios y herramie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ipo de Intervención: Grupal o Individ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ugar: Situación real u ot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Interven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encuentran adscriptas en el Modelo Teórico de Intervención que maneje el equipo de aten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objetivos se explicitarán en términos del mismo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isten modelos que utilizan indicadores preferentemente cuantific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isten modelos que utilizan indicadores preferentemente cuantific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Interven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.- Contexto de Desempeñ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odificación de la Actividad, Ayudas Técnicas y Adaptación del 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II.- Entrenamiento de AVD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Ejercicio de la actividad con una metodología específica , hasta el logro dese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Modificación de la Activi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4380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decuar Tareas a condiciones particula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cuencias, considerando grados de adap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spectos Culturales, uso y manejo de situación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685800"/>
            <a:ext cx="77724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finiciones disciplina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DAPTACIÓN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El desarrollo de un rol ocupacional le permite a la persona responder satisfactoriamente desde sí mismo,a las demandas del med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PUESTA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Durante el desarrollo de una ocupación se establece una interacción específica entre la persona y el ambiente ocupac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BIENTE OCUP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Contexto comunicacional donde se desarrolla la ocupación: ambiente físico,relaciones sociales,vinculación interpersonal, subjetividad, intersubjetividad, determinantes culturales y todo lo que se da en la condición hum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yudas Técnicas y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 instrumento que facilita la independencia de las personas y el desarrollo personal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mbiente facilita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sicofárma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Yo auxili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yudas Técnicas y..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poyo para la comunicación, información y señ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poyo económico para mejorar del entorn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Arial"/>
              </a:rPr>
              <a:t>Acceso actividades de tiempo lib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Entrenamiento de AV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a mediación entre el sujeto y el Contexto de desempe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ol del T.O. Mantener Estado de flujo: Aprendizaje significativo, procur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Desarrollar un comportamiento nuevo o que s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 dejado de hac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ortalecer un comportami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Mantener un compor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Suprimir un comportamient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Finalmente..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aluación: Antes y despu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dentificar logros , dificultades y nuevos desafí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istro de evolución: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con información cuantificable y cualific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8120" y="7542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GURACIÓN DE LAS A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947960"/>
            <a:ext cx="2163960" cy="981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70360" y="1890720"/>
            <a:ext cx="2163960" cy="9795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3440" y="1371600"/>
            <a:ext cx="2392560" cy="403200"/>
          </a:xfrm>
          <a:custGeom>
            <a:avLst/>
            <a:gdLst>
              <a:gd name="textAreaLeft" fmla="*/ 418680 w 2392560"/>
              <a:gd name="textAreaRight" fmla="*/ 1734840 w 2392560"/>
              <a:gd name="textAreaTop" fmla="*/ 54000 h 403200"/>
              <a:gd name="textAreaBottom" fmla="*/ 3492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617600">
            <a:off x="3118680" y="3101760"/>
            <a:ext cx="2390760" cy="403200"/>
          </a:xfrm>
          <a:custGeom>
            <a:avLst/>
            <a:gdLst>
              <a:gd name="textAreaLeft" fmla="*/ 418320 w 2390760"/>
              <a:gd name="textAreaRight" fmla="*/ 1733400 w 2390760"/>
              <a:gd name="textAreaTop" fmla="*/ 54000 h 403200"/>
              <a:gd name="textAreaBottom" fmla="*/ 3492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8862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structura psíquica alt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8862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menaza cons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41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iveles de conciencia no desarrol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8769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sgano, apat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3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quietud psicomo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267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tri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648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chazo social, inde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029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cursos limitados/esc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523880"/>
            <a:ext cx="7620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RE” - DISEÑO OCUPAC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 POR EL CUAL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RE” - CONSTRUYE LA RESPUESTA OCUPACIONAL AJUSTADA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MBIENTE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703400" y="3421080"/>
            <a:ext cx="38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AFÍO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2600" y="2201760"/>
            <a:ext cx="68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SON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BIENTE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800" y="3421080"/>
            <a:ext cx="35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PECTATIVAS DE 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562720"/>
            <a:ext cx="7549920" cy="67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ADO DE DOMINIO RELATIV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CIÓN DE HABITOS, PATRONES CONDU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58320" y="601560"/>
            <a:ext cx="73159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TERVENCIÓN DEL TERAPEUT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2133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057400"/>
            <a:ext cx="45720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12408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971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81280" y="4792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CTIVIDAD CON 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366800">
            <a:off x="3505320" y="419076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1371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637000">
            <a:off x="5638320" y="4266720"/>
            <a:ext cx="152640" cy="609840"/>
          </a:xfrm>
          <a:prstGeom prst="downArrow">
            <a:avLst>
              <a:gd name="adj1" fmla="val 50000"/>
              <a:gd name="adj2" fmla="val 998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637000">
            <a:off x="342864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2362320"/>
            <a:ext cx="533160" cy="228600"/>
          </a:xfrm>
          <a:prstGeom prst="leftRightArrow">
            <a:avLst>
              <a:gd name="adj1" fmla="val 50000"/>
              <a:gd name="adj2" fmla="val 464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33680" y="7542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UESTA 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720" y="167652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PCIÓN DE EXPECTATIVAS DE ROL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9880" y="3200400"/>
            <a:ext cx="68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 INTERNO DE GENERACIÓN DE RESPUE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APT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556272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UEST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213372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0384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05320" y="4191120"/>
            <a:ext cx="2361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838080"/>
            <a:ext cx="1524240" cy="52578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1011600 h 5257800"/>
              <a:gd name="textAreaBottom" fmla="*/ 335376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3" stAng="-5400000" swAng="-5400000"/>
                <a:lnTo>
                  <a:pt x="0" y="9621"/>
                </a:lnTo>
                <a:arcTo wR="21600" hR="8313" stAng="10800000" swAng="-2845668"/>
                <a:lnTo>
                  <a:pt x="14400" y="21125"/>
                </a:lnTo>
                <a:lnTo>
                  <a:pt x="21600" y="17280"/>
                </a:lnTo>
                <a:lnTo>
                  <a:pt x="14400" y="12485"/>
                </a:lnTo>
                <a:lnTo>
                  <a:pt x="14400" y="16151"/>
                </a:lnTo>
                <a:arcTo wR="21600" hR="8313" stAng="7954332" swAng="2741289"/>
                <a:lnTo>
                  <a:pt x="67" y="8967"/>
                </a:lnTo>
                <a:arcTo wR="21600" hR="8313" stAng="-10695621" swAng="5295621"/>
                <a:close/>
              </a:path>
              <a:path fill="darkenLess" w="21600" h="21600">
                <a:moveTo>
                  <a:pt x="21600" y="0"/>
                </a:moveTo>
                <a:arcTo wR="21600" hR="8313" stAng="-5400000" swAng="-5400000"/>
                <a:lnTo>
                  <a:pt x="0" y="8313"/>
                </a:lnTo>
                <a:arcTo wR="21600" hR="8313" stAng="10800000" swAng="-104379"/>
                <a:lnTo>
                  <a:pt x="67" y="8967"/>
                </a:lnTo>
                <a:arcTo wR="21600" hR="8313" stAng="-10695621" swAng="5295621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34920" y="64296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.O. EN EL REDISEÑO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160" y="1973160"/>
            <a:ext cx="366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MA TERAPÉU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enera demandas contro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 estimula deseos de 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1600" y="1668600"/>
            <a:ext cx="4101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BIENTE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dentifica y ori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perimentación y s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2767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7360" y="323388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SOS GENE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120" y="3919680"/>
            <a:ext cx="82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y DESARROLLO  de la INTER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 EVALUACIÓN y AJUSTE de INTERV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5120" y="6858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RRAMIE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057400"/>
            <a:ext cx="7178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CIÓN T.O. -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ÉCNICAS COMPENS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APT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LAS TAREAS, DEPENDENCIA SANA, AYUDAS TÉCNICAS, ADAPTACIÓN DEL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SICO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BAJO EN REDES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STITUCIONALES Y/O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BILIDAD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AVD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Razonamiento Clínico e intervención en personas con conflictos ment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1:44:58Z</dcterms:created>
  <dc:creator>Laura Rueda C.</dc:creator>
  <dc:description/>
  <dc:language>en-US</dc:language>
  <cp:lastModifiedBy>Fac. de Medicina</cp:lastModifiedBy>
  <cp:lastPrinted>2002-09-03T18:33:15Z</cp:lastPrinted>
  <dcterms:modified xsi:type="dcterms:W3CDTF">2008-07-01T12:51:09Z</dcterms:modified>
  <cp:revision>57</cp:revision>
  <dc:subject>MITO MENTALES</dc:subject>
  <dc:title>AVD en Discapacidad Psíquica</dc:title>
</cp:coreProperties>
</file>