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0.wmf" ContentType="image/x-wmf"/>
  <Override PartName="/ppt/media/image25.jpeg" ContentType="image/jpeg"/>
  <Override PartName="/ppt/media/image5.png" ContentType="image/png"/>
  <Override PartName="/ppt/media/image13.wmf" ContentType="image/x-wmf"/>
  <Override PartName="/ppt/media/image30.wmf" ContentType="image/x-wmf"/>
  <Override PartName="/ppt/media/image31.wmf" ContentType="image/x-wmf"/>
  <Override PartName="/ppt/media/image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14.wmf" ContentType="image/x-wmf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Evelyn Alvarez Espinoza" initials="EAE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7-26T01:41:25.290000000" idx="1">
    <p:pos x="5602" y="1434"/>
    <p:text>Control de aspectos de seguridad.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8DD-F749-42FB-9F66-2E31A3BC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0D1-1A80-423C-A2C7-493A479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278-133C-457B-91DF-23BC9261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4A1-19A3-4E4D-8113-AD0B6BDB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5BD3-CF9B-41FE-9E5C-ECEE793E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DE58-681C-48E8-BA2C-FC5E101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10E7-0DC4-41E4-B096-B1F61553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2BD6-6451-4FCA-8C5F-C48D0E7A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68A6-3553-4B39-89EA-FA3E0A4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AEAF-5666-4F5D-A924-0C41C7D0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6DC-4488-4322-81DC-DE4B9CCE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805-A390-45C0-B3DD-8A578223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ED93-EDE7-4494-AD5B-DCD27B15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91F-25FF-482D-90AA-F63D6339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D05-B34E-4BEF-8591-8ED0F62C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D4FC-E380-48B5-8576-205866D0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80C-2FF6-4DDC-A8C0-238ADE68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353-7BB3-4D4D-B524-7D8208E5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B03-7B52-4723-8049-98883368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37C-17C6-453F-8DAA-21DF8077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FD83-E232-47CE-B182-FA7D53E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86F-1EF8-410B-9631-D107439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BA4-2790-4040-B7D0-DD1F98B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BD68-1CF3-4F8C-A31D-2CC768A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538B-A172-4A49-BDA7-E53D8F0191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9CD-0A6B-4C4D-8965-29FEEB6B6C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0000"/>
                </a:solidFill>
                <a:latin typeface="Arial"/>
              </a:rPr>
              <a:t>TRANSFERENCIAS.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fer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inal Cord Injury Patient-Family Teaching Manual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atamiento motor de la paralisis cerebral y del retraso motor 2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troke Rehabilitation A function- Based Approach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19280" y="620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 tabla de trans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523880"/>
          <a:ext cx="914400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33336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Arial"/>
              </a:rPr>
              <a:t>Transferencia realizadas por el usuario de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628640"/>
            <a:ext cx="84582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ma a una silla de ruedas sin apoyabrazo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ma a una silla de ruedas con apoyabraz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lla de ruedas hacia una cama ( técnica para ni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lla de ruedas al suelo y viceversa (con o sin ban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nsferencia con y sin uso de tabla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77880" y="841320"/>
          <a:ext cx="8435880" cy="957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841320"/>
                    <a:ext cx="8435880" cy="957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11280" y="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 rot="5400000">
            <a:off x="-1606680" y="3309840"/>
            <a:ext cx="3952800" cy="23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800080">
                    <a:alpha val="57000"/>
                  </a:srgbClr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Kartika"/>
              </a:rPr>
              <a:t>Cama a una silla de ruedas sin apoyabrazos  </a:t>
            </a:r>
            <a:endParaRPr b="0" i="1" lang="en-US" sz="1800" spc="1" strike="noStrike">
              <a:ln w="0">
                <a:noFill/>
              </a:ln>
              <a:solidFill>
                <a:srgbClr val="800080">
                  <a:alpha val="57000"/>
                </a:srgbClr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539640" y="2068560"/>
          <a:ext cx="860436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068560"/>
                    <a:ext cx="86043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42920" y="260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 rot="5400000">
            <a:off x="-2967840" y="3336120"/>
            <a:ext cx="6453360" cy="59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669999"/>
                    </a:gs>
                    <a:gs pos="50000">
                      <a:srgbClr val="330066">
                        <a:alpha val="10196"/>
                      </a:srgbClr>
                    </a:gs>
                    <a:gs pos="100000">
                      <a:srgbClr val="669999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Sylfaen"/>
              </a:rPr>
              <a:t>Cama a una silla de ruedas con apoyabrazos.</a:t>
            </a:r>
            <a:endParaRPr b="0" i="1" lang="en-US" sz="18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669999"/>
                  </a:gs>
                  <a:gs pos="50000">
                    <a:srgbClr val="330066">
                      <a:alpha val="10196"/>
                    </a:srgbClr>
                  </a:gs>
                  <a:gs pos="100000">
                    <a:srgbClr val="669999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16000" y="620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1981080"/>
          <a:ext cx="91440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971640" y="260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971640" y="476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335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mbios de posi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posicionar en la sil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ntado – acostado (vicever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95720" y="361080"/>
            <a:ext cx="6435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Reposicionar en la silla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4681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 Frenar la silla de rue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 El asistente está parado delante / detrás de la silla de rue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 Los pies del usuario deben tocar el pi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 Las rodillas del asistente deben rodean las rodillas del usuario a horcajadas (no en los musl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. El usuario pone los brazos doblados en el tro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 Asistente m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debajo de tus nalgas (del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sobre antebrazos (detr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781680" y="3357720"/>
            <a:ext cx="2362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059520" cy="5035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8320" y="1719360"/>
            <a:ext cx="40384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19840" y="185400"/>
            <a:ext cx="7417800" cy="11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siderar las siguientes preguntas antes de comenzar la transferenci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precauciones médicas afectan la movilidad o métodos de transferenc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 ser la transferencia realizada correctamente por una persona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la duda solicitar as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go tiempo suficiente para hacer una transferencia segura? O estoy apurado (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liente entiende que se va a hacer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operación del sujeto a ser transfer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Sentado – acostado (viceversa)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étodo 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rodea la cintura escapular  y apoya brazo afec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Método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toma la cintura escapular con un brazo y el otro brazo debajo de ambas rod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levar los miembros inferiores al pecho, pivotes  sobre glúteos y  bajar suave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651640" y="1844640"/>
            <a:ext cx="2847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raslado con 2 personas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019160" y="1719360"/>
            <a:ext cx="2914560" cy="213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210280" y="1719360"/>
            <a:ext cx="2914560" cy="2130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017720" y="3998880"/>
            <a:ext cx="2916000" cy="2131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284720" y="4005360"/>
            <a:ext cx="164124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443640" y="3770280"/>
            <a:ext cx="2314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pinal Cord Injury Patient-Family Teaching Manual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tamiento motor de la paralisis cerebral y del retraso motor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troke Rehabilitation A function- Based Approach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116000" y="620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NSFERENCIAS POR USUARIO EN SILLA DE RUE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3106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INA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36831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r el apoya-pie y apoya-brazo más cercano a la 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ner los fre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car la silla de ruedas en el tercero posterior de la t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arse al borde de la silla de ruedas, apoyando los pies en el p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debe estar parado adelante del usuario y estabilizar las rodil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 algn="just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sistente asiste a nivel de la cadera. Con una toalla o un debajo de las glúteos o un cinturón de segurida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2994120" cy="21286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516720" y="1149480"/>
            <a:ext cx="2627280" cy="2033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140360" y="2565360"/>
            <a:ext cx="28429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6012000" y="4502160"/>
            <a:ext cx="3132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16000" y="692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SEGURAS</a:t>
            </a:r>
            <a:r>
              <a:rPr b="1" lang="es-ES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134136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sid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 todo el equipamiento preparado? Necesito una tabla de transfer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y objetos o elementos innecesarios fuera del área de trabaj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lturas de las superficies de transferencias son similares?  Se pueden ajustar?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arar niveles de superf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cesito un cinturón de seguridad para la asist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65760" y="375120"/>
            <a:ext cx="81342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0066"/>
                </a:solidFill>
                <a:latin typeface="Arial"/>
              </a:rPr>
              <a:t>Consideraciones de propiedades mecánicas del asistente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1979640"/>
            <a:ext cx="83628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ner al cliente o usuario cerca de u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cionar el cuerpo frente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blar las rodillas, usar las piernas no la espal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la espalda der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una amplia base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mbinar movimientos, evitar rotación al mismo tiempo de flectar o ext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tener talones apoy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92120" y="583920"/>
            <a:ext cx="40449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de transferenci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63640" y="3789360"/>
            <a:ext cx="3005280" cy="2604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370320" cy="2957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1657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óx. 23 x 65 c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4402080" cy="2359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76720" y="47592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corpor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98560" y="981000"/>
            <a:ext cx="3097080" cy="2230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1280" y="475920"/>
            <a:ext cx="22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ntur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736720" cy="1560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47600" y="3715920"/>
            <a:ext cx="260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716360" y="981000"/>
            <a:ext cx="3552840" cy="3841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9760" y="259920"/>
            <a:ext cx="41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evador Multi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23240" y="6086520"/>
            <a:ext cx="319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lifante.cl/index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476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SEGUR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981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Precau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773360"/>
            <a:ext cx="830556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strucciones entend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eparación del lugar y ele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enos de la silla de rue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sición de las ruedas delante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enir atrapamiento de ropa o roce de la piel que pueda causar d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olsa recolectora de or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189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Transferencias con ayuda de un asis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6560" y="1614600"/>
            <a:ext cx="8498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ipo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n pi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n tabla de trans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es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lla de ruedas a la cama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lla de ruedas a tina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lla de ruedas a toilette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Franklin Gothic Medium"/>
              <a:buChar char="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lla de ruedas al auto (vicever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1419120"/>
            <a:ext cx="2374920" cy="2073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25840" y="1231920"/>
            <a:ext cx="2557440" cy="2228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67480" y="1368360"/>
            <a:ext cx="2254320" cy="219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00000" y="4221000"/>
          <a:ext cx="7186680" cy="2386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4221000"/>
                    <a:ext cx="71866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84360" y="26028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0066"/>
                </a:solidFill>
                <a:latin typeface="Arial"/>
              </a:rPr>
              <a:t>Con pi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31:08Z</dcterms:created>
  <dc:creator>Facultad de Medicina</dc:creator>
  <dc:description/>
  <dc:language>en-US</dc:language>
  <cp:lastModifiedBy>Fac. de Medicina</cp:lastModifiedBy>
  <dcterms:modified xsi:type="dcterms:W3CDTF">2008-07-07T13:09:38Z</dcterms:modified>
  <cp:revision>26</cp:revision>
  <dc:subject/>
  <dc:title>Sin título de diapositiva</dc:title>
</cp:coreProperties>
</file>