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901-DC06-4D71-84EA-7A53EE85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F58-4E05-49BB-8FBB-70288F67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C4C-F528-4284-992D-200540B3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7DF-16EC-411C-B9E2-EED4261B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4702-0852-45A7-9973-1D367447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CBE0-F49F-4755-95B1-8BF5C84F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F3C8-EFAF-43B2-9E2A-C9B3EB4A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0AAF-F4F4-4B39-89F9-D2FAE053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C956-EEC4-4BF7-B228-81FBB09D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9B71-FF73-44EB-AE83-F73E1980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344B-CF4E-4FCC-BD86-C58F7B4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E31-F7A2-4630-9653-7FEF80F7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33CB-8BC4-4E28-8420-0432EC03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0990-3851-4646-BDC2-304E6B9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91A2-F8F7-4BF3-AEC8-40655D66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3827-5DA4-467A-8B6D-1C2CA904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0755-76D9-4C05-9F09-BFF593E7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172-DAEE-4C23-AD92-8807BAAF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239-3569-4207-B441-EDFC880C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4DB-0511-4E4E-B743-FCA19CD7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C26-E89C-49C5-9CBA-1CECDE92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002-1346-4061-8AAB-649A885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77C-ECFC-4CC2-833E-8205C0EA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8FE-33FF-4E5C-BB5D-09416C52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671-8760-425B-88FE-C40D65CED10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50ED-72E8-4B9E-8832-EF26C38B521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143000"/>
            <a:ext cx="86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743200"/>
            <a:ext cx="792468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DIDA DE LA  INDEPENDENCIA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143000"/>
            <a:ext cx="8610480" cy="71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. ESCALA USADA EN EL 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3. Moderada Asistencia o Ayud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 aporta mas del 50% y menos del  75% del esfuerzo necesario para hacer una tarea,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requiere  más que un ayudante o cont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2. Máxima Asistencia o Ayu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pone menos el de 50% del esfuerzo necesario para hacer una tarea, pero a lo menos  el 25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08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13372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. ESCALA USADA EN EL FIM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Ayuda o asistencia completa o tot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pone menos del 25% del esfuerzo necesario para hacer una tar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2600" y="2309760"/>
            <a:ext cx="3810240" cy="353052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untu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istrar el nº que mejor describa el nivel de fun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no puede ser comprobado, registrar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 muestra mayor funcionalidad en evaluación que en VD, indicar el nivel V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16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da nivel: Máximo 7, mínimo 1 (sens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tal máximo 126 – 1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spectos de Conciencia del Mundo Exterior (IS, RP y M): No hay acuerdo claro en su cuantificación, s/e  confiabilidad acep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s para el U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base: si se requiere o no la ayuda de otra perso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ñala la magnitud de la ayuda (tiempo/energí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dida de la discapacidad no de la defic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de lo que hace realmente la persona (independiente del Dg. o de las posibilida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existe el “no aplicabl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eñada para aplicación independiente de la especialidad. Puede dividirse entre ell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 de U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78 hrs. Después de admi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º evaluación basada en 24 a 72 horas precedentes (flexibilid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72 horas antes del al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guimiento: 80-180 días después del al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gistra puntaje que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mejor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describe lo que hace la person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general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e duda de puntaje registrar el más 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posición de elementos =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 de U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os ayudas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 blanco, no N/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asarse e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Tahoma"/>
              </a:rPr>
              <a:t>la mejor información dispon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i requiere supervisión no es independ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914400"/>
            <a:ext cx="861048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I.  EJEMPLO DE EVALUACIÓN DE  UNA TAREA CON EL FIM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C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Defini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Incluye el uso de utensilios para  cortar y llevar el alimento a la boca, masticando, y tragando, una vez que la comida esté preparada apropiad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I.  EJEMPLO DE EVALUACIÓN DE  UNA TAREA CON EL FIM 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cc"/>
                </a:solidFill>
                <a:latin typeface="Arial"/>
                <a:ea typeface="Arial"/>
              </a:rPr>
              <a:t>SIN  AYUDA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cc"/>
                </a:solidFill>
                <a:latin typeface="Arial"/>
                <a:ea typeface="Arial"/>
              </a:rPr>
              <a:t>7. Independencia comple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-- come de un plato, maneja todas las consistencias de alimento, y bebe de una taza o de un vaso con la comida presentada de la manera acostumbrada en una mesa o una bandeja. Utiliza una cuchara o un tenedor para llevar el alimento a la boca;  mastica y  traga el alimen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cc"/>
                </a:solidFill>
                <a:latin typeface="Arial"/>
                <a:ea typeface="Arial"/>
              </a:rPr>
              <a:t>6. Independencia modificad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-- requiere un dispositivo de asistencia o adaptación tal como una paja, cuchara-tenedor, cuchillo oscilante, requiere más que una cantidad de tiempo razonable para comer, o requiere consistencia modificada del alimento o alimento molido (papilla), o hay consideraciones de seguridad. Si se alimenta por   otros medios, tales como parenteral debido a  gastroctomía, entonces él  administra los implementos independientement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I.  EJEMPLO DE EVALUACIÓN DE  UNA TAREA CON EL FIM: </a:t>
            </a:r>
            <a:br>
              <a:rPr sz="2800"/>
            </a:b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Com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  <a:ea typeface="Arial"/>
              </a:rPr>
              <a:t>CON </a:t>
            </a: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AYUDANTE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5. Supervisión o asistido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quiere de supervisión (estar presente, dar instrucciones, o motivando) o AT (uso de órtesis o adaptaciones); o requiere a otra persona para abrir los envases, cortar la carne, poner la mantequilla al pan, o que vierta los líqui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4. Ayuda mínima  asistencia por contacto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el 75% o más de tareas de ali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3. Ayuda moderad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el 50% al 75% de tareas de ali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2. Ayuda máxim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el 25% al 50% de tareas de ali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9900cc"/>
                </a:solidFill>
                <a:latin typeface="Arial"/>
                <a:ea typeface="Arial"/>
              </a:rPr>
              <a:t>1. Ayuda total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menos del  25% de tareas de alimentación. O, el individuo no come  las comidas completamente  por vía oral, si se alimenta por  otros </a:t>
            </a:r>
            <a:r>
              <a:rPr b="1" i="1" lang="es-CL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edios, tales como alimentaciones parenterales no administra las técnicas por sí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8600" y="1143000"/>
            <a:ext cx="86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371600"/>
            <a:ext cx="883908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ACTERISTICAS GENERALES DEL 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ALA USADA EN  EL 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LER:  EVALUACION DE DESEMPEÑO US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25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1143000"/>
            <a:ext cx="86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91628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.  CARACTERISTICAS GENERALES DEL FI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645000"/>
            <a:ext cx="7391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. Hi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2. Instr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1.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983: Grupo de trabajo para el desarrollo de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“Conjunto de Datos Uniformizados para la Rehabilitación Médica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ecesidad de instrumento para documentar la SEVERIDAD  de la incapacidad y los progresos de la rehabil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un “conjunto de datos mínimos” válido, confiable, apropiado, de aplicación rápida, uniforme, independiente de las especialidades y apropiada para el uso clín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1.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btener datos  sobre características funcionales básicas para seguimiento inicio-post al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visión 36 métodos publicados y no publicados, seleccionando las más útiles y comu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ase piloto, experimentación e implantación desde 1984 (50 instituciones, EEUU), múltiples modificaciones, demostrando confiablidad y valide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la inicial 4 pu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2. El Instrumento: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Dimensiones y Nive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uidado person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idados de apariencia exter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añ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stido parte sup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estido parte inf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seo pers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ol de esfínte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trol ves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trol intesti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ransferencias (mov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ma, silla, silla de rue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w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K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ina o duc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como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min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sar escale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mpren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ciencia del Mundo Exter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teracción soc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olución de problemas de la vida dia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= 1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Niveles de Funcionalidad y Puntu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00cc"/>
                </a:solidFill>
                <a:uFillTx/>
                <a:latin typeface="Tahoma"/>
              </a:rPr>
              <a:t>INDEPEND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7.</a:t>
            </a: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Independencia Compl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Independencia M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59320" y="2017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DEPEND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A.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Dependencia Modifi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Vigilancia o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Ayuda con Contacto Mínimo 7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Ayuda Moderada 5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B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Dependencia Compl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.   Ayuda Máxima 2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yuda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1143000"/>
            <a:ext cx="861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066680"/>
            <a:ext cx="8534160" cy="81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9900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Independencia To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es necesario ayud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iza la tarea con 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tro de una cantidad de tiempo razonable,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 dispositivos, ayudas, o modificaciones de la tarea o amb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9900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Independencia Modific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es necesario algún ayudante,  p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ere  mas del  tiempo normal  para  hacer una tarea, 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ere de un dispositivo de asistencia o modificacion de la ta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. ESCALA USADA EN EL FIM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5. Supervisión o Preparación de los Med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cesita  solamente a alguien  cerca, o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cesita las órdenes o supervisión para ejecutar la tarea (sin contacto físic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4. Mínima asistencia por contacto o ayu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persona aporta el 75% o más del esfuerzo necesario para hacer la tar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20:29:45Z</dcterms:created>
  <dc:creator>Isaura Fagnilli</dc:creator>
  <dc:description/>
  <dc:language>en-US</dc:language>
  <cp:lastModifiedBy>Fac. de Medicina</cp:lastModifiedBy>
  <dcterms:modified xsi:type="dcterms:W3CDTF">2008-07-25T20:32:40Z</dcterms:modified>
  <cp:revision>74</cp:revision>
  <dc:subject/>
  <dc:title>PowerPoint Presentation</dc:title>
</cp:coreProperties>
</file>