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121-A96C-4F93-9029-0ECD362E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43D-9D84-4D38-9EAA-5BA4E799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F22C-3899-4880-AB80-6B926698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D4A5-064B-42EB-B0B5-63060F9C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163F-2A85-4F4E-901F-C817375C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3AB7-B4EF-409F-969B-B64BE087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56B1-D8EA-41F4-8984-FA62CF6A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C63B-233A-4449-AE77-C6388409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3645-503E-47F6-8AAC-39F2AECA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A7AF-14AE-4524-BB01-97EE90BF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A38E-4FD1-42AC-98B3-A51CD29B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EEAE-F37D-4061-8F0C-3327616A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DF41-FFFC-43B8-8B15-1CE13514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2ACD-F31D-4E8D-ABA1-0D9C4265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5844-4B41-4AB3-AAC9-B7640CFA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FAF9-E2B2-427E-8E57-BC055055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7B44-6200-406F-A2A9-50F4919A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9A22-9C59-4778-8D4C-D98DE88C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5A7-E2C1-4ED7-9D12-4A4EDFB4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09F0-8D9B-43CB-8E29-CF02A5E0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88C9-0BDB-426B-984B-54A85F74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2AD4-4A9E-4E8E-9DE1-DA03A7A2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AC59-E8D4-4688-A1DE-41FA5C07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2606-F8B8-4483-85AF-B0EA72D7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6F37-B3A0-4F6C-86A7-1F09BE431A9D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1D23-13D9-4AF1-9DD7-184AE442FF05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800" spc="-1" strike="noStrike">
                <a:solidFill>
                  <a:srgbClr val="999900"/>
                </a:solidFill>
                <a:latin typeface="Garamond"/>
              </a:rPr>
              <a:t>Semiología trastornos sensitivos.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L Castill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32000" y="12600"/>
            <a:ext cx="633564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193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8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6767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19080"/>
            <a:ext cx="7920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342440"/>
            <a:ext cx="88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l Sistema sens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de un punto de vista clínico la sensibilidad se divide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xterocepció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tacto, dolor y tempera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Propiocepció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sensaciones relacionadas con los músculos, articulaciones o la posi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Enterocepción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sensaciones viscer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Recepción a distanci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sensaciones de olfato, sonido, vista y gu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770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5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28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6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Estereognosi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Consiste en la capacidad de identificar objetos por palpació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Identificación de textura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Se da al paciente un trozo de papel, de tela, de madera o de metal y se le pide que identifique el tipo de material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Grafestesi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Esta prueba mide la capacidad de reconocer números trazados por un objeto sobre la palma de la ma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Extinción sensitiva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 Es una prueba que mide la percepción de dos estímulos a la vez en localización simétrica a ambos lados del cuerp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4249800" cy="3095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442764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42472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86040" cy="5038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41403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27280" y="549360"/>
            <a:ext cx="3960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8T17:35:19Z</dcterms:created>
  <dc:creator>José Luis Castillo</dc:creator>
  <dc:description/>
  <dc:language>en-US</dc:language>
  <cp:lastModifiedBy>Fac. de Medicina</cp:lastModifiedBy>
  <dcterms:modified xsi:type="dcterms:W3CDTF">2008-06-09T08:58:46Z</dcterms:modified>
  <cp:revision>15</cp:revision>
  <dc:subject/>
  <dc:title>Diapositiva 1</dc:title>
</cp:coreProperties>
</file>